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clap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05F-0D78-42E6-8816-1C48A8F8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5ED-4C1C-4447-A487-6174AA44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4DB-0F49-4C4F-B8E7-06EA1686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17A-8E35-4735-B664-68C4DDC0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ADD-F5F0-438C-8B8B-F59BF53E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9E1-7D5A-4B58-859E-39E02A27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505-A30E-490A-B32A-CBC98B33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02B-45AD-49CA-BD42-FCE2D0A6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7E6-347E-4C80-8FF5-5342D496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D01-6EEC-4C78-A8D4-52123CC3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A51-C511-45D8-B89F-D064FE0F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A57-E720-4459-998A-59D3FAD0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A086-B170-40CA-9F7A-E611FF4E8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456120" y="1028880"/>
            <a:ext cx="743400" cy="742320"/>
            <a:chOff x="-456120" y="1028880"/>
            <a:chExt cx="743400" cy="742320"/>
          </a:xfrm>
        </p:grpSpPr>
        <p:grpSp>
          <p:nvGrpSpPr>
            <p:cNvPr id="42" name=""/>
            <p:cNvGrpSpPr/>
            <p:nvPr/>
          </p:nvGrpSpPr>
          <p:grpSpPr>
            <a:xfrm>
              <a:off x="-456120" y="1028880"/>
              <a:ext cx="743400" cy="739080"/>
              <a:chOff x="-456120" y="1028880"/>
              <a:chExt cx="743400" cy="739080"/>
            </a:xfrm>
          </p:grpSpPr>
          <p:sp>
            <p:nvSpPr>
              <p:cNvPr id="43" name=""/>
              <p:cNvSpPr/>
              <p:nvPr/>
            </p:nvSpPr>
            <p:spPr>
              <a:xfrm>
                <a:off x="-207720" y="10288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6186800">
                <a:off x="-207000" y="10270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>
              <a:off x="-20808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-456120" y="1275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60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9240" y="1522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-208080" y="1028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60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0808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-20808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-456840" y="5967360"/>
            <a:ext cx="744120" cy="740160"/>
            <a:chOff x="-456840" y="5967360"/>
            <a:chExt cx="744120" cy="740160"/>
          </a:xfrm>
        </p:grpSpPr>
        <p:grpSp>
          <p:nvGrpSpPr>
            <p:cNvPr id="54" name=""/>
            <p:cNvGrpSpPr/>
            <p:nvPr/>
          </p:nvGrpSpPr>
          <p:grpSpPr>
            <a:xfrm>
              <a:off x="-456840" y="5967360"/>
              <a:ext cx="740880" cy="740160"/>
              <a:chOff x="-456840" y="5967360"/>
              <a:chExt cx="740880" cy="740160"/>
            </a:xfrm>
          </p:grpSpPr>
          <p:sp>
            <p:nvSpPr>
              <p:cNvPr id="55" name=""/>
              <p:cNvSpPr/>
              <p:nvPr/>
            </p:nvSpPr>
            <p:spPr>
              <a:xfrm rot="16200000">
                <a:off x="-209160" y="59666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786800">
                <a:off x="-209160" y="59677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37440" y="64605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209520" y="6460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440" y="6213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440" y="5967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-45684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-456840" y="6213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56840" y="6460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440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524960" y="784080"/>
            <a:ext cx="743040" cy="742680"/>
            <a:chOff x="1524960" y="784080"/>
            <a:chExt cx="743040" cy="742680"/>
          </a:xfrm>
        </p:grpSpPr>
        <p:grpSp>
          <p:nvGrpSpPr>
            <p:cNvPr id="66" name=""/>
            <p:cNvGrpSpPr/>
            <p:nvPr/>
          </p:nvGrpSpPr>
          <p:grpSpPr>
            <a:xfrm>
              <a:off x="1524960" y="784080"/>
              <a:ext cx="743040" cy="739440"/>
              <a:chOff x="1524960" y="784080"/>
              <a:chExt cx="743040" cy="739440"/>
            </a:xfrm>
          </p:grpSpPr>
          <p:sp>
            <p:nvSpPr>
              <p:cNvPr id="67" name=""/>
              <p:cNvSpPr/>
              <p:nvPr/>
            </p:nvSpPr>
            <p:spPr>
              <a:xfrm>
                <a:off x="1773360" y="7840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186800">
                <a:off x="1773360" y="78264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772640" y="1277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525680" y="10310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20680" y="1277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20680" y="12772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772640" y="784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20680" y="784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72640" y="784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772640" y="1523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029600" y="1770120"/>
            <a:ext cx="743400" cy="742680"/>
            <a:chOff x="1029600" y="1770120"/>
            <a:chExt cx="743400" cy="742680"/>
          </a:xfrm>
        </p:grpSpPr>
        <p:grpSp>
          <p:nvGrpSpPr>
            <p:cNvPr id="78" name=""/>
            <p:cNvGrpSpPr/>
            <p:nvPr/>
          </p:nvGrpSpPr>
          <p:grpSpPr>
            <a:xfrm>
              <a:off x="1029600" y="1770120"/>
              <a:ext cx="743400" cy="739440"/>
              <a:chOff x="1029600" y="1770120"/>
              <a:chExt cx="743400" cy="739440"/>
            </a:xfrm>
          </p:grpSpPr>
          <p:sp>
            <p:nvSpPr>
              <p:cNvPr id="79" name=""/>
              <p:cNvSpPr/>
              <p:nvPr/>
            </p:nvSpPr>
            <p:spPr>
              <a:xfrm>
                <a:off x="1278000" y="1770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6186800">
                <a:off x="1278000" y="1768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277640" y="2263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029960" y="2017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263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525320" y="2263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277640" y="1770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5680" y="1770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77640" y="1770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77640" y="2509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9600" y="42840"/>
            <a:ext cx="744120" cy="741600"/>
            <a:chOff x="39600" y="42840"/>
            <a:chExt cx="744120" cy="741600"/>
          </a:xfrm>
        </p:grpSpPr>
        <p:grpSp>
          <p:nvGrpSpPr>
            <p:cNvPr id="90" name=""/>
            <p:cNvGrpSpPr/>
            <p:nvPr/>
          </p:nvGrpSpPr>
          <p:grpSpPr>
            <a:xfrm>
              <a:off x="39600" y="42840"/>
              <a:ext cx="740880" cy="741600"/>
              <a:chOff x="39600" y="42840"/>
              <a:chExt cx="740880" cy="741600"/>
            </a:xfrm>
          </p:grpSpPr>
          <p:sp>
            <p:nvSpPr>
              <p:cNvPr id="91" name=""/>
              <p:cNvSpPr/>
              <p:nvPr/>
            </p:nvSpPr>
            <p:spPr>
              <a:xfrm rot="16200000">
                <a:off x="286560" y="42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0786800">
                <a:off x="286560" y="432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33880" y="537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6920" y="537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880" y="289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880" y="43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0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600" y="289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600" y="537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084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773360" y="2759040"/>
            <a:ext cx="745560" cy="741600"/>
            <a:chOff x="1773360" y="2759040"/>
            <a:chExt cx="745560" cy="741600"/>
          </a:xfrm>
        </p:grpSpPr>
        <p:grpSp>
          <p:nvGrpSpPr>
            <p:cNvPr id="102" name=""/>
            <p:cNvGrpSpPr/>
            <p:nvPr/>
          </p:nvGrpSpPr>
          <p:grpSpPr>
            <a:xfrm>
              <a:off x="1773360" y="2759040"/>
              <a:ext cx="742320" cy="741600"/>
              <a:chOff x="1773360" y="2759040"/>
              <a:chExt cx="742320" cy="741600"/>
            </a:xfrm>
          </p:grpSpPr>
          <p:sp>
            <p:nvSpPr>
              <p:cNvPr id="103" name=""/>
              <p:cNvSpPr/>
              <p:nvPr/>
            </p:nvSpPr>
            <p:spPr>
              <a:xfrm rot="16200000">
                <a:off x="2021040" y="27583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0786800">
                <a:off x="2021040" y="275940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268720" y="3253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21040" y="3253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68720" y="3006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8720" y="2759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3360" y="3006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73360" y="30060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73360" y="32533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6040" y="3006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78000" y="1276560"/>
            <a:ext cx="745560" cy="741960"/>
            <a:chOff x="1278000" y="1276560"/>
            <a:chExt cx="745560" cy="741960"/>
          </a:xfrm>
        </p:grpSpPr>
        <p:grpSp>
          <p:nvGrpSpPr>
            <p:cNvPr id="114" name=""/>
            <p:cNvGrpSpPr/>
            <p:nvPr/>
          </p:nvGrpSpPr>
          <p:grpSpPr>
            <a:xfrm>
              <a:off x="1278000" y="1276560"/>
              <a:ext cx="742320" cy="741960"/>
              <a:chOff x="1278000" y="1276560"/>
              <a:chExt cx="742320" cy="741960"/>
            </a:xfrm>
          </p:grpSpPr>
          <p:sp>
            <p:nvSpPr>
              <p:cNvPr id="115" name=""/>
              <p:cNvSpPr/>
              <p:nvPr/>
            </p:nvSpPr>
            <p:spPr>
              <a:xfrm rot="16200000">
                <a:off x="1525680" y="12758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0786800">
                <a:off x="1525680" y="12769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773360" y="1771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5680" y="1771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73360" y="1523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73360" y="1277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8000" y="15242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78000" y="1523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78000" y="1771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0680" y="15242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5680" y="-453600"/>
            <a:ext cx="745560" cy="741600"/>
            <a:chOff x="1525680" y="-453600"/>
            <a:chExt cx="745560" cy="741600"/>
          </a:xfrm>
        </p:grpSpPr>
        <p:grpSp>
          <p:nvGrpSpPr>
            <p:cNvPr id="126" name=""/>
            <p:cNvGrpSpPr/>
            <p:nvPr/>
          </p:nvGrpSpPr>
          <p:grpSpPr>
            <a:xfrm>
              <a:off x="1525680" y="-453600"/>
              <a:ext cx="742320" cy="741600"/>
              <a:chOff x="1525680" y="-453600"/>
              <a:chExt cx="742320" cy="741600"/>
            </a:xfrm>
          </p:grpSpPr>
          <p:sp>
            <p:nvSpPr>
              <p:cNvPr id="127" name=""/>
              <p:cNvSpPr/>
              <p:nvPr/>
            </p:nvSpPr>
            <p:spPr>
              <a:xfrm rot="16200000">
                <a:off x="1773360" y="-4543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0786800">
                <a:off x="1774080" y="-45288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021040" y="40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4080" y="403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21040" y="-20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21040" y="-453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6040" y="-2070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5680" y="-2070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5680" y="403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68360" y="-206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208080" y="1770120"/>
            <a:ext cx="744120" cy="741600"/>
            <a:chOff x="-208080" y="1770120"/>
            <a:chExt cx="744120" cy="741600"/>
          </a:xfrm>
        </p:grpSpPr>
        <p:grpSp>
          <p:nvGrpSpPr>
            <p:cNvPr id="138" name=""/>
            <p:cNvGrpSpPr/>
            <p:nvPr/>
          </p:nvGrpSpPr>
          <p:grpSpPr>
            <a:xfrm>
              <a:off x="-208080" y="1770120"/>
              <a:ext cx="740880" cy="741600"/>
              <a:chOff x="-208080" y="1770120"/>
              <a:chExt cx="740880" cy="741600"/>
            </a:xfrm>
          </p:grpSpPr>
          <p:sp>
            <p:nvSpPr>
              <p:cNvPr id="139" name=""/>
              <p:cNvSpPr/>
              <p:nvPr/>
            </p:nvSpPr>
            <p:spPr>
              <a:xfrm rot="16200000">
                <a:off x="38880" y="17701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0786800">
                <a:off x="38880" y="17704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86200" y="2264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240" y="2264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6200" y="20170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6200" y="1770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20808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-208080" y="2017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-208080" y="2264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16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34240" y="287280"/>
            <a:ext cx="743400" cy="742680"/>
            <a:chOff x="534240" y="287280"/>
            <a:chExt cx="743400" cy="742680"/>
          </a:xfrm>
        </p:grpSpPr>
        <p:grpSp>
          <p:nvGrpSpPr>
            <p:cNvPr id="150" name=""/>
            <p:cNvGrpSpPr/>
            <p:nvPr/>
          </p:nvGrpSpPr>
          <p:grpSpPr>
            <a:xfrm>
              <a:off x="534240" y="287280"/>
              <a:ext cx="743400" cy="739440"/>
              <a:chOff x="534240" y="287280"/>
              <a:chExt cx="743400" cy="73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782640" y="2872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6186800">
                <a:off x="782640" y="2858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82280" y="7804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34600" y="534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30320" y="7804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029960" y="780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82280" y="287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30320" y="2872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2280" y="2872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82280" y="1027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81920" y="1028880"/>
            <a:ext cx="743400" cy="742320"/>
            <a:chOff x="781920" y="1028880"/>
            <a:chExt cx="743400" cy="742320"/>
          </a:xfrm>
        </p:grpSpPr>
        <p:grpSp>
          <p:nvGrpSpPr>
            <p:cNvPr id="162" name=""/>
            <p:cNvGrpSpPr/>
            <p:nvPr/>
          </p:nvGrpSpPr>
          <p:grpSpPr>
            <a:xfrm>
              <a:off x="781920" y="1028880"/>
              <a:ext cx="743400" cy="739080"/>
              <a:chOff x="781920" y="1028880"/>
              <a:chExt cx="743400" cy="739080"/>
            </a:xfrm>
          </p:grpSpPr>
          <p:sp>
            <p:nvSpPr>
              <p:cNvPr id="163" name=""/>
              <p:cNvSpPr/>
              <p:nvPr/>
            </p:nvSpPr>
            <p:spPr>
              <a:xfrm>
                <a:off x="1030320" y="10288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186800">
                <a:off x="1030680" y="102672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02996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82280" y="1275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7800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277640" y="1522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029960" y="1028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7800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2996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02996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030320" y="536400"/>
            <a:ext cx="745560" cy="740160"/>
            <a:chOff x="1030320" y="536400"/>
            <a:chExt cx="745560" cy="740160"/>
          </a:xfrm>
        </p:grpSpPr>
        <p:grpSp>
          <p:nvGrpSpPr>
            <p:cNvPr id="174" name=""/>
            <p:cNvGrpSpPr/>
            <p:nvPr/>
          </p:nvGrpSpPr>
          <p:grpSpPr>
            <a:xfrm>
              <a:off x="1030320" y="536400"/>
              <a:ext cx="742320" cy="740160"/>
              <a:chOff x="1030320" y="536400"/>
              <a:chExt cx="742320" cy="740160"/>
            </a:xfrm>
          </p:grpSpPr>
          <p:sp>
            <p:nvSpPr>
              <p:cNvPr id="175" name=""/>
              <p:cNvSpPr/>
              <p:nvPr/>
            </p:nvSpPr>
            <p:spPr>
              <a:xfrm rot="16200000">
                <a:off x="1278360" y="5349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786800">
                <a:off x="1278000" y="53676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1525680" y="1029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78000" y="10296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5680" y="7826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25680" y="5364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30320" y="783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30320" y="7826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30320" y="10296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73000" y="783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7280" y="784440"/>
            <a:ext cx="744120" cy="741960"/>
            <a:chOff x="287280" y="784440"/>
            <a:chExt cx="744120" cy="741960"/>
          </a:xfrm>
        </p:grpSpPr>
        <p:grpSp>
          <p:nvGrpSpPr>
            <p:cNvPr id="186" name=""/>
            <p:cNvGrpSpPr/>
            <p:nvPr/>
          </p:nvGrpSpPr>
          <p:grpSpPr>
            <a:xfrm>
              <a:off x="287280" y="784440"/>
              <a:ext cx="740880" cy="741960"/>
              <a:chOff x="287280" y="784440"/>
              <a:chExt cx="740880" cy="741960"/>
            </a:xfrm>
          </p:grpSpPr>
          <p:sp>
            <p:nvSpPr>
              <p:cNvPr id="187" name=""/>
              <p:cNvSpPr/>
              <p:nvPr/>
            </p:nvSpPr>
            <p:spPr>
              <a:xfrm rot="16200000">
                <a:off x="534240" y="7844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786800">
                <a:off x="534240" y="784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781560" y="12790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4600" y="1279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1560" y="1031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1560" y="785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728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7280" y="1031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7280" y="1279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2852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8880" y="1276200"/>
            <a:ext cx="743400" cy="742680"/>
            <a:chOff x="38880" y="1276200"/>
            <a:chExt cx="743400" cy="742680"/>
          </a:xfrm>
        </p:grpSpPr>
        <p:grpSp>
          <p:nvGrpSpPr>
            <p:cNvPr id="198" name=""/>
            <p:cNvGrpSpPr/>
            <p:nvPr/>
          </p:nvGrpSpPr>
          <p:grpSpPr>
            <a:xfrm>
              <a:off x="38880" y="1276200"/>
              <a:ext cx="743400" cy="739440"/>
              <a:chOff x="38880" y="1276200"/>
              <a:chExt cx="743400" cy="739440"/>
            </a:xfrm>
          </p:grpSpPr>
          <p:sp>
            <p:nvSpPr>
              <p:cNvPr id="199" name=""/>
              <p:cNvSpPr/>
              <p:nvPr/>
            </p:nvSpPr>
            <p:spPr>
              <a:xfrm>
                <a:off x="287280" y="12762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186800">
                <a:off x="287280" y="12747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8692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9240" y="15231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496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34600" y="1769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86920" y="1276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496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692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86920" y="2016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34960" y="1526040"/>
            <a:ext cx="744120" cy="736920"/>
            <a:chOff x="534960" y="1526040"/>
            <a:chExt cx="744120" cy="736920"/>
          </a:xfrm>
        </p:grpSpPr>
        <p:grpSp>
          <p:nvGrpSpPr>
            <p:cNvPr id="210" name=""/>
            <p:cNvGrpSpPr/>
            <p:nvPr/>
          </p:nvGrpSpPr>
          <p:grpSpPr>
            <a:xfrm>
              <a:off x="534960" y="1526040"/>
              <a:ext cx="740880" cy="736920"/>
              <a:chOff x="534960" y="1526040"/>
              <a:chExt cx="740880" cy="736920"/>
            </a:xfrm>
          </p:grpSpPr>
          <p:sp>
            <p:nvSpPr>
              <p:cNvPr id="211" name=""/>
              <p:cNvSpPr/>
              <p:nvPr/>
            </p:nvSpPr>
            <p:spPr>
              <a:xfrm rot="16200000">
                <a:off x="783000" y="1523880"/>
                <a:ext cx="2448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0786800">
                <a:off x="781920" y="1526400"/>
                <a:ext cx="246600" cy="73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029240" y="20170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2280" y="2017440"/>
              <a:ext cx="2160" cy="245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29240" y="1771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29240" y="1526400"/>
              <a:ext cx="2160" cy="245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4960" y="1771560"/>
              <a:ext cx="288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4960" y="1771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4960" y="2017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76200" y="1771560"/>
              <a:ext cx="288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256920" y="5967360"/>
            <a:ext cx="743400" cy="742680"/>
            <a:chOff x="3256920" y="5967360"/>
            <a:chExt cx="743400" cy="742680"/>
          </a:xfrm>
        </p:grpSpPr>
        <p:grpSp>
          <p:nvGrpSpPr>
            <p:cNvPr id="222" name=""/>
            <p:cNvGrpSpPr/>
            <p:nvPr/>
          </p:nvGrpSpPr>
          <p:grpSpPr>
            <a:xfrm>
              <a:off x="3256920" y="5967360"/>
              <a:ext cx="743400" cy="739440"/>
              <a:chOff x="3256920" y="5967360"/>
              <a:chExt cx="743400" cy="739440"/>
            </a:xfrm>
          </p:grpSpPr>
          <p:sp>
            <p:nvSpPr>
              <p:cNvPr id="223" name=""/>
              <p:cNvSpPr/>
              <p:nvPr/>
            </p:nvSpPr>
            <p:spPr>
              <a:xfrm>
                <a:off x="3505320" y="5967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6186800">
                <a:off x="3505320" y="59659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504960" y="6460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57280" y="6214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53000" y="6460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752640" y="6460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504960" y="5967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3000" y="5967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04960" y="5967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504960" y="6707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257640" y="-204840"/>
            <a:ext cx="747360" cy="741600"/>
            <a:chOff x="3257640" y="-204840"/>
            <a:chExt cx="747360" cy="741600"/>
          </a:xfrm>
        </p:grpSpPr>
        <p:grpSp>
          <p:nvGrpSpPr>
            <p:cNvPr id="234" name=""/>
            <p:cNvGrpSpPr/>
            <p:nvPr/>
          </p:nvGrpSpPr>
          <p:grpSpPr>
            <a:xfrm>
              <a:off x="3257640" y="-204840"/>
              <a:ext cx="744120" cy="741600"/>
              <a:chOff x="3257640" y="-204840"/>
              <a:chExt cx="744120" cy="741600"/>
            </a:xfrm>
          </p:grpSpPr>
          <p:sp>
            <p:nvSpPr>
              <p:cNvPr id="235" name=""/>
              <p:cNvSpPr/>
              <p:nvPr/>
            </p:nvSpPr>
            <p:spPr>
              <a:xfrm rot="16200000">
                <a:off x="3506400" y="-205920"/>
                <a:ext cx="24660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0786800">
                <a:off x="3506040" y="-204120"/>
                <a:ext cx="24768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754080" y="2894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06040" y="289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54080" y="421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54080" y="-2041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58000" y="4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57640" y="4212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57640" y="28944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02120" y="42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86560" y="2017800"/>
            <a:ext cx="743400" cy="742680"/>
            <a:chOff x="286560" y="2017800"/>
            <a:chExt cx="743400" cy="742680"/>
          </a:xfrm>
        </p:grpSpPr>
        <p:grpSp>
          <p:nvGrpSpPr>
            <p:cNvPr id="246" name=""/>
            <p:cNvGrpSpPr/>
            <p:nvPr/>
          </p:nvGrpSpPr>
          <p:grpSpPr>
            <a:xfrm>
              <a:off x="286560" y="2017800"/>
              <a:ext cx="743400" cy="739440"/>
              <a:chOff x="286560" y="2017800"/>
              <a:chExt cx="743400" cy="739440"/>
            </a:xfrm>
          </p:grpSpPr>
          <p:sp>
            <p:nvSpPr>
              <p:cNvPr id="247" name=""/>
              <p:cNvSpPr/>
              <p:nvPr/>
            </p:nvSpPr>
            <p:spPr>
              <a:xfrm>
                <a:off x="534960" y="20178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186800">
                <a:off x="534960" y="20163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34600" y="2511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86920" y="2264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2640" y="2511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82280" y="25110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4600" y="20178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2640" y="2017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4600" y="2017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4600" y="27576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772640" y="1525680"/>
            <a:ext cx="743040" cy="742320"/>
            <a:chOff x="1772640" y="1525680"/>
            <a:chExt cx="743040" cy="742320"/>
          </a:xfrm>
        </p:grpSpPr>
        <p:grpSp>
          <p:nvGrpSpPr>
            <p:cNvPr id="258" name=""/>
            <p:cNvGrpSpPr/>
            <p:nvPr/>
          </p:nvGrpSpPr>
          <p:grpSpPr>
            <a:xfrm>
              <a:off x="1772640" y="1525680"/>
              <a:ext cx="743040" cy="739080"/>
              <a:chOff x="1772640" y="1525680"/>
              <a:chExt cx="743040" cy="739080"/>
            </a:xfrm>
          </p:grpSpPr>
          <p:sp>
            <p:nvSpPr>
              <p:cNvPr id="259" name=""/>
              <p:cNvSpPr/>
              <p:nvPr/>
            </p:nvSpPr>
            <p:spPr>
              <a:xfrm>
                <a:off x="2021040" y="15256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186800">
                <a:off x="2021040" y="1523880"/>
                <a:ext cx="24588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2020320" y="2018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773360" y="17722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8360" y="2018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268360" y="20188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20320" y="1525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68360" y="15256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20320" y="15256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020320" y="2265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82640" y="2262240"/>
            <a:ext cx="745920" cy="741600"/>
            <a:chOff x="782640" y="2262240"/>
            <a:chExt cx="745920" cy="741600"/>
          </a:xfrm>
        </p:grpSpPr>
        <p:grpSp>
          <p:nvGrpSpPr>
            <p:cNvPr id="270" name=""/>
            <p:cNvGrpSpPr/>
            <p:nvPr/>
          </p:nvGrpSpPr>
          <p:grpSpPr>
            <a:xfrm>
              <a:off x="782640" y="2262240"/>
              <a:ext cx="742680" cy="741600"/>
              <a:chOff x="782640" y="2262240"/>
              <a:chExt cx="742680" cy="741600"/>
            </a:xfrm>
          </p:grpSpPr>
          <p:sp>
            <p:nvSpPr>
              <p:cNvPr id="271" name=""/>
              <p:cNvSpPr/>
              <p:nvPr/>
            </p:nvSpPr>
            <p:spPr>
              <a:xfrm rot="16200000">
                <a:off x="1030680" y="22615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0786800">
                <a:off x="1029960" y="22626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278000" y="2756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30680" y="2756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8000" y="2509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78000" y="2262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2640" y="25095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2640" y="25092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2640" y="27565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25680" y="25095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34240" y="2759040"/>
            <a:ext cx="743400" cy="742680"/>
            <a:chOff x="534240" y="2759040"/>
            <a:chExt cx="743400" cy="742680"/>
          </a:xfrm>
        </p:grpSpPr>
        <p:grpSp>
          <p:nvGrpSpPr>
            <p:cNvPr id="282" name=""/>
            <p:cNvGrpSpPr/>
            <p:nvPr/>
          </p:nvGrpSpPr>
          <p:grpSpPr>
            <a:xfrm>
              <a:off x="534240" y="2759040"/>
              <a:ext cx="743400" cy="739440"/>
              <a:chOff x="534240" y="2759040"/>
              <a:chExt cx="743400" cy="739440"/>
            </a:xfrm>
          </p:grpSpPr>
          <p:sp>
            <p:nvSpPr>
              <p:cNvPr id="283" name=""/>
              <p:cNvSpPr/>
              <p:nvPr/>
            </p:nvSpPr>
            <p:spPr>
              <a:xfrm>
                <a:off x="782640" y="27590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6186800">
                <a:off x="782640" y="27576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782280" y="3252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34600" y="30060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30320" y="3252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029960" y="3252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82280" y="2759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30320" y="2759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2280" y="2759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82280" y="3498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525680" y="2017800"/>
            <a:ext cx="745560" cy="741600"/>
            <a:chOff x="1525680" y="2017800"/>
            <a:chExt cx="745560" cy="741600"/>
          </a:xfrm>
        </p:grpSpPr>
        <p:grpSp>
          <p:nvGrpSpPr>
            <p:cNvPr id="294" name=""/>
            <p:cNvGrpSpPr/>
            <p:nvPr/>
          </p:nvGrpSpPr>
          <p:grpSpPr>
            <a:xfrm>
              <a:off x="1525680" y="2017800"/>
              <a:ext cx="742320" cy="741600"/>
              <a:chOff x="1525680" y="2017800"/>
              <a:chExt cx="742320" cy="741600"/>
            </a:xfrm>
          </p:grpSpPr>
          <p:sp>
            <p:nvSpPr>
              <p:cNvPr id="295" name=""/>
              <p:cNvSpPr/>
              <p:nvPr/>
            </p:nvSpPr>
            <p:spPr>
              <a:xfrm rot="16200000">
                <a:off x="1773360" y="20170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0786800">
                <a:off x="1773360" y="201816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021040" y="2512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73360" y="2512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21040" y="2264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21040" y="2018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25680" y="2265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5680" y="22647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25680" y="2512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68360" y="2265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030320" y="3003840"/>
            <a:ext cx="745560" cy="741960"/>
            <a:chOff x="1030320" y="3003840"/>
            <a:chExt cx="745560" cy="741960"/>
          </a:xfrm>
        </p:grpSpPr>
        <p:grpSp>
          <p:nvGrpSpPr>
            <p:cNvPr id="306" name=""/>
            <p:cNvGrpSpPr/>
            <p:nvPr/>
          </p:nvGrpSpPr>
          <p:grpSpPr>
            <a:xfrm>
              <a:off x="1030320" y="3003840"/>
              <a:ext cx="742320" cy="741960"/>
              <a:chOff x="1030320" y="3003840"/>
              <a:chExt cx="742320" cy="7419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1278000" y="30031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0786800">
                <a:off x="1278000" y="30042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1525680" y="3498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78000" y="3498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5680" y="3250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5680" y="3004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30320" y="3251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30320" y="32508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30320" y="34984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73000" y="3251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277280" y="2511360"/>
            <a:ext cx="743400" cy="742680"/>
            <a:chOff x="1277280" y="2511360"/>
            <a:chExt cx="743400" cy="742680"/>
          </a:xfrm>
        </p:grpSpPr>
        <p:grpSp>
          <p:nvGrpSpPr>
            <p:cNvPr id="318" name=""/>
            <p:cNvGrpSpPr/>
            <p:nvPr/>
          </p:nvGrpSpPr>
          <p:grpSpPr>
            <a:xfrm>
              <a:off x="1277280" y="2511360"/>
              <a:ext cx="743400" cy="739440"/>
              <a:chOff x="1277280" y="2511360"/>
              <a:chExt cx="743400" cy="739440"/>
            </a:xfrm>
          </p:grpSpPr>
          <p:sp>
            <p:nvSpPr>
              <p:cNvPr id="319" name=""/>
              <p:cNvSpPr/>
              <p:nvPr/>
            </p:nvSpPr>
            <p:spPr>
              <a:xfrm>
                <a:off x="1525680" y="2511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186800">
                <a:off x="1525680" y="25099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525320" y="3004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277640" y="2758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3360" y="3004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773000" y="3004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525320" y="2511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73360" y="2511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25320" y="2511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525320" y="3251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524960" y="3251160"/>
            <a:ext cx="743040" cy="742680"/>
            <a:chOff x="1524960" y="3251160"/>
            <a:chExt cx="743040" cy="742680"/>
          </a:xfrm>
        </p:grpSpPr>
        <p:grpSp>
          <p:nvGrpSpPr>
            <p:cNvPr id="330" name=""/>
            <p:cNvGrpSpPr/>
            <p:nvPr/>
          </p:nvGrpSpPr>
          <p:grpSpPr>
            <a:xfrm>
              <a:off x="1524960" y="3251160"/>
              <a:ext cx="743040" cy="739440"/>
              <a:chOff x="1524960" y="3251160"/>
              <a:chExt cx="743040" cy="739440"/>
            </a:xfrm>
          </p:grpSpPr>
          <p:sp>
            <p:nvSpPr>
              <p:cNvPr id="331" name=""/>
              <p:cNvSpPr/>
              <p:nvPr/>
            </p:nvSpPr>
            <p:spPr>
              <a:xfrm>
                <a:off x="1773360" y="32511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186800">
                <a:off x="1773360" y="324972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1772640" y="37443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525680" y="34981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20680" y="37443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020680" y="374436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772640" y="3251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20680" y="32511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72640" y="32511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772640" y="39909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020320" y="2262240"/>
            <a:ext cx="743040" cy="745560"/>
            <a:chOff x="2020320" y="2262240"/>
            <a:chExt cx="743040" cy="745560"/>
          </a:xfrm>
        </p:grpSpPr>
        <p:grpSp>
          <p:nvGrpSpPr>
            <p:cNvPr id="342" name=""/>
            <p:cNvGrpSpPr/>
            <p:nvPr/>
          </p:nvGrpSpPr>
          <p:grpSpPr>
            <a:xfrm>
              <a:off x="2020320" y="2262240"/>
              <a:ext cx="743040" cy="742320"/>
              <a:chOff x="2020320" y="2262240"/>
              <a:chExt cx="743040" cy="742320"/>
            </a:xfrm>
          </p:grpSpPr>
          <p:sp>
            <p:nvSpPr>
              <p:cNvPr id="343" name=""/>
              <p:cNvSpPr/>
              <p:nvPr/>
            </p:nvSpPr>
            <p:spPr>
              <a:xfrm>
                <a:off x="2268720" y="226224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6186800">
                <a:off x="2268360" y="2262240"/>
                <a:ext cx="24696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26800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021040" y="25099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1604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516040" y="27576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268000" y="2262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1604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6800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268000" y="3004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021040" y="1028880"/>
            <a:ext cx="745560" cy="741600"/>
            <a:chOff x="2021040" y="1028880"/>
            <a:chExt cx="745560" cy="741600"/>
          </a:xfrm>
        </p:grpSpPr>
        <p:grpSp>
          <p:nvGrpSpPr>
            <p:cNvPr id="354" name=""/>
            <p:cNvGrpSpPr/>
            <p:nvPr/>
          </p:nvGrpSpPr>
          <p:grpSpPr>
            <a:xfrm>
              <a:off x="2021040" y="1028880"/>
              <a:ext cx="742320" cy="741600"/>
              <a:chOff x="2021040" y="1028880"/>
              <a:chExt cx="742320" cy="741600"/>
            </a:xfrm>
          </p:grpSpPr>
          <p:sp>
            <p:nvSpPr>
              <p:cNvPr id="355" name=""/>
              <p:cNvSpPr/>
              <p:nvPr/>
            </p:nvSpPr>
            <p:spPr>
              <a:xfrm rot="16200000">
                <a:off x="2268720" y="102816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0786800">
                <a:off x="2268720" y="102924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516400" y="1523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68720" y="1523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16400" y="1275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6400" y="10296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21040" y="1276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21040" y="12758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21040" y="15231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3720" y="1276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267640" y="536400"/>
            <a:ext cx="741960" cy="742680"/>
            <a:chOff x="2267640" y="536400"/>
            <a:chExt cx="741960" cy="742680"/>
          </a:xfrm>
        </p:grpSpPr>
        <p:grpSp>
          <p:nvGrpSpPr>
            <p:cNvPr id="366" name=""/>
            <p:cNvGrpSpPr/>
            <p:nvPr/>
          </p:nvGrpSpPr>
          <p:grpSpPr>
            <a:xfrm>
              <a:off x="2267640" y="536400"/>
              <a:ext cx="741960" cy="739440"/>
              <a:chOff x="2267640" y="536400"/>
              <a:chExt cx="741960" cy="739440"/>
            </a:xfrm>
          </p:grpSpPr>
          <p:sp>
            <p:nvSpPr>
              <p:cNvPr id="367" name=""/>
              <p:cNvSpPr/>
              <p:nvPr/>
            </p:nvSpPr>
            <p:spPr>
              <a:xfrm>
                <a:off x="2515680" y="5364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6186800">
                <a:off x="2515320" y="535680"/>
                <a:ext cx="24624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51496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268000" y="7833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6264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762280" y="10296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514600" y="5364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6264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1496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514600" y="12762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516040" y="2511360"/>
            <a:ext cx="745920" cy="740160"/>
            <a:chOff x="2516040" y="2511360"/>
            <a:chExt cx="745920" cy="740160"/>
          </a:xfrm>
        </p:grpSpPr>
        <p:grpSp>
          <p:nvGrpSpPr>
            <p:cNvPr id="378" name=""/>
            <p:cNvGrpSpPr/>
            <p:nvPr/>
          </p:nvGrpSpPr>
          <p:grpSpPr>
            <a:xfrm>
              <a:off x="2516040" y="2511360"/>
              <a:ext cx="742680" cy="740160"/>
              <a:chOff x="2516040" y="2511360"/>
              <a:chExt cx="742680" cy="740160"/>
            </a:xfrm>
          </p:grpSpPr>
          <p:sp>
            <p:nvSpPr>
              <p:cNvPr id="379" name=""/>
              <p:cNvSpPr/>
              <p:nvPr/>
            </p:nvSpPr>
            <p:spPr>
              <a:xfrm rot="16200000">
                <a:off x="2764440" y="250992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0786800">
                <a:off x="2763360" y="251172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011400" y="3004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64080" y="3004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11400" y="2757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11400" y="2511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1604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6040" y="27576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6040" y="30045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5908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67640" y="3003480"/>
            <a:ext cx="741960" cy="744120"/>
            <a:chOff x="2267640" y="3003480"/>
            <a:chExt cx="741960" cy="744120"/>
          </a:xfrm>
        </p:grpSpPr>
        <p:grpSp>
          <p:nvGrpSpPr>
            <p:cNvPr id="390" name=""/>
            <p:cNvGrpSpPr/>
            <p:nvPr/>
          </p:nvGrpSpPr>
          <p:grpSpPr>
            <a:xfrm>
              <a:off x="2267640" y="3003480"/>
              <a:ext cx="741960" cy="740880"/>
              <a:chOff x="2267640" y="3003480"/>
              <a:chExt cx="741960" cy="740880"/>
            </a:xfrm>
          </p:grpSpPr>
          <p:sp>
            <p:nvSpPr>
              <p:cNvPr id="391" name=""/>
              <p:cNvSpPr/>
              <p:nvPr/>
            </p:nvSpPr>
            <p:spPr>
              <a:xfrm>
                <a:off x="2515680" y="30034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186800">
                <a:off x="2515320" y="30031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51496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268000" y="3250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6264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762280" y="34977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514600" y="30034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6264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1496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514600" y="37447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021040" y="3500280"/>
            <a:ext cx="745560" cy="738720"/>
            <a:chOff x="2021040" y="3500280"/>
            <a:chExt cx="745560" cy="738720"/>
          </a:xfrm>
        </p:grpSpPr>
        <p:grpSp>
          <p:nvGrpSpPr>
            <p:cNvPr id="402" name=""/>
            <p:cNvGrpSpPr/>
            <p:nvPr/>
          </p:nvGrpSpPr>
          <p:grpSpPr>
            <a:xfrm>
              <a:off x="2021040" y="3500280"/>
              <a:ext cx="742320" cy="738720"/>
              <a:chOff x="2021040" y="3500280"/>
              <a:chExt cx="742320" cy="738720"/>
            </a:xfrm>
          </p:grpSpPr>
          <p:sp>
            <p:nvSpPr>
              <p:cNvPr id="403" name=""/>
              <p:cNvSpPr/>
              <p:nvPr/>
            </p:nvSpPr>
            <p:spPr>
              <a:xfrm rot="16200000">
                <a:off x="2269440" y="3498120"/>
                <a:ext cx="24552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0786800">
                <a:off x="2268720" y="3500640"/>
                <a:ext cx="246960" cy="737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2516400" y="3992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68720" y="399276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16400" y="3746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16400" y="350064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2104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1040" y="37461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21040" y="39927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6372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268360" y="1770120"/>
            <a:ext cx="745920" cy="741600"/>
            <a:chOff x="2268360" y="1770120"/>
            <a:chExt cx="745920" cy="741600"/>
          </a:xfrm>
        </p:grpSpPr>
        <p:grpSp>
          <p:nvGrpSpPr>
            <p:cNvPr id="414" name=""/>
            <p:cNvGrpSpPr/>
            <p:nvPr/>
          </p:nvGrpSpPr>
          <p:grpSpPr>
            <a:xfrm>
              <a:off x="2268360" y="1770120"/>
              <a:ext cx="742680" cy="741600"/>
              <a:chOff x="2268360" y="1770120"/>
              <a:chExt cx="742680" cy="741600"/>
            </a:xfrm>
          </p:grpSpPr>
          <p:sp>
            <p:nvSpPr>
              <p:cNvPr id="415" name=""/>
              <p:cNvSpPr/>
              <p:nvPr/>
            </p:nvSpPr>
            <p:spPr>
              <a:xfrm rot="16200000">
                <a:off x="2516400" y="17694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0786800">
                <a:off x="2515680" y="17704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2763720" y="2264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16400" y="2264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63720" y="2017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63720" y="1770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6836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68360" y="20170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68360" y="22644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1140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763720" y="784440"/>
            <a:ext cx="745920" cy="741960"/>
            <a:chOff x="2763720" y="784440"/>
            <a:chExt cx="745920" cy="741960"/>
          </a:xfrm>
        </p:grpSpPr>
        <p:grpSp>
          <p:nvGrpSpPr>
            <p:cNvPr id="426" name=""/>
            <p:cNvGrpSpPr/>
            <p:nvPr/>
          </p:nvGrpSpPr>
          <p:grpSpPr>
            <a:xfrm>
              <a:off x="2763720" y="784440"/>
              <a:ext cx="742680" cy="741960"/>
              <a:chOff x="2763720" y="784440"/>
              <a:chExt cx="742680" cy="741960"/>
            </a:xfrm>
          </p:grpSpPr>
          <p:sp>
            <p:nvSpPr>
              <p:cNvPr id="427" name=""/>
              <p:cNvSpPr/>
              <p:nvPr/>
            </p:nvSpPr>
            <p:spPr>
              <a:xfrm rot="16200000">
                <a:off x="3011760" y="7837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0786800">
                <a:off x="3011040" y="784800"/>
                <a:ext cx="2473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3259080" y="1279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11760" y="1279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59080" y="1031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59080" y="785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6372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63720" y="10314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63720" y="12790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0676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515320" y="1276200"/>
            <a:ext cx="741960" cy="742680"/>
            <a:chOff x="2515320" y="1276200"/>
            <a:chExt cx="741960" cy="742680"/>
          </a:xfrm>
        </p:grpSpPr>
        <p:grpSp>
          <p:nvGrpSpPr>
            <p:cNvPr id="438" name=""/>
            <p:cNvGrpSpPr/>
            <p:nvPr/>
          </p:nvGrpSpPr>
          <p:grpSpPr>
            <a:xfrm>
              <a:off x="2515320" y="1276200"/>
              <a:ext cx="741960" cy="739440"/>
              <a:chOff x="2515320" y="1276200"/>
              <a:chExt cx="741960" cy="739440"/>
            </a:xfrm>
          </p:grpSpPr>
          <p:sp>
            <p:nvSpPr>
              <p:cNvPr id="439" name=""/>
              <p:cNvSpPr/>
              <p:nvPr/>
            </p:nvSpPr>
            <p:spPr>
              <a:xfrm>
                <a:off x="2763360" y="12762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6186800">
                <a:off x="2763000" y="1275480"/>
                <a:ext cx="24624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276264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515680" y="15231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1032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3009960" y="17694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762280" y="12762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1032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6264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762280" y="20160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515320" y="3745080"/>
            <a:ext cx="741960" cy="744120"/>
            <a:chOff x="2515320" y="3745080"/>
            <a:chExt cx="741960" cy="744120"/>
          </a:xfrm>
        </p:grpSpPr>
        <p:grpSp>
          <p:nvGrpSpPr>
            <p:cNvPr id="450" name=""/>
            <p:cNvGrpSpPr/>
            <p:nvPr/>
          </p:nvGrpSpPr>
          <p:grpSpPr>
            <a:xfrm>
              <a:off x="2515320" y="3745080"/>
              <a:ext cx="741960" cy="740880"/>
              <a:chOff x="2515320" y="3745080"/>
              <a:chExt cx="741960" cy="740880"/>
            </a:xfrm>
          </p:grpSpPr>
          <p:sp>
            <p:nvSpPr>
              <p:cNvPr id="451" name=""/>
              <p:cNvSpPr/>
              <p:nvPr/>
            </p:nvSpPr>
            <p:spPr>
              <a:xfrm>
                <a:off x="2763360" y="37450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6186800">
                <a:off x="2763000" y="37447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276264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515680" y="39924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1032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3009960" y="42393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2762280" y="37450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1032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6264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762280" y="44863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009240" y="2759040"/>
            <a:ext cx="743400" cy="742680"/>
            <a:chOff x="3009240" y="2759040"/>
            <a:chExt cx="743400" cy="742680"/>
          </a:xfrm>
        </p:grpSpPr>
        <p:grpSp>
          <p:nvGrpSpPr>
            <p:cNvPr id="462" name=""/>
            <p:cNvGrpSpPr/>
            <p:nvPr/>
          </p:nvGrpSpPr>
          <p:grpSpPr>
            <a:xfrm>
              <a:off x="3009240" y="2759040"/>
              <a:ext cx="743400" cy="739440"/>
              <a:chOff x="3009240" y="2759040"/>
              <a:chExt cx="743400" cy="739440"/>
            </a:xfrm>
          </p:grpSpPr>
          <p:sp>
            <p:nvSpPr>
              <p:cNvPr id="463" name=""/>
              <p:cNvSpPr/>
              <p:nvPr/>
            </p:nvSpPr>
            <p:spPr>
              <a:xfrm>
                <a:off x="3257640" y="27590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6186800">
                <a:off x="3257640" y="27576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257280" y="3252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009600" y="30060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05320" y="3252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504960" y="3252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257280" y="2759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05320" y="2759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7280" y="2759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257280" y="3498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763720" y="3251160"/>
            <a:ext cx="745920" cy="741600"/>
            <a:chOff x="2763720" y="3251160"/>
            <a:chExt cx="745920" cy="741600"/>
          </a:xfrm>
        </p:grpSpPr>
        <p:grpSp>
          <p:nvGrpSpPr>
            <p:cNvPr id="474" name=""/>
            <p:cNvGrpSpPr/>
            <p:nvPr/>
          </p:nvGrpSpPr>
          <p:grpSpPr>
            <a:xfrm>
              <a:off x="2763720" y="3251160"/>
              <a:ext cx="742680" cy="741600"/>
              <a:chOff x="2763720" y="3251160"/>
              <a:chExt cx="742680" cy="741600"/>
            </a:xfrm>
          </p:grpSpPr>
          <p:sp>
            <p:nvSpPr>
              <p:cNvPr id="475" name=""/>
              <p:cNvSpPr/>
              <p:nvPr/>
            </p:nvSpPr>
            <p:spPr>
              <a:xfrm rot="16200000">
                <a:off x="3011760" y="325044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0786800">
                <a:off x="3011040" y="32515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259080" y="374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11760" y="374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59080" y="3498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59080" y="3251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63720" y="349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63720" y="34981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63720" y="37454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06760" y="349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009960" y="1526040"/>
            <a:ext cx="747360" cy="736920"/>
            <a:chOff x="3009960" y="1526040"/>
            <a:chExt cx="747360" cy="736920"/>
          </a:xfrm>
        </p:grpSpPr>
        <p:grpSp>
          <p:nvGrpSpPr>
            <p:cNvPr id="486" name=""/>
            <p:cNvGrpSpPr/>
            <p:nvPr/>
          </p:nvGrpSpPr>
          <p:grpSpPr>
            <a:xfrm>
              <a:off x="3009960" y="1526040"/>
              <a:ext cx="744120" cy="736920"/>
              <a:chOff x="3009960" y="1526040"/>
              <a:chExt cx="744120" cy="736920"/>
            </a:xfrm>
          </p:grpSpPr>
          <p:sp>
            <p:nvSpPr>
              <p:cNvPr id="487" name=""/>
              <p:cNvSpPr/>
              <p:nvPr/>
            </p:nvSpPr>
            <p:spPr>
              <a:xfrm rot="16200000">
                <a:off x="3259440" y="1522080"/>
                <a:ext cx="24480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0786800">
                <a:off x="3258360" y="1526400"/>
                <a:ext cx="247680" cy="73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3506400" y="2017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58360" y="2017440"/>
              <a:ext cx="2160" cy="245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6400" y="1771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06400" y="1526400"/>
              <a:ext cx="2160" cy="245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09960" y="1771560"/>
              <a:ext cx="288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09960" y="177120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09960" y="201708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54440" y="1771560"/>
              <a:ext cx="288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763000" y="2017800"/>
            <a:ext cx="741960" cy="742680"/>
            <a:chOff x="2763000" y="2017800"/>
            <a:chExt cx="741960" cy="742680"/>
          </a:xfrm>
        </p:grpSpPr>
        <p:grpSp>
          <p:nvGrpSpPr>
            <p:cNvPr id="498" name=""/>
            <p:cNvGrpSpPr/>
            <p:nvPr/>
          </p:nvGrpSpPr>
          <p:grpSpPr>
            <a:xfrm>
              <a:off x="2763000" y="2017800"/>
              <a:ext cx="741960" cy="739440"/>
              <a:chOff x="2763000" y="2017800"/>
              <a:chExt cx="741960" cy="739440"/>
            </a:xfrm>
          </p:grpSpPr>
          <p:sp>
            <p:nvSpPr>
              <p:cNvPr id="499" name=""/>
              <p:cNvSpPr/>
              <p:nvPr/>
            </p:nvSpPr>
            <p:spPr>
              <a:xfrm>
                <a:off x="3011040" y="20178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6186800">
                <a:off x="3010680" y="2017080"/>
                <a:ext cx="24624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3010320" y="2511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763360" y="22647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58000" y="2511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3257640" y="25110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3009960" y="2017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58000" y="2017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10320" y="2017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3009960" y="2757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-209520" y="6707160"/>
            <a:ext cx="744120" cy="741600"/>
            <a:chOff x="-209520" y="6707160"/>
            <a:chExt cx="744120" cy="741600"/>
          </a:xfrm>
        </p:grpSpPr>
        <p:grpSp>
          <p:nvGrpSpPr>
            <p:cNvPr id="510" name=""/>
            <p:cNvGrpSpPr/>
            <p:nvPr/>
          </p:nvGrpSpPr>
          <p:grpSpPr>
            <a:xfrm>
              <a:off x="-209520" y="6707160"/>
              <a:ext cx="740880" cy="741600"/>
              <a:chOff x="-209520" y="6707160"/>
              <a:chExt cx="740880" cy="741600"/>
            </a:xfrm>
          </p:grpSpPr>
          <p:sp>
            <p:nvSpPr>
              <p:cNvPr id="511" name=""/>
              <p:cNvSpPr/>
              <p:nvPr/>
            </p:nvSpPr>
            <p:spPr>
              <a:xfrm rot="16200000">
                <a:off x="37440" y="6707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0786800">
                <a:off x="37440" y="67075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284760" y="7201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800" y="7201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4760" y="6954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84760" y="6707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-209520" y="6954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-209520" y="6954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-209520" y="7201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1720" y="6954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029600" y="6707160"/>
            <a:ext cx="743400" cy="744120"/>
            <a:chOff x="1029600" y="6707160"/>
            <a:chExt cx="743400" cy="744120"/>
          </a:xfrm>
        </p:grpSpPr>
        <p:grpSp>
          <p:nvGrpSpPr>
            <p:cNvPr id="522" name=""/>
            <p:cNvGrpSpPr/>
            <p:nvPr/>
          </p:nvGrpSpPr>
          <p:grpSpPr>
            <a:xfrm>
              <a:off x="1029600" y="6707160"/>
              <a:ext cx="743400" cy="740880"/>
              <a:chOff x="1029600" y="6707160"/>
              <a:chExt cx="743400" cy="740880"/>
            </a:xfrm>
          </p:grpSpPr>
          <p:sp>
            <p:nvSpPr>
              <p:cNvPr id="523" name=""/>
              <p:cNvSpPr/>
              <p:nvPr/>
            </p:nvSpPr>
            <p:spPr>
              <a:xfrm>
                <a:off x="1278000" y="670716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6186800">
                <a:off x="1278000" y="67060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277640" y="720144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029960" y="6954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25680" y="720144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525320" y="7201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277640" y="6707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25680" y="67071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77640" y="67071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277640" y="7448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38880" y="6213600"/>
            <a:ext cx="743400" cy="742320"/>
            <a:chOff x="38880" y="6213600"/>
            <a:chExt cx="743400" cy="742320"/>
          </a:xfrm>
        </p:grpSpPr>
        <p:grpSp>
          <p:nvGrpSpPr>
            <p:cNvPr id="534" name=""/>
            <p:cNvGrpSpPr/>
            <p:nvPr/>
          </p:nvGrpSpPr>
          <p:grpSpPr>
            <a:xfrm>
              <a:off x="38880" y="6213600"/>
              <a:ext cx="743400" cy="739080"/>
              <a:chOff x="38880" y="6213600"/>
              <a:chExt cx="743400" cy="739080"/>
            </a:xfrm>
          </p:grpSpPr>
          <p:sp>
            <p:nvSpPr>
              <p:cNvPr id="535" name=""/>
              <p:cNvSpPr/>
              <p:nvPr/>
            </p:nvSpPr>
            <p:spPr>
              <a:xfrm>
                <a:off x="287280" y="621360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6186800">
                <a:off x="287640" y="621144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692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9240" y="64602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496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34600" y="6706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286920" y="62136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496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692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86920" y="6953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504600" y="1770120"/>
            <a:ext cx="743040" cy="742680"/>
            <a:chOff x="3504600" y="1770120"/>
            <a:chExt cx="743040" cy="742680"/>
          </a:xfrm>
        </p:grpSpPr>
        <p:grpSp>
          <p:nvGrpSpPr>
            <p:cNvPr id="546" name=""/>
            <p:cNvGrpSpPr/>
            <p:nvPr/>
          </p:nvGrpSpPr>
          <p:grpSpPr>
            <a:xfrm>
              <a:off x="3504600" y="1770120"/>
              <a:ext cx="743040" cy="739440"/>
              <a:chOff x="3504600" y="1770120"/>
              <a:chExt cx="743040" cy="739440"/>
            </a:xfrm>
          </p:grpSpPr>
          <p:sp>
            <p:nvSpPr>
              <p:cNvPr id="547" name=""/>
              <p:cNvSpPr/>
              <p:nvPr/>
            </p:nvSpPr>
            <p:spPr>
              <a:xfrm>
                <a:off x="3753000" y="1770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6186800">
                <a:off x="3753000" y="176868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3752280" y="2263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0170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00320" y="2263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4000320" y="22633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3752280" y="1770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00320" y="1770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52280" y="1770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3752280" y="2509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257640" y="2262240"/>
            <a:ext cx="747360" cy="741600"/>
            <a:chOff x="3257640" y="2262240"/>
            <a:chExt cx="747360" cy="741600"/>
          </a:xfrm>
        </p:grpSpPr>
        <p:grpSp>
          <p:nvGrpSpPr>
            <p:cNvPr id="558" name=""/>
            <p:cNvGrpSpPr/>
            <p:nvPr/>
          </p:nvGrpSpPr>
          <p:grpSpPr>
            <a:xfrm>
              <a:off x="3257640" y="2262240"/>
              <a:ext cx="744120" cy="741600"/>
              <a:chOff x="3257640" y="2262240"/>
              <a:chExt cx="744120" cy="741600"/>
            </a:xfrm>
          </p:grpSpPr>
          <p:sp>
            <p:nvSpPr>
              <p:cNvPr id="559" name=""/>
              <p:cNvSpPr/>
              <p:nvPr/>
            </p:nvSpPr>
            <p:spPr>
              <a:xfrm rot="16200000">
                <a:off x="3506400" y="2260800"/>
                <a:ext cx="24660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0786800">
                <a:off x="3506040" y="2262600"/>
                <a:ext cx="24768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3754080" y="2756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06040" y="2756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54080" y="2509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54080" y="2262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57640" y="25095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57640" y="250920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57640" y="275652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02120" y="25095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256920" y="3500280"/>
            <a:ext cx="743400" cy="742680"/>
            <a:chOff x="3256920" y="3500280"/>
            <a:chExt cx="743400" cy="742680"/>
          </a:xfrm>
        </p:grpSpPr>
        <p:grpSp>
          <p:nvGrpSpPr>
            <p:cNvPr id="570" name=""/>
            <p:cNvGrpSpPr/>
            <p:nvPr/>
          </p:nvGrpSpPr>
          <p:grpSpPr>
            <a:xfrm>
              <a:off x="3256920" y="3500280"/>
              <a:ext cx="743400" cy="739440"/>
              <a:chOff x="3256920" y="3500280"/>
              <a:chExt cx="743400" cy="739440"/>
            </a:xfrm>
          </p:grpSpPr>
          <p:sp>
            <p:nvSpPr>
              <p:cNvPr id="571" name=""/>
              <p:cNvSpPr/>
              <p:nvPr/>
            </p:nvSpPr>
            <p:spPr>
              <a:xfrm>
                <a:off x="3505320" y="35002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6186800">
                <a:off x="3505320" y="34988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3504960" y="39934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3257280" y="3747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53000" y="39934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752640" y="3993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3504960" y="3500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53000" y="35002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04960" y="35002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504960" y="4240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752280" y="2511360"/>
            <a:ext cx="743040" cy="742680"/>
            <a:chOff x="3752280" y="2511360"/>
            <a:chExt cx="743040" cy="742680"/>
          </a:xfrm>
        </p:grpSpPr>
        <p:grpSp>
          <p:nvGrpSpPr>
            <p:cNvPr id="582" name=""/>
            <p:cNvGrpSpPr/>
            <p:nvPr/>
          </p:nvGrpSpPr>
          <p:grpSpPr>
            <a:xfrm>
              <a:off x="3752280" y="2511360"/>
              <a:ext cx="743040" cy="739440"/>
              <a:chOff x="3752280" y="2511360"/>
              <a:chExt cx="743040" cy="739440"/>
            </a:xfrm>
          </p:grpSpPr>
          <p:sp>
            <p:nvSpPr>
              <p:cNvPr id="583" name=""/>
              <p:cNvSpPr/>
              <p:nvPr/>
            </p:nvSpPr>
            <p:spPr>
              <a:xfrm>
                <a:off x="4000680" y="2511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6186800">
                <a:off x="4000680" y="250992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999960" y="3004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3753000" y="27583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48000" y="3004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4248000" y="300456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3999960" y="2511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48000" y="2511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99960" y="2511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999960" y="3251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505320" y="3003840"/>
            <a:ext cx="745560" cy="741960"/>
            <a:chOff x="3505320" y="3003840"/>
            <a:chExt cx="745560" cy="741960"/>
          </a:xfrm>
        </p:grpSpPr>
        <p:grpSp>
          <p:nvGrpSpPr>
            <p:cNvPr id="594" name=""/>
            <p:cNvGrpSpPr/>
            <p:nvPr/>
          </p:nvGrpSpPr>
          <p:grpSpPr>
            <a:xfrm>
              <a:off x="3505320" y="3003840"/>
              <a:ext cx="742320" cy="741960"/>
              <a:chOff x="3505320" y="3003840"/>
              <a:chExt cx="742320" cy="741960"/>
            </a:xfrm>
          </p:grpSpPr>
          <p:sp>
            <p:nvSpPr>
              <p:cNvPr id="595" name=""/>
              <p:cNvSpPr/>
              <p:nvPr/>
            </p:nvSpPr>
            <p:spPr>
              <a:xfrm rot="16200000">
                <a:off x="3753000" y="30031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0786800">
                <a:off x="3753000" y="30042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4000680" y="3498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53000" y="3498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00680" y="3250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00680" y="3004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05320" y="3251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05320" y="32508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05320" y="34984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48000" y="3251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9600" y="2511360"/>
            <a:ext cx="744120" cy="740160"/>
            <a:chOff x="39600" y="2511360"/>
            <a:chExt cx="744120" cy="740160"/>
          </a:xfrm>
        </p:grpSpPr>
        <p:grpSp>
          <p:nvGrpSpPr>
            <p:cNvPr id="606" name=""/>
            <p:cNvGrpSpPr/>
            <p:nvPr/>
          </p:nvGrpSpPr>
          <p:grpSpPr>
            <a:xfrm>
              <a:off x="39600" y="2511360"/>
              <a:ext cx="740880" cy="740160"/>
              <a:chOff x="39600" y="2511360"/>
              <a:chExt cx="740880" cy="740160"/>
            </a:xfrm>
          </p:grpSpPr>
          <p:sp>
            <p:nvSpPr>
              <p:cNvPr id="607" name=""/>
              <p:cNvSpPr/>
              <p:nvPr/>
            </p:nvSpPr>
            <p:spPr>
              <a:xfrm rot="16200000">
                <a:off x="286920" y="25106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0786800">
                <a:off x="286560" y="25117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533880" y="30045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6920" y="3004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880" y="2757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3880" y="2511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60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00" y="2757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600" y="3004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8084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-208800" y="536400"/>
            <a:ext cx="743400" cy="742680"/>
            <a:chOff x="-208800" y="536400"/>
            <a:chExt cx="743400" cy="742680"/>
          </a:xfrm>
        </p:grpSpPr>
        <p:grpSp>
          <p:nvGrpSpPr>
            <p:cNvPr id="618" name=""/>
            <p:cNvGrpSpPr/>
            <p:nvPr/>
          </p:nvGrpSpPr>
          <p:grpSpPr>
            <a:xfrm>
              <a:off x="-208800" y="536400"/>
              <a:ext cx="743400" cy="739440"/>
              <a:chOff x="-208800" y="536400"/>
              <a:chExt cx="743400" cy="739440"/>
            </a:xfrm>
          </p:grpSpPr>
          <p:sp>
            <p:nvSpPr>
              <p:cNvPr id="619" name=""/>
              <p:cNvSpPr/>
              <p:nvPr/>
            </p:nvSpPr>
            <p:spPr>
              <a:xfrm>
                <a:off x="39600" y="5364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6186800">
                <a:off x="39600" y="5349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3924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-208440" y="7833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728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286920" y="10296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39240" y="536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728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24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9240" y="1276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-456480" y="2262240"/>
            <a:ext cx="743400" cy="745560"/>
            <a:chOff x="-456480" y="2262240"/>
            <a:chExt cx="743400" cy="745560"/>
          </a:xfrm>
        </p:grpSpPr>
        <p:grpSp>
          <p:nvGrpSpPr>
            <p:cNvPr id="630" name=""/>
            <p:cNvGrpSpPr/>
            <p:nvPr/>
          </p:nvGrpSpPr>
          <p:grpSpPr>
            <a:xfrm>
              <a:off x="-456480" y="2262240"/>
              <a:ext cx="743400" cy="742320"/>
              <a:chOff x="-456480" y="2262240"/>
              <a:chExt cx="743400" cy="742320"/>
            </a:xfrm>
          </p:grpSpPr>
          <p:sp>
            <p:nvSpPr>
              <p:cNvPr id="631" name=""/>
              <p:cNvSpPr/>
              <p:nvPr/>
            </p:nvSpPr>
            <p:spPr>
              <a:xfrm>
                <a:off x="-207720" y="226224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6186800">
                <a:off x="-208080" y="226224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-20808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-456120" y="25099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60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9240" y="27576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-208080" y="2262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960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-20808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-208080" y="3004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-456120" y="-206280"/>
            <a:ext cx="743400" cy="742320"/>
            <a:chOff x="-456120" y="-206280"/>
            <a:chExt cx="743400" cy="742320"/>
          </a:xfrm>
        </p:grpSpPr>
        <p:grpSp>
          <p:nvGrpSpPr>
            <p:cNvPr id="642" name=""/>
            <p:cNvGrpSpPr/>
            <p:nvPr/>
          </p:nvGrpSpPr>
          <p:grpSpPr>
            <a:xfrm>
              <a:off x="-456120" y="-206280"/>
              <a:ext cx="743400" cy="739080"/>
              <a:chOff x="-456120" y="-206280"/>
              <a:chExt cx="743400" cy="739080"/>
            </a:xfrm>
          </p:grpSpPr>
          <p:sp>
            <p:nvSpPr>
              <p:cNvPr id="643" name=""/>
              <p:cNvSpPr/>
              <p:nvPr/>
            </p:nvSpPr>
            <p:spPr>
              <a:xfrm>
                <a:off x="-207720" y="-2062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6186800">
                <a:off x="-207000" y="-20772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-20808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-456120" y="40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60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9240" y="2869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-208080" y="-20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60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-20808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-208080" y="533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-208800" y="3003480"/>
            <a:ext cx="743400" cy="744120"/>
            <a:chOff x="-208800" y="3003480"/>
            <a:chExt cx="743400" cy="744120"/>
          </a:xfrm>
        </p:grpSpPr>
        <p:grpSp>
          <p:nvGrpSpPr>
            <p:cNvPr id="654" name=""/>
            <p:cNvGrpSpPr/>
            <p:nvPr/>
          </p:nvGrpSpPr>
          <p:grpSpPr>
            <a:xfrm>
              <a:off x="-208800" y="3003480"/>
              <a:ext cx="743400" cy="740880"/>
              <a:chOff x="-208800" y="3003480"/>
              <a:chExt cx="743400" cy="740880"/>
            </a:xfrm>
          </p:grpSpPr>
          <p:sp>
            <p:nvSpPr>
              <p:cNvPr id="655" name=""/>
              <p:cNvSpPr/>
              <p:nvPr/>
            </p:nvSpPr>
            <p:spPr>
              <a:xfrm>
                <a:off x="39600" y="300348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6186800">
                <a:off x="39600" y="300240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3924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-208440" y="3250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728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86920" y="3497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9240" y="3003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728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24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39240" y="37447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81920" y="3495600"/>
            <a:ext cx="743400" cy="742680"/>
            <a:chOff x="781920" y="3495600"/>
            <a:chExt cx="743400" cy="742680"/>
          </a:xfrm>
        </p:grpSpPr>
        <p:grpSp>
          <p:nvGrpSpPr>
            <p:cNvPr id="666" name=""/>
            <p:cNvGrpSpPr/>
            <p:nvPr/>
          </p:nvGrpSpPr>
          <p:grpSpPr>
            <a:xfrm>
              <a:off x="781920" y="3495600"/>
              <a:ext cx="743400" cy="739440"/>
              <a:chOff x="781920" y="3495600"/>
              <a:chExt cx="743400" cy="739440"/>
            </a:xfrm>
          </p:grpSpPr>
          <p:sp>
            <p:nvSpPr>
              <p:cNvPr id="667" name=""/>
              <p:cNvSpPr/>
              <p:nvPr/>
            </p:nvSpPr>
            <p:spPr>
              <a:xfrm>
                <a:off x="1030320" y="34956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186800">
                <a:off x="1030320" y="34941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102996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2280" y="3742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7800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1277640" y="3988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1029960" y="34956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7800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2996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1029960" y="4235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87280" y="3251160"/>
            <a:ext cx="744120" cy="741600"/>
            <a:chOff x="287280" y="3251160"/>
            <a:chExt cx="744120" cy="741600"/>
          </a:xfrm>
        </p:grpSpPr>
        <p:grpSp>
          <p:nvGrpSpPr>
            <p:cNvPr id="678" name=""/>
            <p:cNvGrpSpPr/>
            <p:nvPr/>
          </p:nvGrpSpPr>
          <p:grpSpPr>
            <a:xfrm>
              <a:off x="287280" y="3251160"/>
              <a:ext cx="740880" cy="741600"/>
              <a:chOff x="287280" y="3251160"/>
              <a:chExt cx="740880" cy="741600"/>
            </a:xfrm>
          </p:grpSpPr>
          <p:sp>
            <p:nvSpPr>
              <p:cNvPr id="679" name=""/>
              <p:cNvSpPr/>
              <p:nvPr/>
            </p:nvSpPr>
            <p:spPr>
              <a:xfrm rot="16200000">
                <a:off x="534240" y="3251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0786800">
                <a:off x="534240" y="32515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781560" y="3745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600" y="374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1560" y="3498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1560" y="3251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87280" y="349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7280" y="3498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280" y="374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28520" y="349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772640" y="3989520"/>
            <a:ext cx="743040" cy="744120"/>
            <a:chOff x="1772640" y="3989520"/>
            <a:chExt cx="743040" cy="744120"/>
          </a:xfrm>
        </p:grpSpPr>
        <p:grpSp>
          <p:nvGrpSpPr>
            <p:cNvPr id="690" name=""/>
            <p:cNvGrpSpPr/>
            <p:nvPr/>
          </p:nvGrpSpPr>
          <p:grpSpPr>
            <a:xfrm>
              <a:off x="1772640" y="3989520"/>
              <a:ext cx="743040" cy="740880"/>
              <a:chOff x="1772640" y="3989520"/>
              <a:chExt cx="743040" cy="740880"/>
            </a:xfrm>
          </p:grpSpPr>
          <p:sp>
            <p:nvSpPr>
              <p:cNvPr id="691" name=""/>
              <p:cNvSpPr/>
              <p:nvPr/>
            </p:nvSpPr>
            <p:spPr>
              <a:xfrm>
                <a:off x="2021040" y="39895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6186800">
                <a:off x="2020680" y="3988800"/>
                <a:ext cx="24660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202032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773360" y="42368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836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2268360" y="44838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2020320" y="3989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6836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2032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202032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505320" y="536400"/>
            <a:ext cx="745560" cy="740160"/>
            <a:chOff x="3505320" y="536400"/>
            <a:chExt cx="745560" cy="740160"/>
          </a:xfrm>
        </p:grpSpPr>
        <p:grpSp>
          <p:nvGrpSpPr>
            <p:cNvPr id="702" name=""/>
            <p:cNvGrpSpPr/>
            <p:nvPr/>
          </p:nvGrpSpPr>
          <p:grpSpPr>
            <a:xfrm>
              <a:off x="3505320" y="536400"/>
              <a:ext cx="742320" cy="740160"/>
              <a:chOff x="3505320" y="536400"/>
              <a:chExt cx="742320" cy="740160"/>
            </a:xfrm>
          </p:grpSpPr>
          <p:sp>
            <p:nvSpPr>
              <p:cNvPr id="703" name=""/>
              <p:cNvSpPr/>
              <p:nvPr/>
            </p:nvSpPr>
            <p:spPr>
              <a:xfrm rot="16200000">
                <a:off x="3753360" y="5349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786800">
                <a:off x="3753000" y="53676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4000680" y="1029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53000" y="10296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000680" y="7826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00680" y="5364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05320" y="783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05320" y="7826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05320" y="10296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48000" y="783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744440" y="3003480"/>
            <a:ext cx="740160" cy="744120"/>
            <a:chOff x="4744440" y="3003480"/>
            <a:chExt cx="740160" cy="744120"/>
          </a:xfrm>
        </p:grpSpPr>
        <p:grpSp>
          <p:nvGrpSpPr>
            <p:cNvPr id="714" name=""/>
            <p:cNvGrpSpPr/>
            <p:nvPr/>
          </p:nvGrpSpPr>
          <p:grpSpPr>
            <a:xfrm>
              <a:off x="4744440" y="3003480"/>
              <a:ext cx="740160" cy="740880"/>
              <a:chOff x="4744440" y="3003480"/>
              <a:chExt cx="740160" cy="740880"/>
            </a:xfrm>
          </p:grpSpPr>
          <p:sp>
            <p:nvSpPr>
              <p:cNvPr id="715" name=""/>
              <p:cNvSpPr/>
              <p:nvPr/>
            </p:nvSpPr>
            <p:spPr>
              <a:xfrm>
                <a:off x="4991760" y="30034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6186800">
                <a:off x="4991040" y="300420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499140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745160" y="32508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3836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238360" y="349776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4991040" y="300348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3836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9140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991040" y="374472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78000" y="3745080"/>
            <a:ext cx="745560" cy="741600"/>
            <a:chOff x="1278000" y="3745080"/>
            <a:chExt cx="745560" cy="741600"/>
          </a:xfrm>
        </p:grpSpPr>
        <p:grpSp>
          <p:nvGrpSpPr>
            <p:cNvPr id="726" name=""/>
            <p:cNvGrpSpPr/>
            <p:nvPr/>
          </p:nvGrpSpPr>
          <p:grpSpPr>
            <a:xfrm>
              <a:off x="1278000" y="3745080"/>
              <a:ext cx="742320" cy="741600"/>
              <a:chOff x="1278000" y="3745080"/>
              <a:chExt cx="742320" cy="741600"/>
            </a:xfrm>
          </p:grpSpPr>
          <p:sp>
            <p:nvSpPr>
              <p:cNvPr id="727" name=""/>
              <p:cNvSpPr/>
              <p:nvPr/>
            </p:nvSpPr>
            <p:spPr>
              <a:xfrm rot="16200000">
                <a:off x="1525680" y="374436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0786800">
                <a:off x="1525680" y="374544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1773360" y="4239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25680" y="42397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73360" y="3992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73360" y="374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78000" y="3992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78000" y="39920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78000" y="42393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20680" y="3992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277280" y="42840"/>
            <a:ext cx="743400" cy="742680"/>
            <a:chOff x="1277280" y="42840"/>
            <a:chExt cx="743400" cy="742680"/>
          </a:xfrm>
        </p:grpSpPr>
        <p:grpSp>
          <p:nvGrpSpPr>
            <p:cNvPr id="738" name=""/>
            <p:cNvGrpSpPr/>
            <p:nvPr/>
          </p:nvGrpSpPr>
          <p:grpSpPr>
            <a:xfrm>
              <a:off x="1277280" y="42840"/>
              <a:ext cx="743400" cy="739440"/>
              <a:chOff x="1277280" y="42840"/>
              <a:chExt cx="743400" cy="739440"/>
            </a:xfrm>
          </p:grpSpPr>
          <p:sp>
            <p:nvSpPr>
              <p:cNvPr id="739" name=""/>
              <p:cNvSpPr/>
              <p:nvPr/>
            </p:nvSpPr>
            <p:spPr>
              <a:xfrm>
                <a:off x="1525680" y="428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6186800">
                <a:off x="1525680" y="414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1525320" y="536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1277640" y="289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73360" y="536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1773000" y="5360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1525320" y="42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73360" y="42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25320" y="42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1525320" y="782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86560" y="-455760"/>
            <a:ext cx="743400" cy="742680"/>
            <a:chOff x="286560" y="-455760"/>
            <a:chExt cx="743400" cy="742680"/>
          </a:xfrm>
        </p:grpSpPr>
        <p:grpSp>
          <p:nvGrpSpPr>
            <p:cNvPr id="750" name=""/>
            <p:cNvGrpSpPr/>
            <p:nvPr/>
          </p:nvGrpSpPr>
          <p:grpSpPr>
            <a:xfrm>
              <a:off x="286560" y="-455760"/>
              <a:ext cx="743400" cy="739440"/>
              <a:chOff x="286560" y="-455760"/>
              <a:chExt cx="743400" cy="739440"/>
            </a:xfrm>
          </p:grpSpPr>
          <p:sp>
            <p:nvSpPr>
              <p:cNvPr id="751" name=""/>
              <p:cNvSpPr/>
              <p:nvPr/>
            </p:nvSpPr>
            <p:spPr>
              <a:xfrm>
                <a:off x="534960" y="-4557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6186800">
                <a:off x="534960" y="-4564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534600" y="374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87280" y="-208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82640" y="374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82280" y="37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534600" y="-455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2640" y="-455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4600" y="-455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534600" y="284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009240" y="285840"/>
            <a:ext cx="743400" cy="742680"/>
            <a:chOff x="3009240" y="285840"/>
            <a:chExt cx="743400" cy="742680"/>
          </a:xfrm>
        </p:grpSpPr>
        <p:grpSp>
          <p:nvGrpSpPr>
            <p:cNvPr id="762" name=""/>
            <p:cNvGrpSpPr/>
            <p:nvPr/>
          </p:nvGrpSpPr>
          <p:grpSpPr>
            <a:xfrm>
              <a:off x="3009240" y="285840"/>
              <a:ext cx="743400" cy="739440"/>
              <a:chOff x="3009240" y="285840"/>
              <a:chExt cx="743400" cy="739440"/>
            </a:xfrm>
          </p:grpSpPr>
          <p:sp>
            <p:nvSpPr>
              <p:cNvPr id="763" name=""/>
              <p:cNvSpPr/>
              <p:nvPr/>
            </p:nvSpPr>
            <p:spPr>
              <a:xfrm>
                <a:off x="3257640" y="2858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6186800">
                <a:off x="3257640" y="2844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325728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009600" y="532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50532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504960" y="7790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257280" y="285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0532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5728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257280" y="1025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782640" y="-204840"/>
            <a:ext cx="745920" cy="741600"/>
            <a:chOff x="782640" y="-204840"/>
            <a:chExt cx="745920" cy="741600"/>
          </a:xfrm>
        </p:grpSpPr>
        <p:grpSp>
          <p:nvGrpSpPr>
            <p:cNvPr id="774" name=""/>
            <p:cNvGrpSpPr/>
            <p:nvPr/>
          </p:nvGrpSpPr>
          <p:grpSpPr>
            <a:xfrm>
              <a:off x="782640" y="-204840"/>
              <a:ext cx="742680" cy="741600"/>
              <a:chOff x="782640" y="-204840"/>
              <a:chExt cx="742680" cy="741600"/>
            </a:xfrm>
          </p:grpSpPr>
          <p:sp>
            <p:nvSpPr>
              <p:cNvPr id="775" name=""/>
              <p:cNvSpPr/>
              <p:nvPr/>
            </p:nvSpPr>
            <p:spPr>
              <a:xfrm rot="16200000">
                <a:off x="1030680" y="-2052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0786800">
                <a:off x="1029960" y="-2041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1278000" y="289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30680" y="289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278000" y="42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78000" y="-2041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3000" y="4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2640" y="421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2640" y="2894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525680" y="42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1773360" y="287640"/>
            <a:ext cx="745560" cy="741960"/>
            <a:chOff x="1773360" y="287640"/>
            <a:chExt cx="745560" cy="741960"/>
          </a:xfrm>
        </p:grpSpPr>
        <p:grpSp>
          <p:nvGrpSpPr>
            <p:cNvPr id="786" name=""/>
            <p:cNvGrpSpPr/>
            <p:nvPr/>
          </p:nvGrpSpPr>
          <p:grpSpPr>
            <a:xfrm>
              <a:off x="1773360" y="287640"/>
              <a:ext cx="742320" cy="741960"/>
              <a:chOff x="1773360" y="287640"/>
              <a:chExt cx="742320" cy="741960"/>
            </a:xfrm>
          </p:grpSpPr>
          <p:sp>
            <p:nvSpPr>
              <p:cNvPr id="787" name=""/>
              <p:cNvSpPr/>
              <p:nvPr/>
            </p:nvSpPr>
            <p:spPr>
              <a:xfrm rot="16200000">
                <a:off x="2021040" y="2869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0786800">
                <a:off x="2021040" y="2880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2268720" y="7822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021040" y="7826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68720" y="534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68720" y="288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73360" y="5353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773360" y="5346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73360" y="7822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16040" y="5353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2516040" y="42840"/>
            <a:ext cx="745920" cy="741600"/>
            <a:chOff x="2516040" y="42840"/>
            <a:chExt cx="745920" cy="741600"/>
          </a:xfrm>
        </p:grpSpPr>
        <p:grpSp>
          <p:nvGrpSpPr>
            <p:cNvPr id="798" name=""/>
            <p:cNvGrpSpPr/>
            <p:nvPr/>
          </p:nvGrpSpPr>
          <p:grpSpPr>
            <a:xfrm>
              <a:off x="2516040" y="42840"/>
              <a:ext cx="742680" cy="741600"/>
              <a:chOff x="2516040" y="42840"/>
              <a:chExt cx="742680" cy="741600"/>
            </a:xfrm>
          </p:grpSpPr>
          <p:sp>
            <p:nvSpPr>
              <p:cNvPr id="799" name=""/>
              <p:cNvSpPr/>
              <p:nvPr/>
            </p:nvSpPr>
            <p:spPr>
              <a:xfrm rot="16200000">
                <a:off x="2764080" y="421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0786800">
                <a:off x="2763360" y="432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3011400" y="537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64080" y="537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011400" y="289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11400" y="43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51604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16040" y="2898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16040" y="5371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5908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2020320" y="-206280"/>
            <a:ext cx="743040" cy="742320"/>
            <a:chOff x="2020320" y="-206280"/>
            <a:chExt cx="743040" cy="742320"/>
          </a:xfrm>
        </p:grpSpPr>
        <p:grpSp>
          <p:nvGrpSpPr>
            <p:cNvPr id="810" name=""/>
            <p:cNvGrpSpPr/>
            <p:nvPr/>
          </p:nvGrpSpPr>
          <p:grpSpPr>
            <a:xfrm>
              <a:off x="2020320" y="-206280"/>
              <a:ext cx="743040" cy="739080"/>
              <a:chOff x="2020320" y="-206280"/>
              <a:chExt cx="743040" cy="739080"/>
            </a:xfrm>
          </p:grpSpPr>
          <p:sp>
            <p:nvSpPr>
              <p:cNvPr id="811" name=""/>
              <p:cNvSpPr/>
              <p:nvPr/>
            </p:nvSpPr>
            <p:spPr>
              <a:xfrm>
                <a:off x="2268720" y="-2062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186800">
                <a:off x="2268720" y="-207720"/>
                <a:ext cx="24588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226800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021040" y="403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1604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516040" y="2869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268000" y="-20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51604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26800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2268000" y="533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000680" y="2017800"/>
            <a:ext cx="745560" cy="741600"/>
            <a:chOff x="4000680" y="2017800"/>
            <a:chExt cx="745560" cy="741600"/>
          </a:xfrm>
        </p:grpSpPr>
        <p:grpSp>
          <p:nvGrpSpPr>
            <p:cNvPr id="822" name=""/>
            <p:cNvGrpSpPr/>
            <p:nvPr/>
          </p:nvGrpSpPr>
          <p:grpSpPr>
            <a:xfrm>
              <a:off x="4000680" y="2017800"/>
              <a:ext cx="742320" cy="741600"/>
              <a:chOff x="4000680" y="2017800"/>
              <a:chExt cx="742320" cy="741600"/>
            </a:xfrm>
          </p:grpSpPr>
          <p:sp>
            <p:nvSpPr>
              <p:cNvPr id="823" name=""/>
              <p:cNvSpPr/>
              <p:nvPr/>
            </p:nvSpPr>
            <p:spPr>
              <a:xfrm rot="16200000">
                <a:off x="4248360" y="20170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0786800">
                <a:off x="4248360" y="201816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4496040" y="2512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48360" y="2512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96040" y="2264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96040" y="2018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00680" y="2265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00680" y="22647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00680" y="2512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43360" y="2265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3256920" y="1028880"/>
            <a:ext cx="743400" cy="742320"/>
            <a:chOff x="3256920" y="1028880"/>
            <a:chExt cx="743400" cy="742320"/>
          </a:xfrm>
        </p:grpSpPr>
        <p:grpSp>
          <p:nvGrpSpPr>
            <p:cNvPr id="834" name=""/>
            <p:cNvGrpSpPr/>
            <p:nvPr/>
          </p:nvGrpSpPr>
          <p:grpSpPr>
            <a:xfrm>
              <a:off x="3256920" y="1028880"/>
              <a:ext cx="743400" cy="739080"/>
              <a:chOff x="3256920" y="1028880"/>
              <a:chExt cx="743400" cy="739080"/>
            </a:xfrm>
          </p:grpSpPr>
          <p:sp>
            <p:nvSpPr>
              <p:cNvPr id="835" name=""/>
              <p:cNvSpPr/>
              <p:nvPr/>
            </p:nvSpPr>
            <p:spPr>
              <a:xfrm>
                <a:off x="3505320" y="10288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186800">
                <a:off x="3505680" y="102672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350496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257280" y="1275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5300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752640" y="1522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504960" y="1028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75300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0496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50496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2763000" y="-453960"/>
            <a:ext cx="741960" cy="745560"/>
            <a:chOff x="2763000" y="-453960"/>
            <a:chExt cx="741960" cy="745560"/>
          </a:xfrm>
        </p:grpSpPr>
        <p:grpSp>
          <p:nvGrpSpPr>
            <p:cNvPr id="846" name=""/>
            <p:cNvGrpSpPr/>
            <p:nvPr/>
          </p:nvGrpSpPr>
          <p:grpSpPr>
            <a:xfrm>
              <a:off x="2763000" y="-453960"/>
              <a:ext cx="741960" cy="742320"/>
              <a:chOff x="2763000" y="-453960"/>
              <a:chExt cx="741960" cy="742320"/>
            </a:xfrm>
          </p:grpSpPr>
          <p:sp>
            <p:nvSpPr>
              <p:cNvPr id="847" name=""/>
              <p:cNvSpPr/>
              <p:nvPr/>
            </p:nvSpPr>
            <p:spPr>
              <a:xfrm>
                <a:off x="3011040" y="-45396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186800">
                <a:off x="3010320" y="-4525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3010320" y="414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2763720" y="-2055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58000" y="414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257640" y="414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010320" y="-453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58000" y="-45396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10320" y="-45396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09960" y="2887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3753000" y="1276560"/>
            <a:ext cx="745560" cy="741960"/>
            <a:chOff x="3753000" y="1276560"/>
            <a:chExt cx="745560" cy="741960"/>
          </a:xfrm>
        </p:grpSpPr>
        <p:grpSp>
          <p:nvGrpSpPr>
            <p:cNvPr id="858" name=""/>
            <p:cNvGrpSpPr/>
            <p:nvPr/>
          </p:nvGrpSpPr>
          <p:grpSpPr>
            <a:xfrm>
              <a:off x="3753000" y="1276560"/>
              <a:ext cx="742320" cy="741960"/>
              <a:chOff x="3753000" y="1276560"/>
              <a:chExt cx="742320" cy="741960"/>
            </a:xfrm>
          </p:grpSpPr>
          <p:sp>
            <p:nvSpPr>
              <p:cNvPr id="859" name=""/>
              <p:cNvSpPr/>
              <p:nvPr/>
            </p:nvSpPr>
            <p:spPr>
              <a:xfrm rot="16200000">
                <a:off x="4000680" y="12758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0786800">
                <a:off x="4000680" y="12769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4248360" y="1771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00680" y="1771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48360" y="1523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48360" y="1277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753000" y="15242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53000" y="1523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53000" y="1771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95680" y="15242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999960" y="784080"/>
            <a:ext cx="744840" cy="742680"/>
            <a:chOff x="3999960" y="784080"/>
            <a:chExt cx="744840" cy="742680"/>
          </a:xfrm>
        </p:grpSpPr>
        <p:grpSp>
          <p:nvGrpSpPr>
            <p:cNvPr id="870" name=""/>
            <p:cNvGrpSpPr/>
            <p:nvPr/>
          </p:nvGrpSpPr>
          <p:grpSpPr>
            <a:xfrm>
              <a:off x="3999960" y="784080"/>
              <a:ext cx="744840" cy="739440"/>
              <a:chOff x="3999960" y="784080"/>
              <a:chExt cx="744840" cy="739440"/>
            </a:xfrm>
          </p:grpSpPr>
          <p:sp>
            <p:nvSpPr>
              <p:cNvPr id="871" name=""/>
              <p:cNvSpPr/>
              <p:nvPr/>
            </p:nvSpPr>
            <p:spPr>
              <a:xfrm>
                <a:off x="4248720" y="784080"/>
                <a:ext cx="2476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186800">
                <a:off x="4249080" y="781920"/>
                <a:ext cx="246240" cy="743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4248360" y="1277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000680" y="103104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96760" y="1277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496760" y="12772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248360" y="78408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96760" y="784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48360" y="784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248360" y="152388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247280" y="1525680"/>
            <a:ext cx="745200" cy="742320"/>
            <a:chOff x="4247280" y="1525680"/>
            <a:chExt cx="745200" cy="742320"/>
          </a:xfrm>
        </p:grpSpPr>
        <p:grpSp>
          <p:nvGrpSpPr>
            <p:cNvPr id="882" name=""/>
            <p:cNvGrpSpPr/>
            <p:nvPr/>
          </p:nvGrpSpPr>
          <p:grpSpPr>
            <a:xfrm>
              <a:off x="4247280" y="1525680"/>
              <a:ext cx="745200" cy="739080"/>
              <a:chOff x="4247280" y="1525680"/>
              <a:chExt cx="745200" cy="739080"/>
            </a:xfrm>
          </p:grpSpPr>
          <p:sp>
            <p:nvSpPr>
              <p:cNvPr id="883" name=""/>
              <p:cNvSpPr/>
              <p:nvPr/>
            </p:nvSpPr>
            <p:spPr>
              <a:xfrm>
                <a:off x="4496400" y="1525680"/>
                <a:ext cx="2476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186800">
                <a:off x="4496760" y="1522800"/>
                <a:ext cx="24588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495680" y="2018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248000" y="17722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44440" y="2018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744440" y="20188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495680" y="152568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744440" y="15256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95680" y="15256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4495680" y="226512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3999960" y="3251160"/>
            <a:ext cx="744840" cy="742680"/>
            <a:chOff x="3999960" y="3251160"/>
            <a:chExt cx="744840" cy="742680"/>
          </a:xfrm>
        </p:grpSpPr>
        <p:grpSp>
          <p:nvGrpSpPr>
            <p:cNvPr id="894" name=""/>
            <p:cNvGrpSpPr/>
            <p:nvPr/>
          </p:nvGrpSpPr>
          <p:grpSpPr>
            <a:xfrm>
              <a:off x="3999960" y="3251160"/>
              <a:ext cx="744840" cy="739440"/>
              <a:chOff x="3999960" y="3251160"/>
              <a:chExt cx="744840" cy="739440"/>
            </a:xfrm>
          </p:grpSpPr>
          <p:sp>
            <p:nvSpPr>
              <p:cNvPr id="895" name=""/>
              <p:cNvSpPr/>
              <p:nvPr/>
            </p:nvSpPr>
            <p:spPr>
              <a:xfrm>
                <a:off x="4248720" y="3251160"/>
                <a:ext cx="2476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6186800">
                <a:off x="4249080" y="3249000"/>
                <a:ext cx="246240" cy="743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4248360" y="37443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000680" y="349812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96760" y="37443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496760" y="374436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4248360" y="325116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96760" y="32511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48360" y="32511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248360" y="399096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009960" y="3992760"/>
            <a:ext cx="747360" cy="741960"/>
            <a:chOff x="3009960" y="3992760"/>
            <a:chExt cx="747360" cy="741960"/>
          </a:xfrm>
        </p:grpSpPr>
        <p:grpSp>
          <p:nvGrpSpPr>
            <p:cNvPr id="906" name=""/>
            <p:cNvGrpSpPr/>
            <p:nvPr/>
          </p:nvGrpSpPr>
          <p:grpSpPr>
            <a:xfrm>
              <a:off x="3009960" y="3992760"/>
              <a:ext cx="744120" cy="741960"/>
              <a:chOff x="3009960" y="3992760"/>
              <a:chExt cx="744120" cy="741960"/>
            </a:xfrm>
          </p:grpSpPr>
          <p:sp>
            <p:nvSpPr>
              <p:cNvPr id="907" name=""/>
              <p:cNvSpPr/>
              <p:nvPr/>
            </p:nvSpPr>
            <p:spPr>
              <a:xfrm rot="16200000">
                <a:off x="3258720" y="3991320"/>
                <a:ext cx="24660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0786800">
                <a:off x="3258360" y="3993120"/>
                <a:ext cx="2476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" name=""/>
            <p:cNvSpPr/>
            <p:nvPr/>
          </p:nvSpPr>
          <p:spPr>
            <a:xfrm>
              <a:off x="3506400" y="44874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58360" y="4487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506400" y="42397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6400" y="3993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09960" y="4240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09960" y="423972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09960" y="448740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754440" y="4240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2268360" y="4238640"/>
            <a:ext cx="745920" cy="741600"/>
            <a:chOff x="2268360" y="4238640"/>
            <a:chExt cx="745920" cy="741600"/>
          </a:xfrm>
        </p:grpSpPr>
        <p:grpSp>
          <p:nvGrpSpPr>
            <p:cNvPr id="918" name=""/>
            <p:cNvGrpSpPr/>
            <p:nvPr/>
          </p:nvGrpSpPr>
          <p:grpSpPr>
            <a:xfrm>
              <a:off x="2268360" y="4238640"/>
              <a:ext cx="742680" cy="741600"/>
              <a:chOff x="2268360" y="4238640"/>
              <a:chExt cx="742680" cy="741600"/>
            </a:xfrm>
          </p:grpSpPr>
          <p:sp>
            <p:nvSpPr>
              <p:cNvPr id="919" name=""/>
              <p:cNvSpPr/>
              <p:nvPr/>
            </p:nvSpPr>
            <p:spPr>
              <a:xfrm rot="16200000">
                <a:off x="2516400" y="42379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0786800">
                <a:off x="2515680" y="42390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2763720" y="473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16400" y="4733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763720" y="4485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63720" y="4239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6836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68360" y="44856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268360" y="47329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1140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534960" y="6462720"/>
            <a:ext cx="744120" cy="740160"/>
            <a:chOff x="534960" y="6462720"/>
            <a:chExt cx="744120" cy="740160"/>
          </a:xfrm>
        </p:grpSpPr>
        <p:grpSp>
          <p:nvGrpSpPr>
            <p:cNvPr id="930" name=""/>
            <p:cNvGrpSpPr/>
            <p:nvPr/>
          </p:nvGrpSpPr>
          <p:grpSpPr>
            <a:xfrm>
              <a:off x="534960" y="6462720"/>
              <a:ext cx="740880" cy="740160"/>
              <a:chOff x="534960" y="6462720"/>
              <a:chExt cx="740880" cy="740160"/>
            </a:xfrm>
          </p:grpSpPr>
          <p:sp>
            <p:nvSpPr>
              <p:cNvPr id="931" name=""/>
              <p:cNvSpPr/>
              <p:nvPr/>
            </p:nvSpPr>
            <p:spPr>
              <a:xfrm rot="16200000">
                <a:off x="782280" y="64620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0786800">
                <a:off x="781920" y="64630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1029240" y="6955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82280" y="6955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29240" y="6708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29240" y="6462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4960" y="6709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4960" y="6708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4960" y="6955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276200" y="6709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505320" y="5473800"/>
            <a:ext cx="745560" cy="740160"/>
            <a:chOff x="3505320" y="5473800"/>
            <a:chExt cx="745560" cy="740160"/>
          </a:xfrm>
        </p:grpSpPr>
        <p:grpSp>
          <p:nvGrpSpPr>
            <p:cNvPr id="942" name=""/>
            <p:cNvGrpSpPr/>
            <p:nvPr/>
          </p:nvGrpSpPr>
          <p:grpSpPr>
            <a:xfrm>
              <a:off x="3505320" y="5473800"/>
              <a:ext cx="742320" cy="740160"/>
              <a:chOff x="3505320" y="5473800"/>
              <a:chExt cx="742320" cy="740160"/>
            </a:xfrm>
          </p:grpSpPr>
          <p:sp>
            <p:nvSpPr>
              <p:cNvPr id="943" name=""/>
              <p:cNvSpPr/>
              <p:nvPr/>
            </p:nvSpPr>
            <p:spPr>
              <a:xfrm rot="16200000">
                <a:off x="3753360" y="54723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0786800">
                <a:off x="3753000" y="547416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4000680" y="596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53000" y="5967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00680" y="5720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00680" y="54738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05320" y="5720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505320" y="57200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505320" y="59670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248000" y="5720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763000" y="4486320"/>
            <a:ext cx="741960" cy="744120"/>
            <a:chOff x="2763000" y="4486320"/>
            <a:chExt cx="741960" cy="744120"/>
          </a:xfrm>
        </p:grpSpPr>
        <p:grpSp>
          <p:nvGrpSpPr>
            <p:cNvPr id="954" name=""/>
            <p:cNvGrpSpPr/>
            <p:nvPr/>
          </p:nvGrpSpPr>
          <p:grpSpPr>
            <a:xfrm>
              <a:off x="2763000" y="4486320"/>
              <a:ext cx="741960" cy="740880"/>
              <a:chOff x="2763000" y="4486320"/>
              <a:chExt cx="741960" cy="74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3011040" y="44863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6186800">
                <a:off x="3010680" y="44859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3010320" y="4980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2763360" y="47336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58000" y="4980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3257640" y="49806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3009960" y="44863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58000" y="44863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010320" y="44863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009960" y="522756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2020320" y="4734000"/>
            <a:ext cx="743040" cy="742680"/>
            <a:chOff x="2020320" y="4734000"/>
            <a:chExt cx="743040" cy="742680"/>
          </a:xfrm>
        </p:grpSpPr>
        <p:grpSp>
          <p:nvGrpSpPr>
            <p:cNvPr id="966" name=""/>
            <p:cNvGrpSpPr/>
            <p:nvPr/>
          </p:nvGrpSpPr>
          <p:grpSpPr>
            <a:xfrm>
              <a:off x="2020320" y="4734000"/>
              <a:ext cx="743040" cy="739440"/>
              <a:chOff x="2020320" y="4734000"/>
              <a:chExt cx="743040" cy="739440"/>
            </a:xfrm>
          </p:grpSpPr>
          <p:sp>
            <p:nvSpPr>
              <p:cNvPr id="967" name=""/>
              <p:cNvSpPr/>
              <p:nvPr/>
            </p:nvSpPr>
            <p:spPr>
              <a:xfrm>
                <a:off x="2268720" y="47340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6186800">
                <a:off x="2268720" y="473256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226800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2021040" y="498096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604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2516040" y="52272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2268000" y="4734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604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6800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2268000" y="54738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25680" y="4486320"/>
            <a:ext cx="745560" cy="740160"/>
            <a:chOff x="1525680" y="4486320"/>
            <a:chExt cx="745560" cy="740160"/>
          </a:xfrm>
        </p:grpSpPr>
        <p:grpSp>
          <p:nvGrpSpPr>
            <p:cNvPr id="978" name=""/>
            <p:cNvGrpSpPr/>
            <p:nvPr/>
          </p:nvGrpSpPr>
          <p:grpSpPr>
            <a:xfrm>
              <a:off x="1525680" y="4486320"/>
              <a:ext cx="742320" cy="740160"/>
              <a:chOff x="1525680" y="4486320"/>
              <a:chExt cx="742320" cy="740160"/>
            </a:xfrm>
          </p:grpSpPr>
          <p:sp>
            <p:nvSpPr>
              <p:cNvPr id="979" name=""/>
              <p:cNvSpPr/>
              <p:nvPr/>
            </p:nvSpPr>
            <p:spPr>
              <a:xfrm rot="16200000">
                <a:off x="1773720" y="44848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0786800">
                <a:off x="1773360" y="44866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2021040" y="4979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73360" y="49795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21040" y="4732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21040" y="4486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25680" y="4733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525680" y="47325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525680" y="4979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68360" y="4733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248000" y="2759040"/>
            <a:ext cx="745920" cy="741600"/>
            <a:chOff x="4248000" y="2759040"/>
            <a:chExt cx="745920" cy="741600"/>
          </a:xfrm>
        </p:grpSpPr>
        <p:grpSp>
          <p:nvGrpSpPr>
            <p:cNvPr id="990" name=""/>
            <p:cNvGrpSpPr/>
            <p:nvPr/>
          </p:nvGrpSpPr>
          <p:grpSpPr>
            <a:xfrm>
              <a:off x="4248000" y="2759040"/>
              <a:ext cx="742680" cy="741600"/>
              <a:chOff x="4248000" y="2759040"/>
              <a:chExt cx="742680" cy="741600"/>
            </a:xfrm>
          </p:grpSpPr>
          <p:sp>
            <p:nvSpPr>
              <p:cNvPr id="991" name=""/>
              <p:cNvSpPr/>
              <p:nvPr/>
            </p:nvSpPr>
            <p:spPr>
              <a:xfrm rot="16200000">
                <a:off x="4496040" y="27583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0786800">
                <a:off x="4495320" y="27594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4743360" y="3253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96040" y="3253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743360" y="3006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43360" y="2759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248000" y="3006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48000" y="30060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248000" y="32533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91040" y="3006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4494960" y="2262240"/>
            <a:ext cx="741960" cy="745560"/>
            <a:chOff x="4494960" y="2262240"/>
            <a:chExt cx="741960" cy="745560"/>
          </a:xfrm>
        </p:grpSpPr>
        <p:grpSp>
          <p:nvGrpSpPr>
            <p:cNvPr id="1002" name=""/>
            <p:cNvGrpSpPr/>
            <p:nvPr/>
          </p:nvGrpSpPr>
          <p:grpSpPr>
            <a:xfrm>
              <a:off x="4494960" y="2262240"/>
              <a:ext cx="741960" cy="742320"/>
              <a:chOff x="4494960" y="2262240"/>
              <a:chExt cx="741960" cy="742320"/>
            </a:xfrm>
          </p:grpSpPr>
          <p:sp>
            <p:nvSpPr>
              <p:cNvPr id="1003" name=""/>
              <p:cNvSpPr/>
              <p:nvPr/>
            </p:nvSpPr>
            <p:spPr>
              <a:xfrm>
                <a:off x="4743000" y="22622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6186800">
                <a:off x="4742280" y="226296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474228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4495320" y="25099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8996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4989600" y="27576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4741920" y="22622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8996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74228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4741920" y="30049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3504600" y="4238640"/>
            <a:ext cx="743040" cy="742680"/>
            <a:chOff x="3504600" y="4238640"/>
            <a:chExt cx="743040" cy="742680"/>
          </a:xfrm>
        </p:grpSpPr>
        <p:grpSp>
          <p:nvGrpSpPr>
            <p:cNvPr id="1014" name=""/>
            <p:cNvGrpSpPr/>
            <p:nvPr/>
          </p:nvGrpSpPr>
          <p:grpSpPr>
            <a:xfrm>
              <a:off x="3504600" y="4238640"/>
              <a:ext cx="743040" cy="739440"/>
              <a:chOff x="3504600" y="4238640"/>
              <a:chExt cx="743040" cy="739440"/>
            </a:xfrm>
          </p:grpSpPr>
          <p:sp>
            <p:nvSpPr>
              <p:cNvPr id="1015" name=""/>
              <p:cNvSpPr/>
              <p:nvPr/>
            </p:nvSpPr>
            <p:spPr>
              <a:xfrm>
                <a:off x="3753000" y="42386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6186800">
                <a:off x="3753000" y="423720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3752280" y="47318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505320" y="44856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00320" y="47318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4000320" y="47318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3752280" y="4238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00320" y="42386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752280" y="42386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3752280" y="4978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3753000" y="3745080"/>
            <a:ext cx="745560" cy="741600"/>
            <a:chOff x="3753000" y="3745080"/>
            <a:chExt cx="745560" cy="741600"/>
          </a:xfrm>
        </p:grpSpPr>
        <p:grpSp>
          <p:nvGrpSpPr>
            <p:cNvPr id="1026" name=""/>
            <p:cNvGrpSpPr/>
            <p:nvPr/>
          </p:nvGrpSpPr>
          <p:grpSpPr>
            <a:xfrm>
              <a:off x="3753000" y="3745080"/>
              <a:ext cx="742320" cy="741600"/>
              <a:chOff x="3753000" y="3745080"/>
              <a:chExt cx="742320" cy="741600"/>
            </a:xfrm>
          </p:grpSpPr>
          <p:sp>
            <p:nvSpPr>
              <p:cNvPr id="1027" name=""/>
              <p:cNvSpPr/>
              <p:nvPr/>
            </p:nvSpPr>
            <p:spPr>
              <a:xfrm rot="16200000">
                <a:off x="4000680" y="374436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0786800">
                <a:off x="4000680" y="374544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4248360" y="4239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00680" y="42397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48360" y="3992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48360" y="374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53000" y="3992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53000" y="39920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753000" y="42393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495680" y="3992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-456840" y="3500280"/>
            <a:ext cx="744120" cy="738720"/>
            <a:chOff x="-456840" y="3500280"/>
            <a:chExt cx="744120" cy="738720"/>
          </a:xfrm>
        </p:grpSpPr>
        <p:grpSp>
          <p:nvGrpSpPr>
            <p:cNvPr id="1038" name=""/>
            <p:cNvGrpSpPr/>
            <p:nvPr/>
          </p:nvGrpSpPr>
          <p:grpSpPr>
            <a:xfrm>
              <a:off x="-456840" y="3500280"/>
              <a:ext cx="740880" cy="738720"/>
              <a:chOff x="-456840" y="3500280"/>
              <a:chExt cx="740880" cy="738720"/>
            </a:xfrm>
          </p:grpSpPr>
          <p:sp>
            <p:nvSpPr>
              <p:cNvPr id="1039" name=""/>
              <p:cNvSpPr/>
              <p:nvPr/>
            </p:nvSpPr>
            <p:spPr>
              <a:xfrm rot="16200000">
                <a:off x="-209160" y="3498840"/>
                <a:ext cx="2455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0786800">
                <a:off x="-209160" y="3500640"/>
                <a:ext cx="246600" cy="737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37440" y="39927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-209520" y="399312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7440" y="37465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7440" y="350100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-45684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-456840" y="3746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-456840" y="3992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440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38880" y="3745080"/>
            <a:ext cx="743400" cy="744120"/>
            <a:chOff x="38880" y="3745080"/>
            <a:chExt cx="743400" cy="744120"/>
          </a:xfrm>
        </p:grpSpPr>
        <p:grpSp>
          <p:nvGrpSpPr>
            <p:cNvPr id="1050" name=""/>
            <p:cNvGrpSpPr/>
            <p:nvPr/>
          </p:nvGrpSpPr>
          <p:grpSpPr>
            <a:xfrm>
              <a:off x="38880" y="3745080"/>
              <a:ext cx="743400" cy="740880"/>
              <a:chOff x="38880" y="3745080"/>
              <a:chExt cx="743400" cy="740880"/>
            </a:xfrm>
          </p:grpSpPr>
          <p:sp>
            <p:nvSpPr>
              <p:cNvPr id="1051" name=""/>
              <p:cNvSpPr/>
              <p:nvPr/>
            </p:nvSpPr>
            <p:spPr>
              <a:xfrm>
                <a:off x="287280" y="374508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16186800">
                <a:off x="287280" y="374400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28692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39240" y="3992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496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534600" y="42393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286920" y="3745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496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692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286920" y="4486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34960" y="3992760"/>
            <a:ext cx="744120" cy="741960"/>
            <a:chOff x="534960" y="3992760"/>
            <a:chExt cx="744120" cy="741960"/>
          </a:xfrm>
        </p:grpSpPr>
        <p:grpSp>
          <p:nvGrpSpPr>
            <p:cNvPr id="1062" name=""/>
            <p:cNvGrpSpPr/>
            <p:nvPr/>
          </p:nvGrpSpPr>
          <p:grpSpPr>
            <a:xfrm>
              <a:off x="534960" y="3992760"/>
              <a:ext cx="740880" cy="741960"/>
              <a:chOff x="534960" y="3992760"/>
              <a:chExt cx="740880" cy="741960"/>
            </a:xfrm>
          </p:grpSpPr>
          <p:sp>
            <p:nvSpPr>
              <p:cNvPr id="1063" name=""/>
              <p:cNvSpPr/>
              <p:nvPr/>
            </p:nvSpPr>
            <p:spPr>
              <a:xfrm rot="16200000">
                <a:off x="781920" y="39927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0786800">
                <a:off x="781920" y="39931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1029240" y="4487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82280" y="4487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29240" y="4239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29240" y="3993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34960" y="4240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4960" y="4239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4960" y="4487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76200" y="4240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1029600" y="4238640"/>
            <a:ext cx="743400" cy="742680"/>
            <a:chOff x="1029600" y="4238640"/>
            <a:chExt cx="743400" cy="742680"/>
          </a:xfrm>
        </p:grpSpPr>
        <p:grpSp>
          <p:nvGrpSpPr>
            <p:cNvPr id="1074" name=""/>
            <p:cNvGrpSpPr/>
            <p:nvPr/>
          </p:nvGrpSpPr>
          <p:grpSpPr>
            <a:xfrm>
              <a:off x="1029600" y="4238640"/>
              <a:ext cx="743400" cy="739440"/>
              <a:chOff x="1029600" y="4238640"/>
              <a:chExt cx="743400" cy="739440"/>
            </a:xfrm>
          </p:grpSpPr>
          <p:sp>
            <p:nvSpPr>
              <p:cNvPr id="1075" name=""/>
              <p:cNvSpPr/>
              <p:nvPr/>
            </p:nvSpPr>
            <p:spPr>
              <a:xfrm>
                <a:off x="1278000" y="42386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6186800">
                <a:off x="1278000" y="42372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1277640" y="47318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1029960" y="44856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25680" y="47318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1525320" y="4731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1277640" y="4238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525680" y="42386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277640" y="42386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1277640" y="4978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286560" y="4486320"/>
            <a:ext cx="743400" cy="744120"/>
            <a:chOff x="286560" y="4486320"/>
            <a:chExt cx="743400" cy="744120"/>
          </a:xfrm>
        </p:grpSpPr>
        <p:grpSp>
          <p:nvGrpSpPr>
            <p:cNvPr id="1086" name=""/>
            <p:cNvGrpSpPr/>
            <p:nvPr/>
          </p:nvGrpSpPr>
          <p:grpSpPr>
            <a:xfrm>
              <a:off x="286560" y="4486320"/>
              <a:ext cx="743400" cy="740880"/>
              <a:chOff x="286560" y="4486320"/>
              <a:chExt cx="743400" cy="740880"/>
            </a:xfrm>
          </p:grpSpPr>
          <p:sp>
            <p:nvSpPr>
              <p:cNvPr id="1087" name=""/>
              <p:cNvSpPr/>
              <p:nvPr/>
            </p:nvSpPr>
            <p:spPr>
              <a:xfrm>
                <a:off x="534960" y="44863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6186800">
                <a:off x="534960" y="44852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>
              <a:off x="534600" y="4980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286920" y="4733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82640" y="4980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782280" y="49806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34600" y="4486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82640" y="44863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34600" y="44863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34600" y="52275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-209520" y="4238640"/>
            <a:ext cx="744120" cy="741600"/>
            <a:chOff x="-209520" y="4238640"/>
            <a:chExt cx="744120" cy="741600"/>
          </a:xfrm>
        </p:grpSpPr>
        <p:grpSp>
          <p:nvGrpSpPr>
            <p:cNvPr id="1098" name=""/>
            <p:cNvGrpSpPr/>
            <p:nvPr/>
          </p:nvGrpSpPr>
          <p:grpSpPr>
            <a:xfrm>
              <a:off x="-209520" y="4238640"/>
              <a:ext cx="740880" cy="741600"/>
              <a:chOff x="-209520" y="4238640"/>
              <a:chExt cx="740880" cy="741600"/>
            </a:xfrm>
          </p:grpSpPr>
          <p:sp>
            <p:nvSpPr>
              <p:cNvPr id="1099" name=""/>
              <p:cNvSpPr/>
              <p:nvPr/>
            </p:nvSpPr>
            <p:spPr>
              <a:xfrm rot="16200000">
                <a:off x="37440" y="42386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10786800">
                <a:off x="37440" y="42390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284760" y="473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800" y="4733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84760" y="4485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4760" y="4239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-20952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-209520" y="4485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-209520" y="473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172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782640" y="4734000"/>
            <a:ext cx="745920" cy="740160"/>
            <a:chOff x="782640" y="4734000"/>
            <a:chExt cx="745920" cy="740160"/>
          </a:xfrm>
        </p:grpSpPr>
        <p:grpSp>
          <p:nvGrpSpPr>
            <p:cNvPr id="1110" name=""/>
            <p:cNvGrpSpPr/>
            <p:nvPr/>
          </p:nvGrpSpPr>
          <p:grpSpPr>
            <a:xfrm>
              <a:off x="782640" y="4734000"/>
              <a:ext cx="742680" cy="740160"/>
              <a:chOff x="782640" y="4734000"/>
              <a:chExt cx="742680" cy="740160"/>
            </a:xfrm>
          </p:grpSpPr>
          <p:sp>
            <p:nvSpPr>
              <p:cNvPr id="1111" name=""/>
              <p:cNvSpPr/>
              <p:nvPr/>
            </p:nvSpPr>
            <p:spPr>
              <a:xfrm rot="16200000">
                <a:off x="1031040" y="473256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10786800">
                <a:off x="1029960" y="473436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>
              <a:off x="1278000" y="5227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30680" y="52272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78000" y="4980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78000" y="4734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82640" y="4980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82640" y="49802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82640" y="52272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25680" y="4980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39600" y="4980240"/>
            <a:ext cx="744120" cy="741960"/>
            <a:chOff x="39600" y="4980240"/>
            <a:chExt cx="744120" cy="741960"/>
          </a:xfrm>
        </p:grpSpPr>
        <p:grpSp>
          <p:nvGrpSpPr>
            <p:cNvPr id="1122" name=""/>
            <p:cNvGrpSpPr/>
            <p:nvPr/>
          </p:nvGrpSpPr>
          <p:grpSpPr>
            <a:xfrm>
              <a:off x="39600" y="4980240"/>
              <a:ext cx="740880" cy="741960"/>
              <a:chOff x="39600" y="4980240"/>
              <a:chExt cx="740880" cy="741960"/>
            </a:xfrm>
          </p:grpSpPr>
          <p:sp>
            <p:nvSpPr>
              <p:cNvPr id="1123" name=""/>
              <p:cNvSpPr/>
              <p:nvPr/>
            </p:nvSpPr>
            <p:spPr>
              <a:xfrm rot="16200000">
                <a:off x="286560" y="49802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0786800">
                <a:off x="286560" y="49806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533880" y="54748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6920" y="5475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880" y="5227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33880" y="498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960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9600" y="5227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9600" y="5474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8084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-456480" y="4734000"/>
            <a:ext cx="743400" cy="742680"/>
            <a:chOff x="-456480" y="4734000"/>
            <a:chExt cx="743400" cy="742680"/>
          </a:xfrm>
        </p:grpSpPr>
        <p:grpSp>
          <p:nvGrpSpPr>
            <p:cNvPr id="1134" name=""/>
            <p:cNvGrpSpPr/>
            <p:nvPr/>
          </p:nvGrpSpPr>
          <p:grpSpPr>
            <a:xfrm>
              <a:off x="-456480" y="4734000"/>
              <a:ext cx="743400" cy="739440"/>
              <a:chOff x="-456480" y="4734000"/>
              <a:chExt cx="743400" cy="739440"/>
            </a:xfrm>
          </p:grpSpPr>
          <p:sp>
            <p:nvSpPr>
              <p:cNvPr id="1135" name=""/>
              <p:cNvSpPr/>
              <p:nvPr/>
            </p:nvSpPr>
            <p:spPr>
              <a:xfrm>
                <a:off x="-207720" y="47340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6186800">
                <a:off x="-207720" y="47325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-20808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-456120" y="49809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960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9240" y="52272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-208080" y="4734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960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-20808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-208080" y="54738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534240" y="5226120"/>
            <a:ext cx="743400" cy="742680"/>
            <a:chOff x="534240" y="5226120"/>
            <a:chExt cx="743400" cy="742680"/>
          </a:xfrm>
        </p:grpSpPr>
        <p:grpSp>
          <p:nvGrpSpPr>
            <p:cNvPr id="1146" name=""/>
            <p:cNvGrpSpPr/>
            <p:nvPr/>
          </p:nvGrpSpPr>
          <p:grpSpPr>
            <a:xfrm>
              <a:off x="534240" y="5226120"/>
              <a:ext cx="743400" cy="739440"/>
              <a:chOff x="534240" y="5226120"/>
              <a:chExt cx="743400" cy="739440"/>
            </a:xfrm>
          </p:grpSpPr>
          <p:sp>
            <p:nvSpPr>
              <p:cNvPr id="1147" name=""/>
              <p:cNvSpPr/>
              <p:nvPr/>
            </p:nvSpPr>
            <p:spPr>
              <a:xfrm>
                <a:off x="782640" y="5226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6186800">
                <a:off x="782640" y="5224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782280" y="5719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534600" y="5473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030320" y="5719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1029960" y="5719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782280" y="5226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030320" y="5226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2280" y="5226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782280" y="5965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277280" y="4979880"/>
            <a:ext cx="743400" cy="742680"/>
            <a:chOff x="1277280" y="4979880"/>
            <a:chExt cx="743400" cy="742680"/>
          </a:xfrm>
        </p:grpSpPr>
        <p:grpSp>
          <p:nvGrpSpPr>
            <p:cNvPr id="1158" name=""/>
            <p:cNvGrpSpPr/>
            <p:nvPr/>
          </p:nvGrpSpPr>
          <p:grpSpPr>
            <a:xfrm>
              <a:off x="1277280" y="4979880"/>
              <a:ext cx="743400" cy="739440"/>
              <a:chOff x="1277280" y="4979880"/>
              <a:chExt cx="743400" cy="739440"/>
            </a:xfrm>
          </p:grpSpPr>
          <p:sp>
            <p:nvSpPr>
              <p:cNvPr id="1159" name=""/>
              <p:cNvSpPr/>
              <p:nvPr/>
            </p:nvSpPr>
            <p:spPr>
              <a:xfrm>
                <a:off x="1525680" y="49798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16186800">
                <a:off x="1525680" y="49784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1525320" y="5473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1277640" y="5226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73360" y="5473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1773000" y="5473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1525320" y="4979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73360" y="49798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525320" y="49798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1525320" y="5719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1030320" y="5473800"/>
            <a:ext cx="745560" cy="740160"/>
            <a:chOff x="1030320" y="5473800"/>
            <a:chExt cx="745560" cy="740160"/>
          </a:xfrm>
        </p:grpSpPr>
        <p:grpSp>
          <p:nvGrpSpPr>
            <p:cNvPr id="1170" name=""/>
            <p:cNvGrpSpPr/>
            <p:nvPr/>
          </p:nvGrpSpPr>
          <p:grpSpPr>
            <a:xfrm>
              <a:off x="1030320" y="5473800"/>
              <a:ext cx="742320" cy="740160"/>
              <a:chOff x="1030320" y="5473800"/>
              <a:chExt cx="742320" cy="740160"/>
            </a:xfrm>
          </p:grpSpPr>
          <p:sp>
            <p:nvSpPr>
              <p:cNvPr id="1171" name=""/>
              <p:cNvSpPr/>
              <p:nvPr/>
            </p:nvSpPr>
            <p:spPr>
              <a:xfrm rot="16200000">
                <a:off x="1278360" y="54723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10786800">
                <a:off x="1278000" y="547416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>
              <a:off x="1525680" y="596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278000" y="5967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525680" y="5720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25680" y="54738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30320" y="5720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30320" y="57200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30320" y="59670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773000" y="5720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516040" y="4980240"/>
            <a:ext cx="745920" cy="741960"/>
            <a:chOff x="2516040" y="4980240"/>
            <a:chExt cx="745920" cy="741960"/>
          </a:xfrm>
        </p:grpSpPr>
        <p:grpSp>
          <p:nvGrpSpPr>
            <p:cNvPr id="1182" name=""/>
            <p:cNvGrpSpPr/>
            <p:nvPr/>
          </p:nvGrpSpPr>
          <p:grpSpPr>
            <a:xfrm>
              <a:off x="2516040" y="4980240"/>
              <a:ext cx="742680" cy="741960"/>
              <a:chOff x="2516040" y="4980240"/>
              <a:chExt cx="742680" cy="741960"/>
            </a:xfrm>
          </p:grpSpPr>
          <p:sp>
            <p:nvSpPr>
              <p:cNvPr id="1183" name=""/>
              <p:cNvSpPr/>
              <p:nvPr/>
            </p:nvSpPr>
            <p:spPr>
              <a:xfrm rot="16200000">
                <a:off x="2764080" y="49795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0786800">
                <a:off x="2763360" y="4980600"/>
                <a:ext cx="2473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5" name=""/>
            <p:cNvSpPr/>
            <p:nvPr/>
          </p:nvSpPr>
          <p:spPr>
            <a:xfrm>
              <a:off x="3011400" y="5474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4080" y="5475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011400" y="5227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11400" y="498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51604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516040" y="52272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516040" y="54748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5908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1773360" y="5226120"/>
            <a:ext cx="745560" cy="741600"/>
            <a:chOff x="1773360" y="5226120"/>
            <a:chExt cx="745560" cy="741600"/>
          </a:xfrm>
        </p:grpSpPr>
        <p:grpSp>
          <p:nvGrpSpPr>
            <p:cNvPr id="1194" name=""/>
            <p:cNvGrpSpPr/>
            <p:nvPr/>
          </p:nvGrpSpPr>
          <p:grpSpPr>
            <a:xfrm>
              <a:off x="1773360" y="5226120"/>
              <a:ext cx="742320" cy="741600"/>
              <a:chOff x="1773360" y="5226120"/>
              <a:chExt cx="742320" cy="741600"/>
            </a:xfrm>
          </p:grpSpPr>
          <p:sp>
            <p:nvSpPr>
              <p:cNvPr id="1195" name=""/>
              <p:cNvSpPr/>
              <p:nvPr/>
            </p:nvSpPr>
            <p:spPr>
              <a:xfrm rot="16200000">
                <a:off x="2021040" y="522540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10786800">
                <a:off x="2021040" y="522648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2268720" y="5720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21040" y="5720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68720" y="5473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68720" y="5226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773360" y="5473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773360" y="5473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773360" y="57204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516040" y="5473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1524960" y="5721480"/>
            <a:ext cx="743040" cy="742320"/>
            <a:chOff x="1524960" y="5721480"/>
            <a:chExt cx="743040" cy="742320"/>
          </a:xfrm>
        </p:grpSpPr>
        <p:grpSp>
          <p:nvGrpSpPr>
            <p:cNvPr id="1206" name=""/>
            <p:cNvGrpSpPr/>
            <p:nvPr/>
          </p:nvGrpSpPr>
          <p:grpSpPr>
            <a:xfrm>
              <a:off x="1524960" y="5721480"/>
              <a:ext cx="743040" cy="739080"/>
              <a:chOff x="1524960" y="5721480"/>
              <a:chExt cx="743040" cy="739080"/>
            </a:xfrm>
          </p:grpSpPr>
          <p:sp>
            <p:nvSpPr>
              <p:cNvPr id="1207" name=""/>
              <p:cNvSpPr/>
              <p:nvPr/>
            </p:nvSpPr>
            <p:spPr>
              <a:xfrm>
                <a:off x="1773360" y="57214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16186800">
                <a:off x="1773360" y="5719680"/>
                <a:ext cx="24588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1772640" y="6214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1525680" y="59680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20680" y="6214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2020680" y="62146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1772640" y="5721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020680" y="57214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772640" y="57214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1772640" y="6460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2267640" y="5473800"/>
            <a:ext cx="741960" cy="744120"/>
            <a:chOff x="2267640" y="5473800"/>
            <a:chExt cx="741960" cy="744120"/>
          </a:xfrm>
        </p:grpSpPr>
        <p:grpSp>
          <p:nvGrpSpPr>
            <p:cNvPr id="1218" name=""/>
            <p:cNvGrpSpPr/>
            <p:nvPr/>
          </p:nvGrpSpPr>
          <p:grpSpPr>
            <a:xfrm>
              <a:off x="2267640" y="5473800"/>
              <a:ext cx="741960" cy="740880"/>
              <a:chOff x="2267640" y="5473800"/>
              <a:chExt cx="741960" cy="740880"/>
            </a:xfrm>
          </p:grpSpPr>
          <p:sp>
            <p:nvSpPr>
              <p:cNvPr id="1219" name=""/>
              <p:cNvSpPr/>
              <p:nvPr/>
            </p:nvSpPr>
            <p:spPr>
              <a:xfrm>
                <a:off x="2515680" y="5473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16186800">
                <a:off x="2515320" y="54734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1" name=""/>
            <p:cNvSpPr/>
            <p:nvPr/>
          </p:nvSpPr>
          <p:spPr>
            <a:xfrm>
              <a:off x="251496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268000" y="57211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76264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2762280" y="59680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2514600" y="5473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76264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1496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2514600" y="62150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257640" y="4734000"/>
            <a:ext cx="747360" cy="740160"/>
            <a:chOff x="3257640" y="4734000"/>
            <a:chExt cx="747360" cy="740160"/>
          </a:xfrm>
        </p:grpSpPr>
        <p:grpSp>
          <p:nvGrpSpPr>
            <p:cNvPr id="1230" name=""/>
            <p:cNvGrpSpPr/>
            <p:nvPr/>
          </p:nvGrpSpPr>
          <p:grpSpPr>
            <a:xfrm>
              <a:off x="3257640" y="4734000"/>
              <a:ext cx="744120" cy="740160"/>
              <a:chOff x="3257640" y="4734000"/>
              <a:chExt cx="744120" cy="740160"/>
            </a:xfrm>
          </p:grpSpPr>
          <p:sp>
            <p:nvSpPr>
              <p:cNvPr id="1231" name=""/>
              <p:cNvSpPr/>
              <p:nvPr/>
            </p:nvSpPr>
            <p:spPr>
              <a:xfrm rot="16200000">
                <a:off x="3506760" y="4731840"/>
                <a:ext cx="24588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0786800">
                <a:off x="3506040" y="4734360"/>
                <a:ext cx="2476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3754080" y="5227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506040" y="52272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54080" y="49802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54080" y="4734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257640" y="4980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57640" y="498024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57640" y="522720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02120" y="4980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-208800" y="5473800"/>
            <a:ext cx="743400" cy="744120"/>
            <a:chOff x="-208800" y="5473800"/>
            <a:chExt cx="743400" cy="744120"/>
          </a:xfrm>
        </p:grpSpPr>
        <p:grpSp>
          <p:nvGrpSpPr>
            <p:cNvPr id="1242" name=""/>
            <p:cNvGrpSpPr/>
            <p:nvPr/>
          </p:nvGrpSpPr>
          <p:grpSpPr>
            <a:xfrm>
              <a:off x="-208800" y="5473800"/>
              <a:ext cx="743400" cy="740880"/>
              <a:chOff x="-208800" y="5473800"/>
              <a:chExt cx="743400" cy="740880"/>
            </a:xfrm>
          </p:grpSpPr>
          <p:sp>
            <p:nvSpPr>
              <p:cNvPr id="1243" name=""/>
              <p:cNvSpPr/>
              <p:nvPr/>
            </p:nvSpPr>
            <p:spPr>
              <a:xfrm>
                <a:off x="39600" y="54738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16186800">
                <a:off x="39600" y="54727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>
              <a:off x="3924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-208440" y="57211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8728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286920" y="5968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39240" y="54738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8728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24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39240" y="6215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287280" y="5721480"/>
            <a:ext cx="744120" cy="741600"/>
            <a:chOff x="287280" y="5721480"/>
            <a:chExt cx="744120" cy="741600"/>
          </a:xfrm>
        </p:grpSpPr>
        <p:grpSp>
          <p:nvGrpSpPr>
            <p:cNvPr id="1254" name=""/>
            <p:cNvGrpSpPr/>
            <p:nvPr/>
          </p:nvGrpSpPr>
          <p:grpSpPr>
            <a:xfrm>
              <a:off x="287280" y="5721480"/>
              <a:ext cx="740880" cy="741600"/>
              <a:chOff x="287280" y="5721480"/>
              <a:chExt cx="740880" cy="741600"/>
            </a:xfrm>
          </p:grpSpPr>
          <p:sp>
            <p:nvSpPr>
              <p:cNvPr id="1255" name=""/>
              <p:cNvSpPr/>
              <p:nvPr/>
            </p:nvSpPr>
            <p:spPr>
              <a:xfrm rot="16200000">
                <a:off x="534240" y="57214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10786800">
                <a:off x="534240" y="57218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781560" y="62157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34600" y="62161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81560" y="5968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81560" y="5722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87280" y="59688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87280" y="5968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87280" y="6215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028520" y="59688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781920" y="5967360"/>
            <a:ext cx="743400" cy="742680"/>
            <a:chOff x="781920" y="5967360"/>
            <a:chExt cx="743400" cy="742680"/>
          </a:xfrm>
        </p:grpSpPr>
        <p:grpSp>
          <p:nvGrpSpPr>
            <p:cNvPr id="1266" name=""/>
            <p:cNvGrpSpPr/>
            <p:nvPr/>
          </p:nvGrpSpPr>
          <p:grpSpPr>
            <a:xfrm>
              <a:off x="781920" y="5967360"/>
              <a:ext cx="743400" cy="739440"/>
              <a:chOff x="781920" y="5967360"/>
              <a:chExt cx="743400" cy="739440"/>
            </a:xfrm>
          </p:grpSpPr>
          <p:sp>
            <p:nvSpPr>
              <p:cNvPr id="1267" name=""/>
              <p:cNvSpPr/>
              <p:nvPr/>
            </p:nvSpPr>
            <p:spPr>
              <a:xfrm>
                <a:off x="1030320" y="5967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6186800">
                <a:off x="1030320" y="59659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>
              <a:off x="1029960" y="6460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782280" y="6214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278000" y="6460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1277640" y="6460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029960" y="5967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278000" y="5967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029960" y="5967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1029960" y="6707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1278000" y="6213600"/>
            <a:ext cx="745560" cy="741600"/>
            <a:chOff x="1278000" y="6213600"/>
            <a:chExt cx="745560" cy="741600"/>
          </a:xfrm>
        </p:grpSpPr>
        <p:grpSp>
          <p:nvGrpSpPr>
            <p:cNvPr id="1278" name=""/>
            <p:cNvGrpSpPr/>
            <p:nvPr/>
          </p:nvGrpSpPr>
          <p:grpSpPr>
            <a:xfrm>
              <a:off x="1278000" y="6213600"/>
              <a:ext cx="742320" cy="741600"/>
              <a:chOff x="1278000" y="6213600"/>
              <a:chExt cx="742320" cy="741600"/>
            </a:xfrm>
          </p:grpSpPr>
          <p:sp>
            <p:nvSpPr>
              <p:cNvPr id="1279" name=""/>
              <p:cNvSpPr/>
              <p:nvPr/>
            </p:nvSpPr>
            <p:spPr>
              <a:xfrm rot="16200000">
                <a:off x="1525680" y="62128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0786800">
                <a:off x="1525680" y="621396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1773360" y="6707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525680" y="6708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773360" y="6460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73360" y="62143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278000" y="6460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278000" y="64605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78000" y="67078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20680" y="6460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1772640" y="6462720"/>
            <a:ext cx="743040" cy="742680"/>
            <a:chOff x="1772640" y="6462720"/>
            <a:chExt cx="743040" cy="742680"/>
          </a:xfrm>
        </p:grpSpPr>
        <p:grpSp>
          <p:nvGrpSpPr>
            <p:cNvPr id="1290" name=""/>
            <p:cNvGrpSpPr/>
            <p:nvPr/>
          </p:nvGrpSpPr>
          <p:grpSpPr>
            <a:xfrm>
              <a:off x="1772640" y="6462720"/>
              <a:ext cx="743040" cy="739440"/>
              <a:chOff x="1772640" y="6462720"/>
              <a:chExt cx="743040" cy="739440"/>
            </a:xfrm>
          </p:grpSpPr>
          <p:sp>
            <p:nvSpPr>
              <p:cNvPr id="1291" name=""/>
              <p:cNvSpPr/>
              <p:nvPr/>
            </p:nvSpPr>
            <p:spPr>
              <a:xfrm>
                <a:off x="2021040" y="64627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6186800">
                <a:off x="2021040" y="646128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2020320" y="6955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1773360" y="67096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68360" y="6955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2268360" y="69559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2020320" y="64627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268360" y="64627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020320" y="64627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2020320" y="7202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2021040" y="5967360"/>
            <a:ext cx="745560" cy="740160"/>
            <a:chOff x="2021040" y="5967360"/>
            <a:chExt cx="745560" cy="740160"/>
          </a:xfrm>
        </p:grpSpPr>
        <p:grpSp>
          <p:nvGrpSpPr>
            <p:cNvPr id="1302" name=""/>
            <p:cNvGrpSpPr/>
            <p:nvPr/>
          </p:nvGrpSpPr>
          <p:grpSpPr>
            <a:xfrm>
              <a:off x="2021040" y="5967360"/>
              <a:ext cx="742320" cy="740160"/>
              <a:chOff x="2021040" y="5967360"/>
              <a:chExt cx="742320" cy="740160"/>
            </a:xfrm>
          </p:grpSpPr>
          <p:sp>
            <p:nvSpPr>
              <p:cNvPr id="1303" name=""/>
              <p:cNvSpPr/>
              <p:nvPr/>
            </p:nvSpPr>
            <p:spPr>
              <a:xfrm rot="16200000">
                <a:off x="2269080" y="596592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10786800">
                <a:off x="2268720" y="596772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2516400" y="6460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68720" y="6460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516400" y="6213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16400" y="5967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02104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021040" y="62136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021040" y="64605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6372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3009240" y="5226120"/>
            <a:ext cx="743400" cy="742680"/>
            <a:chOff x="3009240" y="5226120"/>
            <a:chExt cx="743400" cy="742680"/>
          </a:xfrm>
        </p:grpSpPr>
        <p:grpSp>
          <p:nvGrpSpPr>
            <p:cNvPr id="1314" name=""/>
            <p:cNvGrpSpPr/>
            <p:nvPr/>
          </p:nvGrpSpPr>
          <p:grpSpPr>
            <a:xfrm>
              <a:off x="3009240" y="5226120"/>
              <a:ext cx="743400" cy="739440"/>
              <a:chOff x="3009240" y="5226120"/>
              <a:chExt cx="743400" cy="739440"/>
            </a:xfrm>
          </p:grpSpPr>
          <p:sp>
            <p:nvSpPr>
              <p:cNvPr id="1315" name=""/>
              <p:cNvSpPr/>
              <p:nvPr/>
            </p:nvSpPr>
            <p:spPr>
              <a:xfrm>
                <a:off x="3257640" y="5226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16186800">
                <a:off x="3257640" y="5224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7" name=""/>
            <p:cNvSpPr/>
            <p:nvPr/>
          </p:nvSpPr>
          <p:spPr>
            <a:xfrm>
              <a:off x="3257280" y="5719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3009600" y="5473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505320" y="5719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3504960" y="5719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257280" y="5226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505320" y="5226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57280" y="5226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3257280" y="5965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2763720" y="5721480"/>
            <a:ext cx="745920" cy="741600"/>
            <a:chOff x="2763720" y="5721480"/>
            <a:chExt cx="745920" cy="741600"/>
          </a:xfrm>
        </p:grpSpPr>
        <p:grpSp>
          <p:nvGrpSpPr>
            <p:cNvPr id="1326" name=""/>
            <p:cNvGrpSpPr/>
            <p:nvPr/>
          </p:nvGrpSpPr>
          <p:grpSpPr>
            <a:xfrm>
              <a:off x="2763720" y="5721480"/>
              <a:ext cx="742680" cy="741600"/>
              <a:chOff x="2763720" y="5721480"/>
              <a:chExt cx="742680" cy="741600"/>
            </a:xfrm>
          </p:grpSpPr>
          <p:sp>
            <p:nvSpPr>
              <p:cNvPr id="1327" name=""/>
              <p:cNvSpPr/>
              <p:nvPr/>
            </p:nvSpPr>
            <p:spPr>
              <a:xfrm rot="16200000">
                <a:off x="3011760" y="572076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10786800">
                <a:off x="3011040" y="572184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>
              <a:off x="3259080" y="6215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11760" y="62161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259080" y="5968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259080" y="5722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763720" y="59688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763720" y="59684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763720" y="62157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506760" y="59688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2515320" y="6213600"/>
            <a:ext cx="741960" cy="742320"/>
            <a:chOff x="2515320" y="6213600"/>
            <a:chExt cx="741960" cy="742320"/>
          </a:xfrm>
        </p:grpSpPr>
        <p:grpSp>
          <p:nvGrpSpPr>
            <p:cNvPr id="1338" name=""/>
            <p:cNvGrpSpPr/>
            <p:nvPr/>
          </p:nvGrpSpPr>
          <p:grpSpPr>
            <a:xfrm>
              <a:off x="2515320" y="6213600"/>
              <a:ext cx="741960" cy="739080"/>
              <a:chOff x="2515320" y="6213600"/>
              <a:chExt cx="741960" cy="739080"/>
            </a:xfrm>
          </p:grpSpPr>
          <p:sp>
            <p:nvSpPr>
              <p:cNvPr id="1339" name=""/>
              <p:cNvSpPr/>
              <p:nvPr/>
            </p:nvSpPr>
            <p:spPr>
              <a:xfrm>
                <a:off x="2763360" y="621360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6186800">
                <a:off x="2763360" y="62121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276264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515680" y="6460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01032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3009960" y="6706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2762280" y="6213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01032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6264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2762280" y="69530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5237280" y="5719680"/>
            <a:ext cx="745560" cy="740160"/>
            <a:chOff x="5237280" y="5719680"/>
            <a:chExt cx="745560" cy="740160"/>
          </a:xfrm>
        </p:grpSpPr>
        <p:grpSp>
          <p:nvGrpSpPr>
            <p:cNvPr id="1350" name=""/>
            <p:cNvGrpSpPr/>
            <p:nvPr/>
          </p:nvGrpSpPr>
          <p:grpSpPr>
            <a:xfrm>
              <a:off x="5237280" y="5719680"/>
              <a:ext cx="742320" cy="740160"/>
              <a:chOff x="5237280" y="5719680"/>
              <a:chExt cx="742320" cy="740160"/>
            </a:xfrm>
          </p:grpSpPr>
          <p:sp>
            <p:nvSpPr>
              <p:cNvPr id="1351" name=""/>
              <p:cNvSpPr/>
              <p:nvPr/>
            </p:nvSpPr>
            <p:spPr>
              <a:xfrm rot="16200000">
                <a:off x="5485320" y="571824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0786800">
                <a:off x="5484960" y="572004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5732640" y="6212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84960" y="62128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732640" y="5965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732640" y="57196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237280" y="59666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237280" y="59659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237280" y="62128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79960" y="59666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7220880" y="533520"/>
            <a:ext cx="743400" cy="742320"/>
            <a:chOff x="7220880" y="533520"/>
            <a:chExt cx="743400" cy="742320"/>
          </a:xfrm>
        </p:grpSpPr>
        <p:grpSp>
          <p:nvGrpSpPr>
            <p:cNvPr id="1362" name=""/>
            <p:cNvGrpSpPr/>
            <p:nvPr/>
          </p:nvGrpSpPr>
          <p:grpSpPr>
            <a:xfrm>
              <a:off x="7220880" y="533520"/>
              <a:ext cx="743400" cy="739080"/>
              <a:chOff x="7220880" y="533520"/>
              <a:chExt cx="743400" cy="739080"/>
            </a:xfrm>
          </p:grpSpPr>
          <p:sp>
            <p:nvSpPr>
              <p:cNvPr id="1363" name=""/>
              <p:cNvSpPr/>
              <p:nvPr/>
            </p:nvSpPr>
            <p:spPr>
              <a:xfrm>
                <a:off x="7469280" y="53352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16186800">
                <a:off x="7469640" y="5313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5" name=""/>
            <p:cNvSpPr/>
            <p:nvPr/>
          </p:nvSpPr>
          <p:spPr>
            <a:xfrm>
              <a:off x="7468920" y="10267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7221240" y="7801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716960" y="10267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7716600" y="10267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7468920" y="533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16960" y="53352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468920" y="53352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7468920" y="12729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725520" y="1519200"/>
            <a:ext cx="743400" cy="742680"/>
            <a:chOff x="6725520" y="1519200"/>
            <a:chExt cx="743400" cy="742680"/>
          </a:xfrm>
        </p:grpSpPr>
        <p:grpSp>
          <p:nvGrpSpPr>
            <p:cNvPr id="1374" name=""/>
            <p:cNvGrpSpPr/>
            <p:nvPr/>
          </p:nvGrpSpPr>
          <p:grpSpPr>
            <a:xfrm>
              <a:off x="6725520" y="1519200"/>
              <a:ext cx="743400" cy="739440"/>
              <a:chOff x="6725520" y="1519200"/>
              <a:chExt cx="743400" cy="739440"/>
            </a:xfrm>
          </p:grpSpPr>
          <p:sp>
            <p:nvSpPr>
              <p:cNvPr id="1375" name=""/>
              <p:cNvSpPr/>
              <p:nvPr/>
            </p:nvSpPr>
            <p:spPr>
              <a:xfrm>
                <a:off x="6973920" y="15192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6186800">
                <a:off x="6973920" y="15177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7" name=""/>
            <p:cNvSpPr/>
            <p:nvPr/>
          </p:nvSpPr>
          <p:spPr>
            <a:xfrm>
              <a:off x="6973560" y="2012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6725880" y="17661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221600" y="2012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7221240" y="2012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6973560" y="1519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21600" y="1519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3560" y="1519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6973560" y="2259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737320" y="-206280"/>
            <a:ext cx="744120" cy="740160"/>
            <a:chOff x="5737320" y="-206280"/>
            <a:chExt cx="744120" cy="740160"/>
          </a:xfrm>
        </p:grpSpPr>
        <p:grpSp>
          <p:nvGrpSpPr>
            <p:cNvPr id="1386" name=""/>
            <p:cNvGrpSpPr/>
            <p:nvPr/>
          </p:nvGrpSpPr>
          <p:grpSpPr>
            <a:xfrm>
              <a:off x="5737320" y="-206280"/>
              <a:ext cx="740880" cy="740160"/>
              <a:chOff x="5737320" y="-206280"/>
              <a:chExt cx="740880" cy="740160"/>
            </a:xfrm>
          </p:grpSpPr>
          <p:sp>
            <p:nvSpPr>
              <p:cNvPr id="1387" name=""/>
              <p:cNvSpPr/>
              <p:nvPr/>
            </p:nvSpPr>
            <p:spPr>
              <a:xfrm rot="16200000">
                <a:off x="5984640" y="-2066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0786800">
                <a:off x="5984280" y="-2055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9" name=""/>
            <p:cNvSpPr/>
            <p:nvPr/>
          </p:nvSpPr>
          <p:spPr>
            <a:xfrm>
              <a:off x="6231600" y="286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984640" y="286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231600" y="39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231600" y="-206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37680" y="40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37320" y="39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37320" y="286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478560" y="40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7469280" y="2508480"/>
            <a:ext cx="744120" cy="741960"/>
            <a:chOff x="7469280" y="2508480"/>
            <a:chExt cx="744120" cy="741960"/>
          </a:xfrm>
        </p:grpSpPr>
        <p:grpSp>
          <p:nvGrpSpPr>
            <p:cNvPr id="1398" name=""/>
            <p:cNvGrpSpPr/>
            <p:nvPr/>
          </p:nvGrpSpPr>
          <p:grpSpPr>
            <a:xfrm>
              <a:off x="7469280" y="2508480"/>
              <a:ext cx="740880" cy="741960"/>
              <a:chOff x="7469280" y="2508480"/>
              <a:chExt cx="740880" cy="741960"/>
            </a:xfrm>
          </p:grpSpPr>
          <p:sp>
            <p:nvSpPr>
              <p:cNvPr id="1399" name=""/>
              <p:cNvSpPr/>
              <p:nvPr/>
            </p:nvSpPr>
            <p:spPr>
              <a:xfrm rot="16200000">
                <a:off x="7716240" y="25084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0786800">
                <a:off x="7716240" y="2508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7963560" y="3003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716600" y="3003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963560" y="2755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963560" y="2509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69280" y="2756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69280" y="275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69280" y="3003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210520" y="2756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6973920" y="1027080"/>
            <a:ext cx="744120" cy="741600"/>
            <a:chOff x="6973920" y="1027080"/>
            <a:chExt cx="744120" cy="741600"/>
          </a:xfrm>
        </p:grpSpPr>
        <p:grpSp>
          <p:nvGrpSpPr>
            <p:cNvPr id="1410" name=""/>
            <p:cNvGrpSpPr/>
            <p:nvPr/>
          </p:nvGrpSpPr>
          <p:grpSpPr>
            <a:xfrm>
              <a:off x="6973920" y="1027080"/>
              <a:ext cx="740880" cy="741600"/>
              <a:chOff x="6973920" y="1027080"/>
              <a:chExt cx="740880" cy="741600"/>
            </a:xfrm>
          </p:grpSpPr>
          <p:sp>
            <p:nvSpPr>
              <p:cNvPr id="1411" name=""/>
              <p:cNvSpPr/>
              <p:nvPr/>
            </p:nvSpPr>
            <p:spPr>
              <a:xfrm rot="16200000">
                <a:off x="7220880" y="10270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10786800">
                <a:off x="7220880" y="10274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7468200" y="15213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221240" y="15217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8200" y="1274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468200" y="1027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973920" y="1274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973920" y="1274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973920" y="1521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715160" y="1274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5489640" y="1519200"/>
            <a:ext cx="744120" cy="741600"/>
            <a:chOff x="5489640" y="1519200"/>
            <a:chExt cx="744120" cy="741600"/>
          </a:xfrm>
        </p:grpSpPr>
        <p:grpSp>
          <p:nvGrpSpPr>
            <p:cNvPr id="1422" name=""/>
            <p:cNvGrpSpPr/>
            <p:nvPr/>
          </p:nvGrpSpPr>
          <p:grpSpPr>
            <a:xfrm>
              <a:off x="5489640" y="1519200"/>
              <a:ext cx="740880" cy="741600"/>
              <a:chOff x="5489640" y="1519200"/>
              <a:chExt cx="740880" cy="741600"/>
            </a:xfrm>
          </p:grpSpPr>
          <p:sp>
            <p:nvSpPr>
              <p:cNvPr id="1423" name=""/>
              <p:cNvSpPr/>
              <p:nvPr/>
            </p:nvSpPr>
            <p:spPr>
              <a:xfrm rot="16200000">
                <a:off x="5736600" y="15192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0786800">
                <a:off x="5736600" y="151956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5983920" y="2013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736960" y="2013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983920" y="1766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83920" y="15199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489640" y="1766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489640" y="1766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89640" y="2013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30880" y="1766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6230160" y="38160"/>
            <a:ext cx="743400" cy="745560"/>
            <a:chOff x="6230160" y="38160"/>
            <a:chExt cx="743400" cy="745560"/>
          </a:xfrm>
        </p:grpSpPr>
        <p:grpSp>
          <p:nvGrpSpPr>
            <p:cNvPr id="1434" name=""/>
            <p:cNvGrpSpPr/>
            <p:nvPr/>
          </p:nvGrpSpPr>
          <p:grpSpPr>
            <a:xfrm>
              <a:off x="6230160" y="38160"/>
              <a:ext cx="743400" cy="742320"/>
              <a:chOff x="6230160" y="38160"/>
              <a:chExt cx="743400" cy="742320"/>
            </a:xfrm>
          </p:grpSpPr>
          <p:sp>
            <p:nvSpPr>
              <p:cNvPr id="1435" name=""/>
              <p:cNvSpPr/>
              <p:nvPr/>
            </p:nvSpPr>
            <p:spPr>
              <a:xfrm>
                <a:off x="6478560" y="3816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6186800">
                <a:off x="6478200" y="3816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7" name=""/>
            <p:cNvSpPr/>
            <p:nvPr/>
          </p:nvSpPr>
          <p:spPr>
            <a:xfrm>
              <a:off x="6478200" y="533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6230520" y="285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26240" y="533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6725880" y="5335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6478200" y="38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726240" y="3816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478200" y="3816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6478200" y="780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6477840" y="779400"/>
            <a:ext cx="743400" cy="745920"/>
            <a:chOff x="6477840" y="779400"/>
            <a:chExt cx="743400" cy="745920"/>
          </a:xfrm>
        </p:grpSpPr>
        <p:grpSp>
          <p:nvGrpSpPr>
            <p:cNvPr id="1446" name=""/>
            <p:cNvGrpSpPr/>
            <p:nvPr/>
          </p:nvGrpSpPr>
          <p:grpSpPr>
            <a:xfrm>
              <a:off x="6477840" y="779400"/>
              <a:ext cx="743400" cy="742680"/>
              <a:chOff x="6477840" y="779400"/>
              <a:chExt cx="743400" cy="742680"/>
            </a:xfrm>
          </p:grpSpPr>
          <p:sp>
            <p:nvSpPr>
              <p:cNvPr id="1447" name=""/>
              <p:cNvSpPr/>
              <p:nvPr/>
            </p:nvSpPr>
            <p:spPr>
              <a:xfrm>
                <a:off x="6726240" y="779400"/>
                <a:ext cx="24696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6186800">
                <a:off x="6725880" y="779040"/>
                <a:ext cx="24732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9" name=""/>
            <p:cNvSpPr/>
            <p:nvPr/>
          </p:nvSpPr>
          <p:spPr>
            <a:xfrm>
              <a:off x="6725880" y="12747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6478200" y="1027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973920" y="12747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973560" y="1274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6725880" y="779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973920" y="779400"/>
              <a:ext cx="0" cy="2480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25880" y="779400"/>
              <a:ext cx="0" cy="2480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6725880" y="1522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6726240" y="285840"/>
            <a:ext cx="744120" cy="741600"/>
            <a:chOff x="6726240" y="285840"/>
            <a:chExt cx="744120" cy="741600"/>
          </a:xfrm>
        </p:grpSpPr>
        <p:grpSp>
          <p:nvGrpSpPr>
            <p:cNvPr id="1458" name=""/>
            <p:cNvGrpSpPr/>
            <p:nvPr/>
          </p:nvGrpSpPr>
          <p:grpSpPr>
            <a:xfrm>
              <a:off x="6726240" y="285840"/>
              <a:ext cx="740880" cy="741600"/>
              <a:chOff x="6726240" y="285840"/>
              <a:chExt cx="740880" cy="741600"/>
            </a:xfrm>
          </p:grpSpPr>
          <p:sp>
            <p:nvSpPr>
              <p:cNvPr id="1459" name=""/>
              <p:cNvSpPr/>
              <p:nvPr/>
            </p:nvSpPr>
            <p:spPr>
              <a:xfrm rot="16200000">
                <a:off x="6973200" y="285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10786800">
                <a:off x="6973200" y="2862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7220520" y="780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973560" y="780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220520" y="532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220520" y="286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726240" y="533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26240" y="532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726240" y="780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467480" y="533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983200" y="533520"/>
            <a:ext cx="745920" cy="741600"/>
            <a:chOff x="5983200" y="533520"/>
            <a:chExt cx="745920" cy="741600"/>
          </a:xfrm>
        </p:grpSpPr>
        <p:grpSp>
          <p:nvGrpSpPr>
            <p:cNvPr id="1470" name=""/>
            <p:cNvGrpSpPr/>
            <p:nvPr/>
          </p:nvGrpSpPr>
          <p:grpSpPr>
            <a:xfrm>
              <a:off x="5983200" y="533520"/>
              <a:ext cx="742680" cy="741600"/>
              <a:chOff x="5983200" y="533520"/>
              <a:chExt cx="742680" cy="741600"/>
            </a:xfrm>
          </p:grpSpPr>
          <p:sp>
            <p:nvSpPr>
              <p:cNvPr id="1471" name=""/>
              <p:cNvSpPr/>
              <p:nvPr/>
            </p:nvSpPr>
            <p:spPr>
              <a:xfrm rot="16200000">
                <a:off x="6231240" y="5328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10786800">
                <a:off x="6230520" y="5338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3" name=""/>
            <p:cNvSpPr/>
            <p:nvPr/>
          </p:nvSpPr>
          <p:spPr>
            <a:xfrm>
              <a:off x="6478560" y="1027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31240" y="1028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478560" y="780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478560" y="534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983200" y="780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983200" y="7804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983200" y="10278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26240" y="780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5736600" y="1027080"/>
            <a:ext cx="741600" cy="742680"/>
            <a:chOff x="5736600" y="1027080"/>
            <a:chExt cx="741600" cy="742680"/>
          </a:xfrm>
        </p:grpSpPr>
        <p:grpSp>
          <p:nvGrpSpPr>
            <p:cNvPr id="1482" name=""/>
            <p:cNvGrpSpPr/>
            <p:nvPr/>
          </p:nvGrpSpPr>
          <p:grpSpPr>
            <a:xfrm>
              <a:off x="5736600" y="1027080"/>
              <a:ext cx="741600" cy="739440"/>
              <a:chOff x="5736600" y="1027080"/>
              <a:chExt cx="741600" cy="739440"/>
            </a:xfrm>
          </p:grpSpPr>
          <p:sp>
            <p:nvSpPr>
              <p:cNvPr id="1483" name=""/>
              <p:cNvSpPr/>
              <p:nvPr/>
            </p:nvSpPr>
            <p:spPr>
              <a:xfrm>
                <a:off x="5984280" y="102708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16186800">
                <a:off x="5984280" y="102636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"/>
            <p:cNvSpPr/>
            <p:nvPr/>
          </p:nvSpPr>
          <p:spPr>
            <a:xfrm>
              <a:off x="5983920" y="1520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5736960" y="1274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31240" y="1520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6230880" y="15202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5983560" y="10270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231240" y="1027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983920" y="1027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5983560" y="1766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6230880" y="1274760"/>
            <a:ext cx="744120" cy="741600"/>
            <a:chOff x="6230880" y="1274760"/>
            <a:chExt cx="744120" cy="741600"/>
          </a:xfrm>
        </p:grpSpPr>
        <p:grpSp>
          <p:nvGrpSpPr>
            <p:cNvPr id="1494" name=""/>
            <p:cNvGrpSpPr/>
            <p:nvPr/>
          </p:nvGrpSpPr>
          <p:grpSpPr>
            <a:xfrm>
              <a:off x="6230880" y="1274760"/>
              <a:ext cx="740880" cy="741600"/>
              <a:chOff x="6230880" y="1274760"/>
              <a:chExt cx="740880" cy="741600"/>
            </a:xfrm>
          </p:grpSpPr>
          <p:sp>
            <p:nvSpPr>
              <p:cNvPr id="1495" name=""/>
              <p:cNvSpPr/>
              <p:nvPr/>
            </p:nvSpPr>
            <p:spPr>
              <a:xfrm rot="16200000">
                <a:off x="6477840" y="12747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10786800">
                <a:off x="6477840" y="12751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6725160" y="1769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478200" y="17694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725160" y="1521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725160" y="1275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30880" y="1522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230880" y="1521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230880" y="1769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72120" y="1522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8952840" y="5719680"/>
            <a:ext cx="743400" cy="742680"/>
            <a:chOff x="8952840" y="5719680"/>
            <a:chExt cx="743400" cy="742680"/>
          </a:xfrm>
        </p:grpSpPr>
        <p:grpSp>
          <p:nvGrpSpPr>
            <p:cNvPr id="1506" name=""/>
            <p:cNvGrpSpPr/>
            <p:nvPr/>
          </p:nvGrpSpPr>
          <p:grpSpPr>
            <a:xfrm>
              <a:off x="8952840" y="5719680"/>
              <a:ext cx="743400" cy="739440"/>
              <a:chOff x="8952840" y="5719680"/>
              <a:chExt cx="743400" cy="739440"/>
            </a:xfrm>
          </p:grpSpPr>
          <p:sp>
            <p:nvSpPr>
              <p:cNvPr id="1507" name=""/>
              <p:cNvSpPr/>
              <p:nvPr/>
            </p:nvSpPr>
            <p:spPr>
              <a:xfrm>
                <a:off x="9201240" y="57196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16186800">
                <a:off x="9201240" y="57182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9200880" y="6212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8953200" y="5966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9448920" y="6212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9448560" y="62128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9200880" y="5719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9448920" y="57196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200880" y="57196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9200880" y="6459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8953560" y="-455400"/>
            <a:ext cx="744120" cy="741960"/>
            <a:chOff x="8953560" y="-455400"/>
            <a:chExt cx="744120" cy="741960"/>
          </a:xfrm>
        </p:grpSpPr>
        <p:grpSp>
          <p:nvGrpSpPr>
            <p:cNvPr id="1518" name=""/>
            <p:cNvGrpSpPr/>
            <p:nvPr/>
          </p:nvGrpSpPr>
          <p:grpSpPr>
            <a:xfrm>
              <a:off x="8953560" y="-455400"/>
              <a:ext cx="740880" cy="741960"/>
              <a:chOff x="8953560" y="-455400"/>
              <a:chExt cx="740880" cy="741960"/>
            </a:xfrm>
          </p:grpSpPr>
          <p:sp>
            <p:nvSpPr>
              <p:cNvPr id="1519" name=""/>
              <p:cNvSpPr/>
              <p:nvPr/>
            </p:nvSpPr>
            <p:spPr>
              <a:xfrm rot="16200000">
                <a:off x="9200520" y="-4550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10786800">
                <a:off x="9200880" y="-4546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1" name=""/>
            <p:cNvSpPr/>
            <p:nvPr/>
          </p:nvSpPr>
          <p:spPr>
            <a:xfrm>
              <a:off x="9447840" y="392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9201600" y="39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9447840" y="-208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9447840" y="-454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953920" y="-208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953560" y="-208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953560" y="39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694800" y="-2077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5982480" y="1768320"/>
            <a:ext cx="743400" cy="742680"/>
            <a:chOff x="5982480" y="1768320"/>
            <a:chExt cx="743400" cy="742680"/>
          </a:xfrm>
        </p:grpSpPr>
        <p:grpSp>
          <p:nvGrpSpPr>
            <p:cNvPr id="1530" name=""/>
            <p:cNvGrpSpPr/>
            <p:nvPr/>
          </p:nvGrpSpPr>
          <p:grpSpPr>
            <a:xfrm>
              <a:off x="5982480" y="1768320"/>
              <a:ext cx="743400" cy="739440"/>
              <a:chOff x="5982480" y="1768320"/>
              <a:chExt cx="743400" cy="739440"/>
            </a:xfrm>
          </p:grpSpPr>
          <p:sp>
            <p:nvSpPr>
              <p:cNvPr id="1531" name=""/>
              <p:cNvSpPr/>
              <p:nvPr/>
            </p:nvSpPr>
            <p:spPr>
              <a:xfrm>
                <a:off x="6230880" y="17683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6186800">
                <a:off x="6230880" y="17668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3" name=""/>
            <p:cNvSpPr/>
            <p:nvPr/>
          </p:nvSpPr>
          <p:spPr>
            <a:xfrm>
              <a:off x="6230520" y="22615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5982840" y="20152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478560" y="22615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6478200" y="22615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623052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478560" y="17683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230520" y="17683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6230520" y="2508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7468560" y="1274760"/>
            <a:ext cx="741600" cy="742680"/>
            <a:chOff x="7468560" y="1274760"/>
            <a:chExt cx="741600" cy="742680"/>
          </a:xfrm>
        </p:grpSpPr>
        <p:grpSp>
          <p:nvGrpSpPr>
            <p:cNvPr id="1542" name=""/>
            <p:cNvGrpSpPr/>
            <p:nvPr/>
          </p:nvGrpSpPr>
          <p:grpSpPr>
            <a:xfrm>
              <a:off x="7468560" y="1274760"/>
              <a:ext cx="741600" cy="739440"/>
              <a:chOff x="7468560" y="1274760"/>
              <a:chExt cx="741600" cy="739440"/>
            </a:xfrm>
          </p:grpSpPr>
          <p:sp>
            <p:nvSpPr>
              <p:cNvPr id="1543" name=""/>
              <p:cNvSpPr/>
              <p:nvPr/>
            </p:nvSpPr>
            <p:spPr>
              <a:xfrm>
                <a:off x="7716240" y="127476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16186800">
                <a:off x="7716240" y="127404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5" name=""/>
            <p:cNvSpPr/>
            <p:nvPr/>
          </p:nvSpPr>
          <p:spPr>
            <a:xfrm>
              <a:off x="7715880" y="1767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7468920" y="15217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963200" y="1767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7962840" y="17679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715520" y="127476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963200" y="1274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715880" y="1274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7715520" y="201456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6478560" y="2016000"/>
            <a:ext cx="744120" cy="740160"/>
            <a:chOff x="6478560" y="2016000"/>
            <a:chExt cx="744120" cy="740160"/>
          </a:xfrm>
        </p:grpSpPr>
        <p:grpSp>
          <p:nvGrpSpPr>
            <p:cNvPr id="1554" name=""/>
            <p:cNvGrpSpPr/>
            <p:nvPr/>
          </p:nvGrpSpPr>
          <p:grpSpPr>
            <a:xfrm>
              <a:off x="6478560" y="2016000"/>
              <a:ext cx="740880" cy="740160"/>
              <a:chOff x="6478560" y="2016000"/>
              <a:chExt cx="740880" cy="740160"/>
            </a:xfrm>
          </p:grpSpPr>
          <p:sp>
            <p:nvSpPr>
              <p:cNvPr id="1555" name=""/>
              <p:cNvSpPr/>
              <p:nvPr/>
            </p:nvSpPr>
            <p:spPr>
              <a:xfrm rot="16200000">
                <a:off x="6725880" y="20152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10786800">
                <a:off x="6725520" y="20163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7" name=""/>
            <p:cNvSpPr/>
            <p:nvPr/>
          </p:nvSpPr>
          <p:spPr>
            <a:xfrm>
              <a:off x="6972840" y="2509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25880" y="25092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72840" y="22622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72840" y="2016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478560" y="2262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478560" y="2262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478560" y="2509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219800" y="2262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6230160" y="2508120"/>
            <a:ext cx="743400" cy="742680"/>
            <a:chOff x="6230160" y="2508120"/>
            <a:chExt cx="743400" cy="742680"/>
          </a:xfrm>
        </p:grpSpPr>
        <p:grpSp>
          <p:nvGrpSpPr>
            <p:cNvPr id="1566" name=""/>
            <p:cNvGrpSpPr/>
            <p:nvPr/>
          </p:nvGrpSpPr>
          <p:grpSpPr>
            <a:xfrm>
              <a:off x="6230160" y="2508120"/>
              <a:ext cx="743400" cy="739440"/>
              <a:chOff x="6230160" y="2508120"/>
              <a:chExt cx="743400" cy="739440"/>
            </a:xfrm>
          </p:grpSpPr>
          <p:sp>
            <p:nvSpPr>
              <p:cNvPr id="1567" name=""/>
              <p:cNvSpPr/>
              <p:nvPr/>
            </p:nvSpPr>
            <p:spPr>
              <a:xfrm>
                <a:off x="6478560" y="2508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16186800">
                <a:off x="6478560" y="2506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6478200" y="3001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6230520" y="2755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726240" y="3001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6725880" y="3001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6478200" y="2508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726240" y="2508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78200" y="2508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478200" y="3247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7221600" y="1768320"/>
            <a:ext cx="744120" cy="740160"/>
            <a:chOff x="7221600" y="1768320"/>
            <a:chExt cx="744120" cy="740160"/>
          </a:xfrm>
        </p:grpSpPr>
        <p:grpSp>
          <p:nvGrpSpPr>
            <p:cNvPr id="1578" name=""/>
            <p:cNvGrpSpPr/>
            <p:nvPr/>
          </p:nvGrpSpPr>
          <p:grpSpPr>
            <a:xfrm>
              <a:off x="7221600" y="1768320"/>
              <a:ext cx="740880" cy="740160"/>
              <a:chOff x="7221600" y="1768320"/>
              <a:chExt cx="740880" cy="740160"/>
            </a:xfrm>
          </p:grpSpPr>
          <p:sp>
            <p:nvSpPr>
              <p:cNvPr id="1579" name=""/>
              <p:cNvSpPr/>
              <p:nvPr/>
            </p:nvSpPr>
            <p:spPr>
              <a:xfrm rot="16200000">
                <a:off x="7468920" y="17676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10786800">
                <a:off x="7468560" y="17686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>
              <a:off x="7715880" y="22615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468920" y="22615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715880" y="20145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715880" y="1768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221600" y="2015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221600" y="2014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221600" y="2261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962840" y="2015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6726240" y="2755800"/>
            <a:ext cx="744120" cy="740160"/>
            <a:chOff x="6726240" y="2755800"/>
            <a:chExt cx="744120" cy="740160"/>
          </a:xfrm>
        </p:grpSpPr>
        <p:grpSp>
          <p:nvGrpSpPr>
            <p:cNvPr id="1590" name=""/>
            <p:cNvGrpSpPr/>
            <p:nvPr/>
          </p:nvGrpSpPr>
          <p:grpSpPr>
            <a:xfrm>
              <a:off x="6726240" y="2755800"/>
              <a:ext cx="740880" cy="740160"/>
              <a:chOff x="6726240" y="2755800"/>
              <a:chExt cx="740880" cy="740160"/>
            </a:xfrm>
          </p:grpSpPr>
          <p:sp>
            <p:nvSpPr>
              <p:cNvPr id="1591" name=""/>
              <p:cNvSpPr/>
              <p:nvPr/>
            </p:nvSpPr>
            <p:spPr>
              <a:xfrm rot="16200000">
                <a:off x="6973560" y="27550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rot="10786800">
                <a:off x="6973200" y="27561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7220520" y="32490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73560" y="3249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220520" y="3002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220520" y="27558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726240" y="3002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26240" y="3002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726240" y="3249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467480" y="3002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6973200" y="2260440"/>
            <a:ext cx="743400" cy="742680"/>
            <a:chOff x="6973200" y="2260440"/>
            <a:chExt cx="743400" cy="742680"/>
          </a:xfrm>
        </p:grpSpPr>
        <p:grpSp>
          <p:nvGrpSpPr>
            <p:cNvPr id="1602" name=""/>
            <p:cNvGrpSpPr/>
            <p:nvPr/>
          </p:nvGrpSpPr>
          <p:grpSpPr>
            <a:xfrm>
              <a:off x="6973200" y="2260440"/>
              <a:ext cx="743400" cy="739440"/>
              <a:chOff x="6973200" y="2260440"/>
              <a:chExt cx="743400" cy="739440"/>
            </a:xfrm>
          </p:grpSpPr>
          <p:sp>
            <p:nvSpPr>
              <p:cNvPr id="1603" name=""/>
              <p:cNvSpPr/>
              <p:nvPr/>
            </p:nvSpPr>
            <p:spPr>
              <a:xfrm>
                <a:off x="7221600" y="22604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16186800">
                <a:off x="7221600" y="22590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5" name=""/>
            <p:cNvSpPr/>
            <p:nvPr/>
          </p:nvSpPr>
          <p:spPr>
            <a:xfrm>
              <a:off x="7221240" y="2753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6973560" y="2507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469280" y="2753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7468920" y="2753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7221240" y="2260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469280" y="2260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21240" y="2260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7221240" y="3000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7220880" y="3002040"/>
            <a:ext cx="743400" cy="742680"/>
            <a:chOff x="7220880" y="3002040"/>
            <a:chExt cx="743400" cy="742680"/>
          </a:xfrm>
        </p:grpSpPr>
        <p:grpSp>
          <p:nvGrpSpPr>
            <p:cNvPr id="1614" name=""/>
            <p:cNvGrpSpPr/>
            <p:nvPr/>
          </p:nvGrpSpPr>
          <p:grpSpPr>
            <a:xfrm>
              <a:off x="7220880" y="3002040"/>
              <a:ext cx="743400" cy="739440"/>
              <a:chOff x="7220880" y="3002040"/>
              <a:chExt cx="743400" cy="739440"/>
            </a:xfrm>
          </p:grpSpPr>
          <p:sp>
            <p:nvSpPr>
              <p:cNvPr id="1615" name=""/>
              <p:cNvSpPr/>
              <p:nvPr/>
            </p:nvSpPr>
            <p:spPr>
              <a:xfrm>
                <a:off x="7469280" y="30020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16186800">
                <a:off x="7469280" y="30006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>
              <a:off x="7468920" y="3495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7221240" y="32490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716960" y="3495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7716600" y="3495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7468920" y="3002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16960" y="3002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68920" y="3002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7468920" y="3741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7716240" y="2016000"/>
            <a:ext cx="741600" cy="742680"/>
            <a:chOff x="7716240" y="2016000"/>
            <a:chExt cx="741600" cy="742680"/>
          </a:xfrm>
        </p:grpSpPr>
        <p:grpSp>
          <p:nvGrpSpPr>
            <p:cNvPr id="1626" name=""/>
            <p:cNvGrpSpPr/>
            <p:nvPr/>
          </p:nvGrpSpPr>
          <p:grpSpPr>
            <a:xfrm>
              <a:off x="7716240" y="2016000"/>
              <a:ext cx="741600" cy="739440"/>
              <a:chOff x="7716240" y="2016000"/>
              <a:chExt cx="741600" cy="739440"/>
            </a:xfrm>
          </p:grpSpPr>
          <p:sp>
            <p:nvSpPr>
              <p:cNvPr id="1627" name=""/>
              <p:cNvSpPr/>
              <p:nvPr/>
            </p:nvSpPr>
            <p:spPr>
              <a:xfrm>
                <a:off x="7963920" y="20160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16186800">
                <a:off x="7963920" y="201528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9" name=""/>
            <p:cNvSpPr/>
            <p:nvPr/>
          </p:nvSpPr>
          <p:spPr>
            <a:xfrm>
              <a:off x="7963560" y="2509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716600" y="22629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210880" y="2509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8210520" y="2509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963200" y="20160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210880" y="2016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963560" y="2016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7963200" y="2755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7" name=""/>
          <p:cNvGrpSpPr/>
          <p:nvPr/>
        </p:nvGrpSpPr>
        <p:grpSpPr>
          <a:xfrm>
            <a:off x="7716960" y="779400"/>
            <a:ext cx="744120" cy="740160"/>
            <a:chOff x="7716960" y="779400"/>
            <a:chExt cx="744120" cy="740160"/>
          </a:xfrm>
        </p:grpSpPr>
        <p:grpSp>
          <p:nvGrpSpPr>
            <p:cNvPr id="1638" name=""/>
            <p:cNvGrpSpPr/>
            <p:nvPr/>
          </p:nvGrpSpPr>
          <p:grpSpPr>
            <a:xfrm>
              <a:off x="7716960" y="779400"/>
              <a:ext cx="740880" cy="740160"/>
              <a:chOff x="7716960" y="779400"/>
              <a:chExt cx="740880" cy="740160"/>
            </a:xfrm>
          </p:grpSpPr>
          <p:sp>
            <p:nvSpPr>
              <p:cNvPr id="1639" name=""/>
              <p:cNvSpPr/>
              <p:nvPr/>
            </p:nvSpPr>
            <p:spPr>
              <a:xfrm rot="16200000">
                <a:off x="7964280" y="7786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rot="10786800">
                <a:off x="7963920" y="7797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1" name=""/>
            <p:cNvSpPr/>
            <p:nvPr/>
          </p:nvSpPr>
          <p:spPr>
            <a:xfrm>
              <a:off x="8211240" y="1272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964280" y="12726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211240" y="10256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211240" y="7794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716960" y="1026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716960" y="10256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716960" y="1272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458200" y="1026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7963920" y="285840"/>
            <a:ext cx="741600" cy="742680"/>
            <a:chOff x="7963920" y="285840"/>
            <a:chExt cx="741600" cy="742680"/>
          </a:xfrm>
        </p:grpSpPr>
        <p:grpSp>
          <p:nvGrpSpPr>
            <p:cNvPr id="1650" name=""/>
            <p:cNvGrpSpPr/>
            <p:nvPr/>
          </p:nvGrpSpPr>
          <p:grpSpPr>
            <a:xfrm>
              <a:off x="7963920" y="285840"/>
              <a:ext cx="741600" cy="739440"/>
              <a:chOff x="7963920" y="285840"/>
              <a:chExt cx="741600" cy="739440"/>
            </a:xfrm>
          </p:grpSpPr>
          <p:sp>
            <p:nvSpPr>
              <p:cNvPr id="1651" name=""/>
              <p:cNvSpPr/>
              <p:nvPr/>
            </p:nvSpPr>
            <p:spPr>
              <a:xfrm>
                <a:off x="8211600" y="28584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16186800">
                <a:off x="8211600" y="28512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3" name=""/>
            <p:cNvSpPr/>
            <p:nvPr/>
          </p:nvSpPr>
          <p:spPr>
            <a:xfrm>
              <a:off x="821124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7964280" y="532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45856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8458200" y="779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8210880" y="285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45856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21124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8210880" y="10256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1" name=""/>
          <p:cNvGrpSpPr/>
          <p:nvPr/>
        </p:nvGrpSpPr>
        <p:grpSpPr>
          <a:xfrm>
            <a:off x="8210520" y="2260800"/>
            <a:ext cx="745920" cy="741960"/>
            <a:chOff x="8210520" y="2260800"/>
            <a:chExt cx="745920" cy="741960"/>
          </a:xfrm>
        </p:grpSpPr>
        <p:grpSp>
          <p:nvGrpSpPr>
            <p:cNvPr id="1662" name=""/>
            <p:cNvGrpSpPr/>
            <p:nvPr/>
          </p:nvGrpSpPr>
          <p:grpSpPr>
            <a:xfrm>
              <a:off x="8210520" y="2260800"/>
              <a:ext cx="742680" cy="741960"/>
              <a:chOff x="8210520" y="2260800"/>
              <a:chExt cx="742680" cy="741960"/>
            </a:xfrm>
          </p:grpSpPr>
          <p:sp>
            <p:nvSpPr>
              <p:cNvPr id="1663" name=""/>
              <p:cNvSpPr/>
              <p:nvPr/>
            </p:nvSpPr>
            <p:spPr>
              <a:xfrm rot="16200000">
                <a:off x="8458560" y="226008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10786800">
                <a:off x="8457840" y="2261160"/>
                <a:ext cx="2473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5" name=""/>
            <p:cNvSpPr/>
            <p:nvPr/>
          </p:nvSpPr>
          <p:spPr>
            <a:xfrm>
              <a:off x="8705880" y="275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458560" y="275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705880" y="2507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705880" y="2261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210520" y="250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210520" y="25077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210520" y="27554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953560" y="250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7963920" y="2755800"/>
            <a:ext cx="741600" cy="744120"/>
            <a:chOff x="7963920" y="2755800"/>
            <a:chExt cx="741600" cy="744120"/>
          </a:xfrm>
        </p:grpSpPr>
        <p:grpSp>
          <p:nvGrpSpPr>
            <p:cNvPr id="1674" name=""/>
            <p:cNvGrpSpPr/>
            <p:nvPr/>
          </p:nvGrpSpPr>
          <p:grpSpPr>
            <a:xfrm>
              <a:off x="7963920" y="2755800"/>
              <a:ext cx="741600" cy="740880"/>
              <a:chOff x="7963920" y="2755800"/>
              <a:chExt cx="741600" cy="740880"/>
            </a:xfrm>
          </p:grpSpPr>
          <p:sp>
            <p:nvSpPr>
              <p:cNvPr id="1675" name=""/>
              <p:cNvSpPr/>
              <p:nvPr/>
            </p:nvSpPr>
            <p:spPr>
              <a:xfrm>
                <a:off x="8211600" y="2755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16186800">
                <a:off x="8211240" y="27558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>
              <a:off x="8211240" y="3250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>
              <a:off x="7964280" y="30031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458560" y="3250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8458200" y="32500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8210880" y="2755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458560" y="2755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211240" y="2755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8210880" y="34970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5" name=""/>
          <p:cNvGrpSpPr/>
          <p:nvPr/>
        </p:nvGrpSpPr>
        <p:grpSpPr>
          <a:xfrm>
            <a:off x="7716960" y="3249720"/>
            <a:ext cx="744120" cy="740160"/>
            <a:chOff x="7716960" y="3249720"/>
            <a:chExt cx="744120" cy="740160"/>
          </a:xfrm>
        </p:grpSpPr>
        <p:grpSp>
          <p:nvGrpSpPr>
            <p:cNvPr id="1686" name=""/>
            <p:cNvGrpSpPr/>
            <p:nvPr/>
          </p:nvGrpSpPr>
          <p:grpSpPr>
            <a:xfrm>
              <a:off x="7716960" y="3249720"/>
              <a:ext cx="740880" cy="740160"/>
              <a:chOff x="7716960" y="3249720"/>
              <a:chExt cx="740880" cy="740160"/>
            </a:xfrm>
          </p:grpSpPr>
          <p:sp>
            <p:nvSpPr>
              <p:cNvPr id="1687" name=""/>
              <p:cNvSpPr/>
              <p:nvPr/>
            </p:nvSpPr>
            <p:spPr>
              <a:xfrm rot="16200000">
                <a:off x="7964280" y="32490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10786800">
                <a:off x="7963920" y="32500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9" name=""/>
            <p:cNvSpPr/>
            <p:nvPr/>
          </p:nvSpPr>
          <p:spPr>
            <a:xfrm>
              <a:off x="8211240" y="374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964280" y="3742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211240" y="3495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211240" y="3249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716960" y="3496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716960" y="3495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716960" y="374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458200" y="3496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7964640" y="1519200"/>
            <a:ext cx="744120" cy="741600"/>
            <a:chOff x="7964640" y="1519200"/>
            <a:chExt cx="744120" cy="741600"/>
          </a:xfrm>
        </p:grpSpPr>
        <p:grpSp>
          <p:nvGrpSpPr>
            <p:cNvPr id="1698" name=""/>
            <p:cNvGrpSpPr/>
            <p:nvPr/>
          </p:nvGrpSpPr>
          <p:grpSpPr>
            <a:xfrm>
              <a:off x="7964640" y="1519200"/>
              <a:ext cx="740880" cy="741600"/>
              <a:chOff x="7964640" y="1519200"/>
              <a:chExt cx="740880" cy="741600"/>
            </a:xfrm>
          </p:grpSpPr>
          <p:sp>
            <p:nvSpPr>
              <p:cNvPr id="1699" name=""/>
              <p:cNvSpPr/>
              <p:nvPr/>
            </p:nvSpPr>
            <p:spPr>
              <a:xfrm rot="16200000">
                <a:off x="8211600" y="15192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10786800">
                <a:off x="8211600" y="151956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1" name=""/>
            <p:cNvSpPr/>
            <p:nvPr/>
          </p:nvSpPr>
          <p:spPr>
            <a:xfrm>
              <a:off x="8458920" y="2013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211960" y="2013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458920" y="1766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458920" y="15199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964640" y="1766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964640" y="1766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64640" y="2013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705880" y="1766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9" name=""/>
          <p:cNvGrpSpPr/>
          <p:nvPr/>
        </p:nvGrpSpPr>
        <p:grpSpPr>
          <a:xfrm>
            <a:off x="8458200" y="533520"/>
            <a:ext cx="745920" cy="741600"/>
            <a:chOff x="8458200" y="533520"/>
            <a:chExt cx="745920" cy="741600"/>
          </a:xfrm>
        </p:grpSpPr>
        <p:grpSp>
          <p:nvGrpSpPr>
            <p:cNvPr id="1710" name=""/>
            <p:cNvGrpSpPr/>
            <p:nvPr/>
          </p:nvGrpSpPr>
          <p:grpSpPr>
            <a:xfrm>
              <a:off x="8458200" y="533520"/>
              <a:ext cx="742680" cy="741600"/>
              <a:chOff x="8458200" y="533520"/>
              <a:chExt cx="742680" cy="741600"/>
            </a:xfrm>
          </p:grpSpPr>
          <p:sp>
            <p:nvSpPr>
              <p:cNvPr id="1711" name=""/>
              <p:cNvSpPr/>
              <p:nvPr/>
            </p:nvSpPr>
            <p:spPr>
              <a:xfrm rot="16200000">
                <a:off x="8706240" y="5328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10786800">
                <a:off x="8705520" y="5338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>
              <a:off x="8953560" y="1027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706240" y="1028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953560" y="780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953560" y="534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458200" y="780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458200" y="7804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458200" y="10278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9201240" y="780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8209800" y="1027080"/>
            <a:ext cx="743400" cy="742680"/>
            <a:chOff x="8209800" y="1027080"/>
            <a:chExt cx="743400" cy="742680"/>
          </a:xfrm>
        </p:grpSpPr>
        <p:grpSp>
          <p:nvGrpSpPr>
            <p:cNvPr id="1722" name=""/>
            <p:cNvGrpSpPr/>
            <p:nvPr/>
          </p:nvGrpSpPr>
          <p:grpSpPr>
            <a:xfrm>
              <a:off x="8209800" y="1027080"/>
              <a:ext cx="743400" cy="739440"/>
              <a:chOff x="8209800" y="1027080"/>
              <a:chExt cx="743400" cy="739440"/>
            </a:xfrm>
          </p:grpSpPr>
          <p:sp>
            <p:nvSpPr>
              <p:cNvPr id="1723" name=""/>
              <p:cNvSpPr/>
              <p:nvPr/>
            </p:nvSpPr>
            <p:spPr>
              <a:xfrm>
                <a:off x="8458200" y="10270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rot="16186800">
                <a:off x="8458200" y="10256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8457840" y="1520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8210160" y="12740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705880" y="1520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8705520" y="15202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8457840" y="1027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705880" y="1027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457840" y="1027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8457840" y="1766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8209800" y="3495600"/>
            <a:ext cx="743400" cy="742680"/>
            <a:chOff x="8209800" y="3495600"/>
            <a:chExt cx="743400" cy="742680"/>
          </a:xfrm>
        </p:grpSpPr>
        <p:grpSp>
          <p:nvGrpSpPr>
            <p:cNvPr id="1734" name=""/>
            <p:cNvGrpSpPr/>
            <p:nvPr/>
          </p:nvGrpSpPr>
          <p:grpSpPr>
            <a:xfrm>
              <a:off x="8209800" y="3495600"/>
              <a:ext cx="743400" cy="739440"/>
              <a:chOff x="8209800" y="3495600"/>
              <a:chExt cx="743400" cy="739440"/>
            </a:xfrm>
          </p:grpSpPr>
          <p:sp>
            <p:nvSpPr>
              <p:cNvPr id="1735" name=""/>
              <p:cNvSpPr/>
              <p:nvPr/>
            </p:nvSpPr>
            <p:spPr>
              <a:xfrm>
                <a:off x="8458200" y="34956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16186800">
                <a:off x="8458200" y="34941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845784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8210160" y="3742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70588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8705520" y="3988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8457840" y="34956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70588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5784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8457840" y="4235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8705160" y="2508120"/>
            <a:ext cx="743400" cy="742680"/>
            <a:chOff x="8705160" y="2508120"/>
            <a:chExt cx="743400" cy="742680"/>
          </a:xfrm>
        </p:grpSpPr>
        <p:grpSp>
          <p:nvGrpSpPr>
            <p:cNvPr id="1746" name=""/>
            <p:cNvGrpSpPr/>
            <p:nvPr/>
          </p:nvGrpSpPr>
          <p:grpSpPr>
            <a:xfrm>
              <a:off x="8705160" y="2508120"/>
              <a:ext cx="743400" cy="739440"/>
              <a:chOff x="8705160" y="2508120"/>
              <a:chExt cx="743400" cy="739440"/>
            </a:xfrm>
          </p:grpSpPr>
          <p:sp>
            <p:nvSpPr>
              <p:cNvPr id="1747" name=""/>
              <p:cNvSpPr/>
              <p:nvPr/>
            </p:nvSpPr>
            <p:spPr>
              <a:xfrm>
                <a:off x="8953560" y="2508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6186800">
                <a:off x="8953560" y="2506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9" name=""/>
            <p:cNvSpPr/>
            <p:nvPr/>
          </p:nvSpPr>
          <p:spPr>
            <a:xfrm>
              <a:off x="8953200" y="3001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8705520" y="2755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9201240" y="3001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9200880" y="3001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8953200" y="2508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201240" y="2508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953200" y="2508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8953200" y="3247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8458200" y="3002040"/>
            <a:ext cx="745920" cy="741600"/>
            <a:chOff x="8458200" y="3002040"/>
            <a:chExt cx="745920" cy="741600"/>
          </a:xfrm>
        </p:grpSpPr>
        <p:grpSp>
          <p:nvGrpSpPr>
            <p:cNvPr id="1758" name=""/>
            <p:cNvGrpSpPr/>
            <p:nvPr/>
          </p:nvGrpSpPr>
          <p:grpSpPr>
            <a:xfrm>
              <a:off x="8458200" y="3002040"/>
              <a:ext cx="742680" cy="741600"/>
              <a:chOff x="8458200" y="3002040"/>
              <a:chExt cx="742680" cy="741600"/>
            </a:xfrm>
          </p:grpSpPr>
          <p:sp>
            <p:nvSpPr>
              <p:cNvPr id="1759" name=""/>
              <p:cNvSpPr/>
              <p:nvPr/>
            </p:nvSpPr>
            <p:spPr>
              <a:xfrm rot="16200000">
                <a:off x="8706240" y="30013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10786800">
                <a:off x="8705520" y="30024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1" name=""/>
            <p:cNvSpPr/>
            <p:nvPr/>
          </p:nvSpPr>
          <p:spPr>
            <a:xfrm>
              <a:off x="8953560" y="3496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706240" y="3496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953560" y="3249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953560" y="3002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458200" y="3249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458200" y="32490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458200" y="34963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9201240" y="3249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8705880" y="1274760"/>
            <a:ext cx="744120" cy="741600"/>
            <a:chOff x="8705880" y="1274760"/>
            <a:chExt cx="744120" cy="741600"/>
          </a:xfrm>
        </p:grpSpPr>
        <p:grpSp>
          <p:nvGrpSpPr>
            <p:cNvPr id="1770" name=""/>
            <p:cNvGrpSpPr/>
            <p:nvPr/>
          </p:nvGrpSpPr>
          <p:grpSpPr>
            <a:xfrm>
              <a:off x="8705880" y="1274760"/>
              <a:ext cx="740880" cy="741600"/>
              <a:chOff x="8705880" y="1274760"/>
              <a:chExt cx="740880" cy="741600"/>
            </a:xfrm>
          </p:grpSpPr>
          <p:sp>
            <p:nvSpPr>
              <p:cNvPr id="1771" name=""/>
              <p:cNvSpPr/>
              <p:nvPr/>
            </p:nvSpPr>
            <p:spPr>
              <a:xfrm rot="16200000">
                <a:off x="8952840" y="12747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10786800">
                <a:off x="8952840" y="12751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9200160" y="1769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953200" y="17694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9200160" y="1521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9200160" y="1275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705880" y="1522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705880" y="1521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705880" y="1769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9447120" y="1522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8457480" y="1768320"/>
            <a:ext cx="743400" cy="742680"/>
            <a:chOff x="8457480" y="1768320"/>
            <a:chExt cx="743400" cy="742680"/>
          </a:xfrm>
        </p:grpSpPr>
        <p:grpSp>
          <p:nvGrpSpPr>
            <p:cNvPr id="1782" name=""/>
            <p:cNvGrpSpPr/>
            <p:nvPr/>
          </p:nvGrpSpPr>
          <p:grpSpPr>
            <a:xfrm>
              <a:off x="8457480" y="1768320"/>
              <a:ext cx="743400" cy="739440"/>
              <a:chOff x="8457480" y="1768320"/>
              <a:chExt cx="743400" cy="739440"/>
            </a:xfrm>
          </p:grpSpPr>
          <p:sp>
            <p:nvSpPr>
              <p:cNvPr id="1783" name=""/>
              <p:cNvSpPr/>
              <p:nvPr/>
            </p:nvSpPr>
            <p:spPr>
              <a:xfrm>
                <a:off x="8705880" y="17683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rot="16186800">
                <a:off x="8705880" y="17668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5" name=""/>
            <p:cNvSpPr/>
            <p:nvPr/>
          </p:nvSpPr>
          <p:spPr>
            <a:xfrm>
              <a:off x="8705520" y="22615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8457840" y="20152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953560" y="22615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8953200" y="22615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870552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953560" y="17683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705520" y="17683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8705520" y="2508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486400" y="6477120"/>
            <a:ext cx="744120" cy="740160"/>
            <a:chOff x="5486400" y="6477120"/>
            <a:chExt cx="744120" cy="740160"/>
          </a:xfrm>
        </p:grpSpPr>
        <p:grpSp>
          <p:nvGrpSpPr>
            <p:cNvPr id="1794" name=""/>
            <p:cNvGrpSpPr/>
            <p:nvPr/>
          </p:nvGrpSpPr>
          <p:grpSpPr>
            <a:xfrm>
              <a:off x="5486400" y="6477120"/>
              <a:ext cx="740880" cy="740160"/>
              <a:chOff x="5486400" y="6477120"/>
              <a:chExt cx="740880" cy="740160"/>
            </a:xfrm>
          </p:grpSpPr>
          <p:sp>
            <p:nvSpPr>
              <p:cNvPr id="1795" name=""/>
              <p:cNvSpPr/>
              <p:nvPr/>
            </p:nvSpPr>
            <p:spPr>
              <a:xfrm rot="16200000">
                <a:off x="5733720" y="64764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10786800">
                <a:off x="5733360" y="64774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7" name=""/>
            <p:cNvSpPr/>
            <p:nvPr/>
          </p:nvSpPr>
          <p:spPr>
            <a:xfrm>
              <a:off x="5980680" y="69703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733720" y="6970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980680" y="67233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980680" y="64771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486400" y="67240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486400" y="6723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486400" y="6970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227640" y="67240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6725520" y="6459480"/>
            <a:ext cx="743400" cy="742680"/>
            <a:chOff x="6725520" y="6459480"/>
            <a:chExt cx="743400" cy="742680"/>
          </a:xfrm>
        </p:grpSpPr>
        <p:grpSp>
          <p:nvGrpSpPr>
            <p:cNvPr id="1806" name=""/>
            <p:cNvGrpSpPr/>
            <p:nvPr/>
          </p:nvGrpSpPr>
          <p:grpSpPr>
            <a:xfrm>
              <a:off x="6725520" y="6459480"/>
              <a:ext cx="743400" cy="739440"/>
              <a:chOff x="6725520" y="6459480"/>
              <a:chExt cx="743400" cy="739440"/>
            </a:xfrm>
          </p:grpSpPr>
          <p:sp>
            <p:nvSpPr>
              <p:cNvPr id="1807" name=""/>
              <p:cNvSpPr/>
              <p:nvPr/>
            </p:nvSpPr>
            <p:spPr>
              <a:xfrm>
                <a:off x="6973920" y="64594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rot="16186800">
                <a:off x="6973920" y="64580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9" name=""/>
            <p:cNvSpPr/>
            <p:nvPr/>
          </p:nvSpPr>
          <p:spPr>
            <a:xfrm>
              <a:off x="6973560" y="6952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6725880" y="6706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221600" y="6952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7221240" y="69526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6973560" y="6459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221600" y="64594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973560" y="64594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6973560" y="7199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5736600" y="5964120"/>
            <a:ext cx="741600" cy="742680"/>
            <a:chOff x="5736600" y="5964120"/>
            <a:chExt cx="741600" cy="742680"/>
          </a:xfrm>
        </p:grpSpPr>
        <p:grpSp>
          <p:nvGrpSpPr>
            <p:cNvPr id="1818" name=""/>
            <p:cNvGrpSpPr/>
            <p:nvPr/>
          </p:nvGrpSpPr>
          <p:grpSpPr>
            <a:xfrm>
              <a:off x="5736600" y="5964120"/>
              <a:ext cx="741600" cy="739440"/>
              <a:chOff x="5736600" y="5964120"/>
              <a:chExt cx="741600" cy="739440"/>
            </a:xfrm>
          </p:grpSpPr>
          <p:sp>
            <p:nvSpPr>
              <p:cNvPr id="1819" name=""/>
              <p:cNvSpPr/>
              <p:nvPr/>
            </p:nvSpPr>
            <p:spPr>
              <a:xfrm>
                <a:off x="5984280" y="596412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16186800">
                <a:off x="5984280" y="596340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5983920" y="6457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5736960" y="62110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231240" y="6457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6230880" y="64573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5983560" y="59641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231240" y="5964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983920" y="5964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5983560" y="67039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9200520" y="1519200"/>
            <a:ext cx="743400" cy="742680"/>
            <a:chOff x="9200520" y="1519200"/>
            <a:chExt cx="743400" cy="742680"/>
          </a:xfrm>
        </p:grpSpPr>
        <p:grpSp>
          <p:nvGrpSpPr>
            <p:cNvPr id="1830" name=""/>
            <p:cNvGrpSpPr/>
            <p:nvPr/>
          </p:nvGrpSpPr>
          <p:grpSpPr>
            <a:xfrm>
              <a:off x="9200520" y="1519200"/>
              <a:ext cx="743400" cy="739440"/>
              <a:chOff x="9200520" y="1519200"/>
              <a:chExt cx="743400" cy="739440"/>
            </a:xfrm>
          </p:grpSpPr>
          <p:sp>
            <p:nvSpPr>
              <p:cNvPr id="1831" name=""/>
              <p:cNvSpPr/>
              <p:nvPr/>
            </p:nvSpPr>
            <p:spPr>
              <a:xfrm>
                <a:off x="9448920" y="15192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16186800">
                <a:off x="9448920" y="15177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>
              <a:off x="9448560" y="2012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9200880" y="17661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9696600" y="2012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9696240" y="2012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9448560" y="1519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9696600" y="1519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9448560" y="1519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9448560" y="2259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8953560" y="2016000"/>
            <a:ext cx="744120" cy="740160"/>
            <a:chOff x="8953560" y="2016000"/>
            <a:chExt cx="744120" cy="740160"/>
          </a:xfrm>
        </p:grpSpPr>
        <p:grpSp>
          <p:nvGrpSpPr>
            <p:cNvPr id="1842" name=""/>
            <p:cNvGrpSpPr/>
            <p:nvPr/>
          </p:nvGrpSpPr>
          <p:grpSpPr>
            <a:xfrm>
              <a:off x="8953560" y="2016000"/>
              <a:ext cx="740880" cy="740160"/>
              <a:chOff x="8953560" y="2016000"/>
              <a:chExt cx="740880" cy="740160"/>
            </a:xfrm>
          </p:grpSpPr>
          <p:sp>
            <p:nvSpPr>
              <p:cNvPr id="1843" name=""/>
              <p:cNvSpPr/>
              <p:nvPr/>
            </p:nvSpPr>
            <p:spPr>
              <a:xfrm rot="16200000">
                <a:off x="9200880" y="20152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10786800">
                <a:off x="9200520" y="20163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5" name=""/>
            <p:cNvSpPr/>
            <p:nvPr/>
          </p:nvSpPr>
          <p:spPr>
            <a:xfrm>
              <a:off x="9447840" y="2509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200880" y="25092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9447840" y="22622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447840" y="2016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953560" y="2262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953560" y="2262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953560" y="2509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9694800" y="2262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8952840" y="3249720"/>
            <a:ext cx="743400" cy="742320"/>
            <a:chOff x="8952840" y="3249720"/>
            <a:chExt cx="743400" cy="742320"/>
          </a:xfrm>
        </p:grpSpPr>
        <p:grpSp>
          <p:nvGrpSpPr>
            <p:cNvPr id="1854" name=""/>
            <p:cNvGrpSpPr/>
            <p:nvPr/>
          </p:nvGrpSpPr>
          <p:grpSpPr>
            <a:xfrm>
              <a:off x="8952840" y="3249720"/>
              <a:ext cx="743400" cy="739080"/>
              <a:chOff x="8952840" y="3249720"/>
              <a:chExt cx="743400" cy="739080"/>
            </a:xfrm>
          </p:grpSpPr>
          <p:sp>
            <p:nvSpPr>
              <p:cNvPr id="1855" name=""/>
              <p:cNvSpPr/>
              <p:nvPr/>
            </p:nvSpPr>
            <p:spPr>
              <a:xfrm>
                <a:off x="9201240" y="324972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16186800">
                <a:off x="9201600" y="32475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7" name=""/>
            <p:cNvSpPr/>
            <p:nvPr/>
          </p:nvSpPr>
          <p:spPr>
            <a:xfrm>
              <a:off x="9200880" y="3742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8953200" y="3496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9448920" y="3742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9448560" y="37429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9200880" y="32497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9448920" y="324972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9200880" y="324972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9200880" y="3989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9448200" y="2260440"/>
            <a:ext cx="743040" cy="742680"/>
            <a:chOff x="9448200" y="2260440"/>
            <a:chExt cx="743040" cy="742680"/>
          </a:xfrm>
        </p:grpSpPr>
        <p:grpSp>
          <p:nvGrpSpPr>
            <p:cNvPr id="1866" name=""/>
            <p:cNvGrpSpPr/>
            <p:nvPr/>
          </p:nvGrpSpPr>
          <p:grpSpPr>
            <a:xfrm>
              <a:off x="9448200" y="2260440"/>
              <a:ext cx="743040" cy="739440"/>
              <a:chOff x="9448200" y="2260440"/>
              <a:chExt cx="743040" cy="739440"/>
            </a:xfrm>
          </p:grpSpPr>
          <p:sp>
            <p:nvSpPr>
              <p:cNvPr id="1867" name=""/>
              <p:cNvSpPr/>
              <p:nvPr/>
            </p:nvSpPr>
            <p:spPr>
              <a:xfrm>
                <a:off x="9696600" y="22604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16186800">
                <a:off x="9696600" y="225900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9" name=""/>
            <p:cNvSpPr/>
            <p:nvPr/>
          </p:nvSpPr>
          <p:spPr>
            <a:xfrm>
              <a:off x="9695880" y="2753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9448920" y="25074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9943920" y="2753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9943920" y="27536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9695880" y="2260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9943920" y="2260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9695880" y="2260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9695880" y="3000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9201240" y="2755800"/>
            <a:ext cx="744120" cy="740160"/>
            <a:chOff x="9201240" y="2755800"/>
            <a:chExt cx="744120" cy="740160"/>
          </a:xfrm>
        </p:grpSpPr>
        <p:grpSp>
          <p:nvGrpSpPr>
            <p:cNvPr id="1878" name=""/>
            <p:cNvGrpSpPr/>
            <p:nvPr/>
          </p:nvGrpSpPr>
          <p:grpSpPr>
            <a:xfrm>
              <a:off x="9201240" y="2755800"/>
              <a:ext cx="740880" cy="740160"/>
              <a:chOff x="9201240" y="2755800"/>
              <a:chExt cx="740880" cy="740160"/>
            </a:xfrm>
          </p:grpSpPr>
          <p:sp>
            <p:nvSpPr>
              <p:cNvPr id="1879" name=""/>
              <p:cNvSpPr/>
              <p:nvPr/>
            </p:nvSpPr>
            <p:spPr>
              <a:xfrm rot="16200000">
                <a:off x="9448560" y="27550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rot="10786800">
                <a:off x="9448200" y="27561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1" name=""/>
            <p:cNvSpPr/>
            <p:nvPr/>
          </p:nvSpPr>
          <p:spPr>
            <a:xfrm>
              <a:off x="9695520" y="32490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9448560" y="3249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9695520" y="3002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9695520" y="27558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9201240" y="3002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201240" y="3002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9201240" y="3249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9942480" y="3002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5737320" y="2260800"/>
            <a:ext cx="744120" cy="741960"/>
            <a:chOff x="5737320" y="2260800"/>
            <a:chExt cx="744120" cy="741960"/>
          </a:xfrm>
        </p:grpSpPr>
        <p:grpSp>
          <p:nvGrpSpPr>
            <p:cNvPr id="1890" name=""/>
            <p:cNvGrpSpPr/>
            <p:nvPr/>
          </p:nvGrpSpPr>
          <p:grpSpPr>
            <a:xfrm>
              <a:off x="5737320" y="2260800"/>
              <a:ext cx="740880" cy="741960"/>
              <a:chOff x="5737320" y="2260800"/>
              <a:chExt cx="740880" cy="741960"/>
            </a:xfrm>
          </p:grpSpPr>
          <p:sp>
            <p:nvSpPr>
              <p:cNvPr id="1891" name=""/>
              <p:cNvSpPr/>
              <p:nvPr/>
            </p:nvSpPr>
            <p:spPr>
              <a:xfrm rot="16200000">
                <a:off x="5984280" y="2260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rot="10786800">
                <a:off x="5984280" y="2261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3" name=""/>
            <p:cNvSpPr/>
            <p:nvPr/>
          </p:nvSpPr>
          <p:spPr>
            <a:xfrm>
              <a:off x="6231600" y="2755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84640" y="275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231600" y="25077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231600" y="2261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737320" y="250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737320" y="2507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737320" y="275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478560" y="250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5488920" y="285840"/>
            <a:ext cx="741600" cy="742680"/>
            <a:chOff x="5488920" y="285840"/>
            <a:chExt cx="741600" cy="742680"/>
          </a:xfrm>
        </p:grpSpPr>
        <p:grpSp>
          <p:nvGrpSpPr>
            <p:cNvPr id="1902" name=""/>
            <p:cNvGrpSpPr/>
            <p:nvPr/>
          </p:nvGrpSpPr>
          <p:grpSpPr>
            <a:xfrm>
              <a:off x="5488920" y="285840"/>
              <a:ext cx="741600" cy="739440"/>
              <a:chOff x="5488920" y="285840"/>
              <a:chExt cx="741600" cy="739440"/>
            </a:xfrm>
          </p:grpSpPr>
          <p:sp>
            <p:nvSpPr>
              <p:cNvPr id="1903" name=""/>
              <p:cNvSpPr/>
              <p:nvPr/>
            </p:nvSpPr>
            <p:spPr>
              <a:xfrm>
                <a:off x="5736600" y="28584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rot="16186800">
                <a:off x="5736600" y="28512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>
              <a:off x="573624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5489280" y="532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98356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5983200" y="779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5735880" y="285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98356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73624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5735880" y="10256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5241240" y="2016000"/>
            <a:ext cx="741600" cy="742680"/>
            <a:chOff x="5241240" y="2016000"/>
            <a:chExt cx="741600" cy="742680"/>
          </a:xfrm>
        </p:grpSpPr>
        <p:grpSp>
          <p:nvGrpSpPr>
            <p:cNvPr id="1914" name=""/>
            <p:cNvGrpSpPr/>
            <p:nvPr/>
          </p:nvGrpSpPr>
          <p:grpSpPr>
            <a:xfrm>
              <a:off x="5241240" y="2016000"/>
              <a:ext cx="741600" cy="739440"/>
              <a:chOff x="5241240" y="2016000"/>
              <a:chExt cx="741600" cy="739440"/>
            </a:xfrm>
          </p:grpSpPr>
          <p:sp>
            <p:nvSpPr>
              <p:cNvPr id="1915" name=""/>
              <p:cNvSpPr/>
              <p:nvPr/>
            </p:nvSpPr>
            <p:spPr>
              <a:xfrm>
                <a:off x="5488920" y="20160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6186800">
                <a:off x="5488920" y="201528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7" name=""/>
            <p:cNvSpPr/>
            <p:nvPr/>
          </p:nvSpPr>
          <p:spPr>
            <a:xfrm>
              <a:off x="5488560" y="2509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>
              <a:off x="5241600" y="22629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735880" y="2509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5735520" y="2509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5488200" y="20160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735880" y="2016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488560" y="2016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5488200" y="2755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5240880" y="-457200"/>
            <a:ext cx="741600" cy="742680"/>
            <a:chOff x="5240880" y="-457200"/>
            <a:chExt cx="741600" cy="742680"/>
          </a:xfrm>
        </p:grpSpPr>
        <p:grpSp>
          <p:nvGrpSpPr>
            <p:cNvPr id="1926" name=""/>
            <p:cNvGrpSpPr/>
            <p:nvPr/>
          </p:nvGrpSpPr>
          <p:grpSpPr>
            <a:xfrm>
              <a:off x="5240880" y="-457200"/>
              <a:ext cx="741600" cy="739440"/>
              <a:chOff x="5240880" y="-457200"/>
              <a:chExt cx="741600" cy="739440"/>
            </a:xfrm>
          </p:grpSpPr>
          <p:sp>
            <p:nvSpPr>
              <p:cNvPr id="1927" name=""/>
              <p:cNvSpPr/>
              <p:nvPr/>
            </p:nvSpPr>
            <p:spPr>
              <a:xfrm>
                <a:off x="5488920" y="-4572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rot="16186800">
                <a:off x="5488560" y="-45684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>
              <a:off x="5488560" y="36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5241960" y="-2095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35880" y="36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5735520" y="360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5488560" y="-456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35880" y="-457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88560" y="-457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5488200" y="282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5488920" y="2755800"/>
            <a:ext cx="741600" cy="744120"/>
            <a:chOff x="5488920" y="2755800"/>
            <a:chExt cx="741600" cy="744120"/>
          </a:xfrm>
        </p:grpSpPr>
        <p:grpSp>
          <p:nvGrpSpPr>
            <p:cNvPr id="1938" name=""/>
            <p:cNvGrpSpPr/>
            <p:nvPr/>
          </p:nvGrpSpPr>
          <p:grpSpPr>
            <a:xfrm>
              <a:off x="5488920" y="2755800"/>
              <a:ext cx="741600" cy="740880"/>
              <a:chOff x="5488920" y="2755800"/>
              <a:chExt cx="741600" cy="740880"/>
            </a:xfrm>
          </p:grpSpPr>
          <p:sp>
            <p:nvSpPr>
              <p:cNvPr id="1939" name=""/>
              <p:cNvSpPr/>
              <p:nvPr/>
            </p:nvSpPr>
            <p:spPr>
              <a:xfrm>
                <a:off x="5736600" y="2755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rot="16186800">
                <a:off x="5736240" y="27558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1" name=""/>
            <p:cNvSpPr/>
            <p:nvPr/>
          </p:nvSpPr>
          <p:spPr>
            <a:xfrm>
              <a:off x="5736240" y="3250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>
              <a:off x="5489280" y="30031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983560" y="3250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5983200" y="32500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H="1">
              <a:off x="5735880" y="2755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83560" y="2755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736240" y="2755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5735880" y="34970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6477840" y="3246480"/>
            <a:ext cx="743400" cy="742680"/>
            <a:chOff x="6477840" y="3246480"/>
            <a:chExt cx="743400" cy="742680"/>
          </a:xfrm>
        </p:grpSpPr>
        <p:grpSp>
          <p:nvGrpSpPr>
            <p:cNvPr id="1950" name=""/>
            <p:cNvGrpSpPr/>
            <p:nvPr/>
          </p:nvGrpSpPr>
          <p:grpSpPr>
            <a:xfrm>
              <a:off x="6477840" y="3246480"/>
              <a:ext cx="743400" cy="739440"/>
              <a:chOff x="6477840" y="3246480"/>
              <a:chExt cx="743400" cy="739440"/>
            </a:xfrm>
          </p:grpSpPr>
          <p:sp>
            <p:nvSpPr>
              <p:cNvPr id="1951" name=""/>
              <p:cNvSpPr/>
              <p:nvPr/>
            </p:nvSpPr>
            <p:spPr>
              <a:xfrm>
                <a:off x="6726240" y="32464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16186800">
                <a:off x="6726240" y="32450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3" name=""/>
            <p:cNvSpPr/>
            <p:nvPr/>
          </p:nvSpPr>
          <p:spPr>
            <a:xfrm>
              <a:off x="6725880" y="3739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6478200" y="3493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973920" y="3739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6973560" y="37396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6725880" y="3246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973920" y="32464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25880" y="32464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6725880" y="398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5983200" y="3002040"/>
            <a:ext cx="745920" cy="741600"/>
            <a:chOff x="5983200" y="3002040"/>
            <a:chExt cx="745920" cy="741600"/>
          </a:xfrm>
        </p:grpSpPr>
        <p:grpSp>
          <p:nvGrpSpPr>
            <p:cNvPr id="1962" name=""/>
            <p:cNvGrpSpPr/>
            <p:nvPr/>
          </p:nvGrpSpPr>
          <p:grpSpPr>
            <a:xfrm>
              <a:off x="5983200" y="3002040"/>
              <a:ext cx="742680" cy="741600"/>
              <a:chOff x="5983200" y="3002040"/>
              <a:chExt cx="742680" cy="741600"/>
            </a:xfrm>
          </p:grpSpPr>
          <p:sp>
            <p:nvSpPr>
              <p:cNvPr id="1963" name=""/>
              <p:cNvSpPr/>
              <p:nvPr/>
            </p:nvSpPr>
            <p:spPr>
              <a:xfrm rot="16200000">
                <a:off x="6231240" y="30013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0786800">
                <a:off x="6230520" y="30024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5" name=""/>
            <p:cNvSpPr/>
            <p:nvPr/>
          </p:nvSpPr>
          <p:spPr>
            <a:xfrm>
              <a:off x="6478560" y="3496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231240" y="3496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478560" y="3249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478560" y="3002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983200" y="3249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983200" y="32490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83200" y="34963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726240" y="3249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7468560" y="3738600"/>
            <a:ext cx="741600" cy="744120"/>
            <a:chOff x="7468560" y="3738600"/>
            <a:chExt cx="741600" cy="744120"/>
          </a:xfrm>
        </p:grpSpPr>
        <p:grpSp>
          <p:nvGrpSpPr>
            <p:cNvPr id="1974" name=""/>
            <p:cNvGrpSpPr/>
            <p:nvPr/>
          </p:nvGrpSpPr>
          <p:grpSpPr>
            <a:xfrm>
              <a:off x="7468560" y="3738600"/>
              <a:ext cx="741600" cy="740880"/>
              <a:chOff x="7468560" y="3738600"/>
              <a:chExt cx="741600" cy="740880"/>
            </a:xfrm>
          </p:grpSpPr>
          <p:sp>
            <p:nvSpPr>
              <p:cNvPr id="1975" name=""/>
              <p:cNvSpPr/>
              <p:nvPr/>
            </p:nvSpPr>
            <p:spPr>
              <a:xfrm>
                <a:off x="7716240" y="37386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16186800">
                <a:off x="7715880" y="37386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7" name=""/>
            <p:cNvSpPr/>
            <p:nvPr/>
          </p:nvSpPr>
          <p:spPr>
            <a:xfrm>
              <a:off x="7715880" y="4232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7468920" y="39859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963200" y="4232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7962840" y="42328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7715520" y="3738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963200" y="3738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715880" y="3738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7715520" y="4479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9201240" y="285840"/>
            <a:ext cx="744120" cy="741600"/>
            <a:chOff x="9201240" y="285840"/>
            <a:chExt cx="744120" cy="741600"/>
          </a:xfrm>
        </p:grpSpPr>
        <p:grpSp>
          <p:nvGrpSpPr>
            <p:cNvPr id="1986" name=""/>
            <p:cNvGrpSpPr/>
            <p:nvPr/>
          </p:nvGrpSpPr>
          <p:grpSpPr>
            <a:xfrm>
              <a:off x="9201240" y="285840"/>
              <a:ext cx="740880" cy="741600"/>
              <a:chOff x="9201240" y="285840"/>
              <a:chExt cx="740880" cy="741600"/>
            </a:xfrm>
          </p:grpSpPr>
          <p:sp>
            <p:nvSpPr>
              <p:cNvPr id="1987" name=""/>
              <p:cNvSpPr/>
              <p:nvPr/>
            </p:nvSpPr>
            <p:spPr>
              <a:xfrm rot="16200000">
                <a:off x="9448200" y="285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10786800">
                <a:off x="9448200" y="2862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9695520" y="780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9448560" y="780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9695520" y="532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9695520" y="286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9201240" y="533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9201240" y="532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9201240" y="780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9942480" y="533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4992120" y="6213600"/>
            <a:ext cx="740160" cy="742320"/>
            <a:chOff x="4992120" y="6213600"/>
            <a:chExt cx="740160" cy="742320"/>
          </a:xfrm>
        </p:grpSpPr>
        <p:grpSp>
          <p:nvGrpSpPr>
            <p:cNvPr id="1998" name=""/>
            <p:cNvGrpSpPr/>
            <p:nvPr/>
          </p:nvGrpSpPr>
          <p:grpSpPr>
            <a:xfrm>
              <a:off x="4992120" y="6213600"/>
              <a:ext cx="740160" cy="739080"/>
              <a:chOff x="4992120" y="6213600"/>
              <a:chExt cx="740160" cy="739080"/>
            </a:xfrm>
          </p:grpSpPr>
          <p:sp>
            <p:nvSpPr>
              <p:cNvPr id="1999" name=""/>
              <p:cNvSpPr/>
              <p:nvPr/>
            </p:nvSpPr>
            <p:spPr>
              <a:xfrm>
                <a:off x="5239440" y="6213600"/>
                <a:ext cx="2458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6186800">
                <a:off x="5239080" y="6213240"/>
                <a:ext cx="2458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1" name=""/>
            <p:cNvSpPr/>
            <p:nvPr/>
          </p:nvSpPr>
          <p:spPr>
            <a:xfrm>
              <a:off x="523908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4992840" y="64602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8604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5486040" y="67068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5238720" y="62136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48604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23908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5238720" y="695304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6973920" y="3495960"/>
            <a:ext cx="744120" cy="741960"/>
            <a:chOff x="6973920" y="3495960"/>
            <a:chExt cx="744120" cy="741960"/>
          </a:xfrm>
        </p:grpSpPr>
        <p:grpSp>
          <p:nvGrpSpPr>
            <p:cNvPr id="2010" name=""/>
            <p:cNvGrpSpPr/>
            <p:nvPr/>
          </p:nvGrpSpPr>
          <p:grpSpPr>
            <a:xfrm>
              <a:off x="6973920" y="3495960"/>
              <a:ext cx="740880" cy="741960"/>
              <a:chOff x="6973920" y="3495960"/>
              <a:chExt cx="740880" cy="741960"/>
            </a:xfrm>
          </p:grpSpPr>
          <p:sp>
            <p:nvSpPr>
              <p:cNvPr id="2011" name=""/>
              <p:cNvSpPr/>
              <p:nvPr/>
            </p:nvSpPr>
            <p:spPr>
              <a:xfrm rot="16200000">
                <a:off x="7220880" y="34959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rot="10786800">
                <a:off x="7220880" y="34963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7468200" y="3990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221240" y="399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68200" y="374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468200" y="3496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973920" y="3743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973920" y="374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973920" y="3990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715160" y="3743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6973200" y="-206280"/>
            <a:ext cx="743400" cy="742320"/>
            <a:chOff x="6973200" y="-206280"/>
            <a:chExt cx="743400" cy="742320"/>
          </a:xfrm>
        </p:grpSpPr>
        <p:grpSp>
          <p:nvGrpSpPr>
            <p:cNvPr id="2022" name=""/>
            <p:cNvGrpSpPr/>
            <p:nvPr/>
          </p:nvGrpSpPr>
          <p:grpSpPr>
            <a:xfrm>
              <a:off x="6973200" y="-206280"/>
              <a:ext cx="743400" cy="739080"/>
              <a:chOff x="6973200" y="-206280"/>
              <a:chExt cx="743400" cy="739080"/>
            </a:xfrm>
          </p:grpSpPr>
          <p:sp>
            <p:nvSpPr>
              <p:cNvPr id="2023" name=""/>
              <p:cNvSpPr/>
              <p:nvPr/>
            </p:nvSpPr>
            <p:spPr>
              <a:xfrm>
                <a:off x="7221600" y="-2062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16186800">
                <a:off x="7221960" y="-2080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5" name=""/>
            <p:cNvSpPr/>
            <p:nvPr/>
          </p:nvSpPr>
          <p:spPr>
            <a:xfrm>
              <a:off x="722124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>
              <a:off x="6973560" y="40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46928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468920" y="2869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>
              <a:off x="7221240" y="-20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46928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22124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>
              <a:off x="7221240" y="533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8705160" y="36360"/>
            <a:ext cx="743400" cy="742680"/>
            <a:chOff x="8705160" y="36360"/>
            <a:chExt cx="743400" cy="742680"/>
          </a:xfrm>
        </p:grpSpPr>
        <p:grpSp>
          <p:nvGrpSpPr>
            <p:cNvPr id="2034" name=""/>
            <p:cNvGrpSpPr/>
            <p:nvPr/>
          </p:nvGrpSpPr>
          <p:grpSpPr>
            <a:xfrm>
              <a:off x="8705160" y="36360"/>
              <a:ext cx="743400" cy="739440"/>
              <a:chOff x="8705160" y="36360"/>
              <a:chExt cx="743400" cy="739440"/>
            </a:xfrm>
          </p:grpSpPr>
          <p:sp>
            <p:nvSpPr>
              <p:cNvPr id="2035" name=""/>
              <p:cNvSpPr/>
              <p:nvPr/>
            </p:nvSpPr>
            <p:spPr>
              <a:xfrm>
                <a:off x="8953560" y="36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6186800">
                <a:off x="8953560" y="349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953200" y="529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8705520" y="283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9201240" y="529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9200880" y="529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>
              <a:off x="8953200" y="36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9201240" y="36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8953200" y="36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8953200" y="776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6478560" y="-455400"/>
            <a:ext cx="744120" cy="741960"/>
            <a:chOff x="6478560" y="-455400"/>
            <a:chExt cx="744120" cy="741960"/>
          </a:xfrm>
        </p:grpSpPr>
        <p:grpSp>
          <p:nvGrpSpPr>
            <p:cNvPr id="2046" name=""/>
            <p:cNvGrpSpPr/>
            <p:nvPr/>
          </p:nvGrpSpPr>
          <p:grpSpPr>
            <a:xfrm>
              <a:off x="6478560" y="-455400"/>
              <a:ext cx="740880" cy="741960"/>
              <a:chOff x="6478560" y="-455400"/>
              <a:chExt cx="740880" cy="741960"/>
            </a:xfrm>
          </p:grpSpPr>
          <p:sp>
            <p:nvSpPr>
              <p:cNvPr id="2047" name=""/>
              <p:cNvSpPr/>
              <p:nvPr/>
            </p:nvSpPr>
            <p:spPr>
              <a:xfrm rot="16200000">
                <a:off x="6725520" y="-4550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0786800">
                <a:off x="6725880" y="-4546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9" name=""/>
            <p:cNvSpPr/>
            <p:nvPr/>
          </p:nvSpPr>
          <p:spPr>
            <a:xfrm>
              <a:off x="6972840" y="392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26600" y="39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972840" y="-208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972840" y="-454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478920" y="-208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478560" y="-208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478560" y="39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19800" y="-2077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7469280" y="38160"/>
            <a:ext cx="744120" cy="741600"/>
            <a:chOff x="7469280" y="38160"/>
            <a:chExt cx="744120" cy="741600"/>
          </a:xfrm>
        </p:grpSpPr>
        <p:grpSp>
          <p:nvGrpSpPr>
            <p:cNvPr id="2058" name=""/>
            <p:cNvGrpSpPr/>
            <p:nvPr/>
          </p:nvGrpSpPr>
          <p:grpSpPr>
            <a:xfrm>
              <a:off x="7469280" y="38160"/>
              <a:ext cx="740880" cy="741600"/>
              <a:chOff x="7469280" y="38160"/>
              <a:chExt cx="740880" cy="741600"/>
            </a:xfrm>
          </p:grpSpPr>
          <p:sp>
            <p:nvSpPr>
              <p:cNvPr id="2059" name=""/>
              <p:cNvSpPr/>
              <p:nvPr/>
            </p:nvSpPr>
            <p:spPr>
              <a:xfrm rot="16200000">
                <a:off x="7716240" y="38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rot="10786800">
                <a:off x="7716240" y="385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1" name=""/>
            <p:cNvSpPr/>
            <p:nvPr/>
          </p:nvSpPr>
          <p:spPr>
            <a:xfrm>
              <a:off x="7963560" y="532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716600" y="532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963560" y="285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963560" y="38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469280" y="285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469280" y="285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69280" y="532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8210520" y="285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8210520" y="-206280"/>
            <a:ext cx="745920" cy="740160"/>
            <a:chOff x="8210520" y="-206280"/>
            <a:chExt cx="745920" cy="740160"/>
          </a:xfrm>
        </p:grpSpPr>
        <p:grpSp>
          <p:nvGrpSpPr>
            <p:cNvPr id="2070" name=""/>
            <p:cNvGrpSpPr/>
            <p:nvPr/>
          </p:nvGrpSpPr>
          <p:grpSpPr>
            <a:xfrm>
              <a:off x="8210520" y="-206280"/>
              <a:ext cx="742680" cy="740160"/>
              <a:chOff x="8210520" y="-206280"/>
              <a:chExt cx="742680" cy="740160"/>
            </a:xfrm>
          </p:grpSpPr>
          <p:sp>
            <p:nvSpPr>
              <p:cNvPr id="2071" name=""/>
              <p:cNvSpPr/>
              <p:nvPr/>
            </p:nvSpPr>
            <p:spPr>
              <a:xfrm rot="16200000">
                <a:off x="8458920" y="-20736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10786800">
                <a:off x="8457840" y="-20556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3" name=""/>
            <p:cNvSpPr/>
            <p:nvPr/>
          </p:nvSpPr>
          <p:spPr>
            <a:xfrm>
              <a:off x="8705880" y="286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8458560" y="286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705880" y="39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8705880" y="-206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210880" y="40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210520" y="399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8210520" y="2869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8953560" y="40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7715880" y="-457200"/>
            <a:ext cx="741600" cy="742680"/>
            <a:chOff x="7715880" y="-457200"/>
            <a:chExt cx="741600" cy="742680"/>
          </a:xfrm>
        </p:grpSpPr>
        <p:grpSp>
          <p:nvGrpSpPr>
            <p:cNvPr id="2082" name=""/>
            <p:cNvGrpSpPr/>
            <p:nvPr/>
          </p:nvGrpSpPr>
          <p:grpSpPr>
            <a:xfrm>
              <a:off x="7715880" y="-457200"/>
              <a:ext cx="741600" cy="739440"/>
              <a:chOff x="7715880" y="-457200"/>
              <a:chExt cx="741600" cy="739440"/>
            </a:xfrm>
          </p:grpSpPr>
          <p:sp>
            <p:nvSpPr>
              <p:cNvPr id="2083" name=""/>
              <p:cNvSpPr/>
              <p:nvPr/>
            </p:nvSpPr>
            <p:spPr>
              <a:xfrm>
                <a:off x="7963920" y="-4572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rot="16186800">
                <a:off x="7963560" y="-45684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5" name=""/>
            <p:cNvSpPr/>
            <p:nvPr/>
          </p:nvSpPr>
          <p:spPr>
            <a:xfrm>
              <a:off x="7963560" y="36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7716960" y="-2095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210880" y="36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8210520" y="360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7963560" y="-456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210880" y="-457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963560" y="-457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7963200" y="282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8952840" y="779400"/>
            <a:ext cx="743400" cy="745920"/>
            <a:chOff x="8952840" y="779400"/>
            <a:chExt cx="743400" cy="745920"/>
          </a:xfrm>
        </p:grpSpPr>
        <p:grpSp>
          <p:nvGrpSpPr>
            <p:cNvPr id="2094" name=""/>
            <p:cNvGrpSpPr/>
            <p:nvPr/>
          </p:nvGrpSpPr>
          <p:grpSpPr>
            <a:xfrm>
              <a:off x="8952840" y="779400"/>
              <a:ext cx="743400" cy="742680"/>
              <a:chOff x="8952840" y="779400"/>
              <a:chExt cx="743400" cy="742680"/>
            </a:xfrm>
          </p:grpSpPr>
          <p:sp>
            <p:nvSpPr>
              <p:cNvPr id="2095" name=""/>
              <p:cNvSpPr/>
              <p:nvPr/>
            </p:nvSpPr>
            <p:spPr>
              <a:xfrm>
                <a:off x="9201240" y="779400"/>
                <a:ext cx="24696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rot="16186800">
                <a:off x="9200880" y="779040"/>
                <a:ext cx="24732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7" name=""/>
            <p:cNvSpPr/>
            <p:nvPr/>
          </p:nvSpPr>
          <p:spPr>
            <a:xfrm>
              <a:off x="9200880" y="12747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8953200" y="1027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9448920" y="12747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9448560" y="1274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9200880" y="779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9448920" y="779400"/>
              <a:ext cx="0" cy="2480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9200880" y="779400"/>
              <a:ext cx="0" cy="2480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9200880" y="1522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9448920" y="1027080"/>
            <a:ext cx="744120" cy="741600"/>
            <a:chOff x="9448920" y="1027080"/>
            <a:chExt cx="744120" cy="741600"/>
          </a:xfrm>
        </p:grpSpPr>
        <p:grpSp>
          <p:nvGrpSpPr>
            <p:cNvPr id="2106" name=""/>
            <p:cNvGrpSpPr/>
            <p:nvPr/>
          </p:nvGrpSpPr>
          <p:grpSpPr>
            <a:xfrm>
              <a:off x="9448920" y="1027080"/>
              <a:ext cx="740880" cy="741600"/>
              <a:chOff x="9448920" y="1027080"/>
              <a:chExt cx="740880" cy="741600"/>
            </a:xfrm>
          </p:grpSpPr>
          <p:sp>
            <p:nvSpPr>
              <p:cNvPr id="2107" name=""/>
              <p:cNvSpPr/>
              <p:nvPr/>
            </p:nvSpPr>
            <p:spPr>
              <a:xfrm rot="16200000">
                <a:off x="9695880" y="10270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0786800">
                <a:off x="9695880" y="10274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9" name=""/>
            <p:cNvSpPr/>
            <p:nvPr/>
          </p:nvSpPr>
          <p:spPr>
            <a:xfrm>
              <a:off x="9943200" y="15213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9696240" y="15217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9943200" y="1274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943200" y="1027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448920" y="1274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448920" y="1274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448920" y="1521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0190160" y="1274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8705880" y="3743280"/>
            <a:ext cx="744120" cy="740160"/>
            <a:chOff x="8705880" y="3743280"/>
            <a:chExt cx="744120" cy="740160"/>
          </a:xfrm>
        </p:grpSpPr>
        <p:grpSp>
          <p:nvGrpSpPr>
            <p:cNvPr id="2118" name=""/>
            <p:cNvGrpSpPr/>
            <p:nvPr/>
          </p:nvGrpSpPr>
          <p:grpSpPr>
            <a:xfrm>
              <a:off x="8705880" y="3743280"/>
              <a:ext cx="740880" cy="740160"/>
              <a:chOff x="8705880" y="3743280"/>
              <a:chExt cx="740880" cy="740160"/>
            </a:xfrm>
          </p:grpSpPr>
          <p:sp>
            <p:nvSpPr>
              <p:cNvPr id="2119" name=""/>
              <p:cNvSpPr/>
              <p:nvPr/>
            </p:nvSpPr>
            <p:spPr>
              <a:xfrm rot="16200000">
                <a:off x="8953200" y="37425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10786800">
                <a:off x="8952840" y="37436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1" name=""/>
            <p:cNvSpPr/>
            <p:nvPr/>
          </p:nvSpPr>
          <p:spPr>
            <a:xfrm>
              <a:off x="9200160" y="4236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953200" y="42364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9200160" y="39895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9200160" y="3743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705880" y="39902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705880" y="3989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705880" y="423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9447120" y="39902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7964640" y="3989520"/>
            <a:ext cx="744120" cy="741600"/>
            <a:chOff x="7964640" y="3989520"/>
            <a:chExt cx="744120" cy="741600"/>
          </a:xfrm>
        </p:grpSpPr>
        <p:grpSp>
          <p:nvGrpSpPr>
            <p:cNvPr id="2130" name=""/>
            <p:cNvGrpSpPr/>
            <p:nvPr/>
          </p:nvGrpSpPr>
          <p:grpSpPr>
            <a:xfrm>
              <a:off x="7964640" y="3989520"/>
              <a:ext cx="740880" cy="741600"/>
              <a:chOff x="7964640" y="3989520"/>
              <a:chExt cx="740880" cy="741600"/>
            </a:xfrm>
          </p:grpSpPr>
          <p:sp>
            <p:nvSpPr>
              <p:cNvPr id="2131" name=""/>
              <p:cNvSpPr/>
              <p:nvPr/>
            </p:nvSpPr>
            <p:spPr>
              <a:xfrm rot="16200000">
                <a:off x="8211600" y="39895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rot="10786800">
                <a:off x="8211600" y="39898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3" name=""/>
            <p:cNvSpPr/>
            <p:nvPr/>
          </p:nvSpPr>
          <p:spPr>
            <a:xfrm>
              <a:off x="8458920" y="4483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8211960" y="4484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8458920" y="4236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458920" y="3990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964640" y="4236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964640" y="423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964640" y="4483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705880" y="4236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6230880" y="6212160"/>
            <a:ext cx="744120" cy="741960"/>
            <a:chOff x="6230880" y="6212160"/>
            <a:chExt cx="744120" cy="741960"/>
          </a:xfrm>
        </p:grpSpPr>
        <p:grpSp>
          <p:nvGrpSpPr>
            <p:cNvPr id="2142" name=""/>
            <p:cNvGrpSpPr/>
            <p:nvPr/>
          </p:nvGrpSpPr>
          <p:grpSpPr>
            <a:xfrm>
              <a:off x="6230880" y="6212160"/>
              <a:ext cx="740880" cy="741960"/>
              <a:chOff x="6230880" y="6212160"/>
              <a:chExt cx="740880" cy="741960"/>
            </a:xfrm>
          </p:grpSpPr>
          <p:sp>
            <p:nvSpPr>
              <p:cNvPr id="2143" name=""/>
              <p:cNvSpPr/>
              <p:nvPr/>
            </p:nvSpPr>
            <p:spPr>
              <a:xfrm rot="16200000">
                <a:off x="6477840" y="6212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10786800">
                <a:off x="6477840" y="62125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6725160" y="6706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478200" y="6707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25160" y="6459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25160" y="6212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230880" y="6459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230880" y="6459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230880" y="6706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972120" y="6459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9201240" y="5222880"/>
            <a:ext cx="744120" cy="741600"/>
            <a:chOff x="9201240" y="5222880"/>
            <a:chExt cx="744120" cy="741600"/>
          </a:xfrm>
        </p:grpSpPr>
        <p:grpSp>
          <p:nvGrpSpPr>
            <p:cNvPr id="2154" name=""/>
            <p:cNvGrpSpPr/>
            <p:nvPr/>
          </p:nvGrpSpPr>
          <p:grpSpPr>
            <a:xfrm>
              <a:off x="9201240" y="5222880"/>
              <a:ext cx="740880" cy="741600"/>
              <a:chOff x="9201240" y="5222880"/>
              <a:chExt cx="740880" cy="741600"/>
            </a:xfrm>
          </p:grpSpPr>
          <p:sp>
            <p:nvSpPr>
              <p:cNvPr id="2155" name=""/>
              <p:cNvSpPr/>
              <p:nvPr/>
            </p:nvSpPr>
            <p:spPr>
              <a:xfrm rot="16200000">
                <a:off x="9448200" y="52228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10786800">
                <a:off x="9448200" y="52232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7" name=""/>
            <p:cNvSpPr/>
            <p:nvPr/>
          </p:nvSpPr>
          <p:spPr>
            <a:xfrm>
              <a:off x="9695520" y="5717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9448560" y="5717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9695520" y="54698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9695520" y="52236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9201240" y="5470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9201240" y="5469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9201240" y="5717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9942480" y="5470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8457480" y="4237200"/>
            <a:ext cx="743400" cy="742320"/>
            <a:chOff x="8457480" y="4237200"/>
            <a:chExt cx="743400" cy="742320"/>
          </a:xfrm>
        </p:grpSpPr>
        <p:grpSp>
          <p:nvGrpSpPr>
            <p:cNvPr id="2166" name=""/>
            <p:cNvGrpSpPr/>
            <p:nvPr/>
          </p:nvGrpSpPr>
          <p:grpSpPr>
            <a:xfrm>
              <a:off x="8457480" y="4237200"/>
              <a:ext cx="743400" cy="739080"/>
              <a:chOff x="8457480" y="4237200"/>
              <a:chExt cx="743400" cy="739080"/>
            </a:xfrm>
          </p:grpSpPr>
          <p:sp>
            <p:nvSpPr>
              <p:cNvPr id="2167" name=""/>
              <p:cNvSpPr/>
              <p:nvPr/>
            </p:nvSpPr>
            <p:spPr>
              <a:xfrm>
                <a:off x="8705880" y="423720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16186800">
                <a:off x="8706240" y="423504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9" name=""/>
            <p:cNvSpPr/>
            <p:nvPr/>
          </p:nvSpPr>
          <p:spPr>
            <a:xfrm>
              <a:off x="8705520" y="4730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>
              <a:off x="8457840" y="4483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953560" y="4730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8953200" y="4730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8705520" y="4237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8953560" y="42372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705520" y="42372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8705520" y="4976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7716240" y="4483080"/>
            <a:ext cx="741600" cy="742680"/>
            <a:chOff x="7716240" y="4483080"/>
            <a:chExt cx="741600" cy="742680"/>
          </a:xfrm>
        </p:grpSpPr>
        <p:grpSp>
          <p:nvGrpSpPr>
            <p:cNvPr id="2178" name=""/>
            <p:cNvGrpSpPr/>
            <p:nvPr/>
          </p:nvGrpSpPr>
          <p:grpSpPr>
            <a:xfrm>
              <a:off x="7716240" y="4483080"/>
              <a:ext cx="741600" cy="739440"/>
              <a:chOff x="7716240" y="4483080"/>
              <a:chExt cx="741600" cy="739440"/>
            </a:xfrm>
          </p:grpSpPr>
          <p:sp>
            <p:nvSpPr>
              <p:cNvPr id="2179" name=""/>
              <p:cNvSpPr/>
              <p:nvPr/>
            </p:nvSpPr>
            <p:spPr>
              <a:xfrm>
                <a:off x="7963920" y="448308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rot="16186800">
                <a:off x="7963920" y="448236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1" name=""/>
            <p:cNvSpPr/>
            <p:nvPr/>
          </p:nvSpPr>
          <p:spPr>
            <a:xfrm>
              <a:off x="7963560" y="4976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H="1">
              <a:off x="7716600" y="4730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210880" y="4976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8210520" y="49762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7963200" y="44830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210880" y="4483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963560" y="4483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7963200" y="5222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7221600" y="4237200"/>
            <a:ext cx="744120" cy="741600"/>
            <a:chOff x="7221600" y="4237200"/>
            <a:chExt cx="744120" cy="741600"/>
          </a:xfrm>
        </p:grpSpPr>
        <p:grpSp>
          <p:nvGrpSpPr>
            <p:cNvPr id="2190" name=""/>
            <p:cNvGrpSpPr/>
            <p:nvPr/>
          </p:nvGrpSpPr>
          <p:grpSpPr>
            <a:xfrm>
              <a:off x="7221600" y="4237200"/>
              <a:ext cx="740880" cy="741600"/>
              <a:chOff x="7221600" y="4237200"/>
              <a:chExt cx="740880" cy="741600"/>
            </a:xfrm>
          </p:grpSpPr>
          <p:sp>
            <p:nvSpPr>
              <p:cNvPr id="2191" name=""/>
              <p:cNvSpPr/>
              <p:nvPr/>
            </p:nvSpPr>
            <p:spPr>
              <a:xfrm rot="16200000">
                <a:off x="7468560" y="42372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10786800">
                <a:off x="7468560" y="423756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3" name=""/>
            <p:cNvSpPr/>
            <p:nvPr/>
          </p:nvSpPr>
          <p:spPr>
            <a:xfrm>
              <a:off x="7715880" y="4731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468920" y="4731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715880" y="4484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715880" y="42379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221600" y="4484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221600" y="4484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221600" y="4731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962840" y="4484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1" name=""/>
          <p:cNvGrpSpPr/>
          <p:nvPr/>
        </p:nvGrpSpPr>
        <p:grpSpPr>
          <a:xfrm>
            <a:off x="9200520" y="3989520"/>
            <a:ext cx="743400" cy="744120"/>
            <a:chOff x="9200520" y="3989520"/>
            <a:chExt cx="743400" cy="744120"/>
          </a:xfrm>
        </p:grpSpPr>
        <p:grpSp>
          <p:nvGrpSpPr>
            <p:cNvPr id="2202" name=""/>
            <p:cNvGrpSpPr/>
            <p:nvPr/>
          </p:nvGrpSpPr>
          <p:grpSpPr>
            <a:xfrm>
              <a:off x="9200520" y="3989520"/>
              <a:ext cx="743400" cy="740880"/>
              <a:chOff x="9200520" y="3989520"/>
              <a:chExt cx="743400" cy="740880"/>
            </a:xfrm>
          </p:grpSpPr>
          <p:sp>
            <p:nvSpPr>
              <p:cNvPr id="2203" name=""/>
              <p:cNvSpPr/>
              <p:nvPr/>
            </p:nvSpPr>
            <p:spPr>
              <a:xfrm>
                <a:off x="9448920" y="39895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rot="16186800">
                <a:off x="9448920" y="39884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5" name=""/>
            <p:cNvSpPr/>
            <p:nvPr/>
          </p:nvSpPr>
          <p:spPr>
            <a:xfrm>
              <a:off x="944856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9200880" y="4236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969660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9696240" y="4483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9448560" y="3989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969660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944856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>
              <a:off x="944856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9448920" y="3495960"/>
            <a:ext cx="744120" cy="741960"/>
            <a:chOff x="9448920" y="3495960"/>
            <a:chExt cx="744120" cy="741960"/>
          </a:xfrm>
        </p:grpSpPr>
        <p:grpSp>
          <p:nvGrpSpPr>
            <p:cNvPr id="2214" name=""/>
            <p:cNvGrpSpPr/>
            <p:nvPr/>
          </p:nvGrpSpPr>
          <p:grpSpPr>
            <a:xfrm>
              <a:off x="9448920" y="3495960"/>
              <a:ext cx="740880" cy="741960"/>
              <a:chOff x="9448920" y="3495960"/>
              <a:chExt cx="740880" cy="741960"/>
            </a:xfrm>
          </p:grpSpPr>
          <p:sp>
            <p:nvSpPr>
              <p:cNvPr id="2215" name=""/>
              <p:cNvSpPr/>
              <p:nvPr/>
            </p:nvSpPr>
            <p:spPr>
              <a:xfrm rot="16200000">
                <a:off x="9695880" y="34959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10786800">
                <a:off x="9695880" y="34963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7" name=""/>
            <p:cNvSpPr/>
            <p:nvPr/>
          </p:nvSpPr>
          <p:spPr>
            <a:xfrm>
              <a:off x="9943200" y="3990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9696240" y="399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9943200" y="374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9943200" y="3496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9448920" y="3743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9448920" y="374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9448920" y="3990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0190160" y="3743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5" name=""/>
          <p:cNvGrpSpPr/>
          <p:nvPr/>
        </p:nvGrpSpPr>
        <p:grpSpPr>
          <a:xfrm>
            <a:off x="5237280" y="3249720"/>
            <a:ext cx="745560" cy="740160"/>
            <a:chOff x="5237280" y="3249720"/>
            <a:chExt cx="745560" cy="740160"/>
          </a:xfrm>
        </p:grpSpPr>
        <p:grpSp>
          <p:nvGrpSpPr>
            <p:cNvPr id="2226" name=""/>
            <p:cNvGrpSpPr/>
            <p:nvPr/>
          </p:nvGrpSpPr>
          <p:grpSpPr>
            <a:xfrm>
              <a:off x="5237280" y="3249720"/>
              <a:ext cx="742320" cy="740160"/>
              <a:chOff x="5237280" y="3249720"/>
              <a:chExt cx="742320" cy="740160"/>
            </a:xfrm>
          </p:grpSpPr>
          <p:sp>
            <p:nvSpPr>
              <p:cNvPr id="2227" name=""/>
              <p:cNvSpPr/>
              <p:nvPr/>
            </p:nvSpPr>
            <p:spPr>
              <a:xfrm rot="16200000">
                <a:off x="5485320" y="32482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rot="10786800">
                <a:off x="5484960" y="32500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9" name=""/>
            <p:cNvSpPr/>
            <p:nvPr/>
          </p:nvSpPr>
          <p:spPr>
            <a:xfrm>
              <a:off x="5732640" y="374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484960" y="3742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732640" y="3495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732640" y="3249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237280" y="3496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237280" y="34959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237280" y="37429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979960" y="3496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5736600" y="3495600"/>
            <a:ext cx="741600" cy="742680"/>
            <a:chOff x="5736600" y="3495600"/>
            <a:chExt cx="741600" cy="742680"/>
          </a:xfrm>
        </p:grpSpPr>
        <p:grpSp>
          <p:nvGrpSpPr>
            <p:cNvPr id="2238" name=""/>
            <p:cNvGrpSpPr/>
            <p:nvPr/>
          </p:nvGrpSpPr>
          <p:grpSpPr>
            <a:xfrm>
              <a:off x="5736600" y="3495600"/>
              <a:ext cx="741600" cy="739440"/>
              <a:chOff x="5736600" y="3495600"/>
              <a:chExt cx="741600" cy="739440"/>
            </a:xfrm>
          </p:grpSpPr>
          <p:sp>
            <p:nvSpPr>
              <p:cNvPr id="2239" name=""/>
              <p:cNvSpPr/>
              <p:nvPr/>
            </p:nvSpPr>
            <p:spPr>
              <a:xfrm>
                <a:off x="5984280" y="34956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rot="16186800">
                <a:off x="5984280" y="349488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1" name=""/>
            <p:cNvSpPr/>
            <p:nvPr/>
          </p:nvSpPr>
          <p:spPr>
            <a:xfrm>
              <a:off x="598392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736960" y="37425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23124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6230880" y="3988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5983560" y="3495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23124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8392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H="1">
              <a:off x="5983560" y="42354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9" name=""/>
          <p:cNvGrpSpPr/>
          <p:nvPr/>
        </p:nvGrpSpPr>
        <p:grpSpPr>
          <a:xfrm>
            <a:off x="6230880" y="3743280"/>
            <a:ext cx="744120" cy="740160"/>
            <a:chOff x="6230880" y="3743280"/>
            <a:chExt cx="744120" cy="740160"/>
          </a:xfrm>
        </p:grpSpPr>
        <p:grpSp>
          <p:nvGrpSpPr>
            <p:cNvPr id="2250" name=""/>
            <p:cNvGrpSpPr/>
            <p:nvPr/>
          </p:nvGrpSpPr>
          <p:grpSpPr>
            <a:xfrm>
              <a:off x="6230880" y="3743280"/>
              <a:ext cx="740880" cy="740160"/>
              <a:chOff x="6230880" y="3743280"/>
              <a:chExt cx="740880" cy="740160"/>
            </a:xfrm>
          </p:grpSpPr>
          <p:sp>
            <p:nvSpPr>
              <p:cNvPr id="2251" name=""/>
              <p:cNvSpPr/>
              <p:nvPr/>
            </p:nvSpPr>
            <p:spPr>
              <a:xfrm rot="16200000">
                <a:off x="6478200" y="37425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10786800">
                <a:off x="6477840" y="37436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3" name=""/>
            <p:cNvSpPr/>
            <p:nvPr/>
          </p:nvSpPr>
          <p:spPr>
            <a:xfrm>
              <a:off x="6725160" y="4236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478200" y="42364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725160" y="39895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725160" y="3743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230880" y="39902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230880" y="3989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230880" y="423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972120" y="39902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1" name=""/>
          <p:cNvGrpSpPr/>
          <p:nvPr/>
        </p:nvGrpSpPr>
        <p:grpSpPr>
          <a:xfrm>
            <a:off x="6725520" y="3989520"/>
            <a:ext cx="743400" cy="744120"/>
            <a:chOff x="6725520" y="3989520"/>
            <a:chExt cx="743400" cy="744120"/>
          </a:xfrm>
        </p:grpSpPr>
        <p:grpSp>
          <p:nvGrpSpPr>
            <p:cNvPr id="2262" name=""/>
            <p:cNvGrpSpPr/>
            <p:nvPr/>
          </p:nvGrpSpPr>
          <p:grpSpPr>
            <a:xfrm>
              <a:off x="6725520" y="3989520"/>
              <a:ext cx="743400" cy="740880"/>
              <a:chOff x="6725520" y="3989520"/>
              <a:chExt cx="743400" cy="740880"/>
            </a:xfrm>
          </p:grpSpPr>
          <p:sp>
            <p:nvSpPr>
              <p:cNvPr id="2263" name=""/>
              <p:cNvSpPr/>
              <p:nvPr/>
            </p:nvSpPr>
            <p:spPr>
              <a:xfrm>
                <a:off x="6973920" y="39895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16186800">
                <a:off x="6973920" y="39884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5" name=""/>
            <p:cNvSpPr/>
            <p:nvPr/>
          </p:nvSpPr>
          <p:spPr>
            <a:xfrm>
              <a:off x="697356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6725880" y="4236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22160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H="1">
              <a:off x="7221240" y="4483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6973560" y="3989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22160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97356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H="1">
              <a:off x="697356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3" name=""/>
          <p:cNvGrpSpPr/>
          <p:nvPr/>
        </p:nvGrpSpPr>
        <p:grpSpPr>
          <a:xfrm>
            <a:off x="5982480" y="4237200"/>
            <a:ext cx="743400" cy="742320"/>
            <a:chOff x="5982480" y="4237200"/>
            <a:chExt cx="743400" cy="742320"/>
          </a:xfrm>
        </p:grpSpPr>
        <p:grpSp>
          <p:nvGrpSpPr>
            <p:cNvPr id="2274" name=""/>
            <p:cNvGrpSpPr/>
            <p:nvPr/>
          </p:nvGrpSpPr>
          <p:grpSpPr>
            <a:xfrm>
              <a:off x="5982480" y="4237200"/>
              <a:ext cx="743400" cy="739080"/>
              <a:chOff x="5982480" y="4237200"/>
              <a:chExt cx="743400" cy="739080"/>
            </a:xfrm>
          </p:grpSpPr>
          <p:sp>
            <p:nvSpPr>
              <p:cNvPr id="2275" name=""/>
              <p:cNvSpPr/>
              <p:nvPr/>
            </p:nvSpPr>
            <p:spPr>
              <a:xfrm>
                <a:off x="6230880" y="423720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186800">
                <a:off x="6231240" y="423504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7" name=""/>
            <p:cNvSpPr/>
            <p:nvPr/>
          </p:nvSpPr>
          <p:spPr>
            <a:xfrm>
              <a:off x="6230520" y="4730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H="1">
              <a:off x="5982840" y="4483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478560" y="4730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6478200" y="4730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6230520" y="4237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478560" y="42372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230520" y="42372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6230520" y="4976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5" name=""/>
          <p:cNvGrpSpPr/>
          <p:nvPr/>
        </p:nvGrpSpPr>
        <p:grpSpPr>
          <a:xfrm>
            <a:off x="5484960" y="3989520"/>
            <a:ext cx="745560" cy="741600"/>
            <a:chOff x="5484960" y="3989520"/>
            <a:chExt cx="745560" cy="741600"/>
          </a:xfrm>
        </p:grpSpPr>
        <p:grpSp>
          <p:nvGrpSpPr>
            <p:cNvPr id="2286" name=""/>
            <p:cNvGrpSpPr/>
            <p:nvPr/>
          </p:nvGrpSpPr>
          <p:grpSpPr>
            <a:xfrm>
              <a:off x="5484960" y="3989520"/>
              <a:ext cx="742320" cy="741600"/>
              <a:chOff x="5484960" y="3989520"/>
              <a:chExt cx="742320" cy="741600"/>
            </a:xfrm>
          </p:grpSpPr>
          <p:sp>
            <p:nvSpPr>
              <p:cNvPr id="2287" name=""/>
              <p:cNvSpPr/>
              <p:nvPr/>
            </p:nvSpPr>
            <p:spPr>
              <a:xfrm rot="16200000">
                <a:off x="5732640" y="398880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0786800">
                <a:off x="5732640" y="398988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9" name=""/>
            <p:cNvSpPr/>
            <p:nvPr/>
          </p:nvSpPr>
          <p:spPr>
            <a:xfrm>
              <a:off x="5980320" y="4483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732640" y="4484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980320" y="423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80320" y="3990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484960" y="4236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484960" y="42364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484960" y="44838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227640" y="4236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7" name=""/>
          <p:cNvGrpSpPr/>
          <p:nvPr/>
        </p:nvGrpSpPr>
        <p:grpSpPr>
          <a:xfrm>
            <a:off x="6478560" y="4483080"/>
            <a:ext cx="744120" cy="740160"/>
            <a:chOff x="6478560" y="4483080"/>
            <a:chExt cx="744120" cy="740160"/>
          </a:xfrm>
        </p:grpSpPr>
        <p:grpSp>
          <p:nvGrpSpPr>
            <p:cNvPr id="2298" name=""/>
            <p:cNvGrpSpPr/>
            <p:nvPr/>
          </p:nvGrpSpPr>
          <p:grpSpPr>
            <a:xfrm>
              <a:off x="6478560" y="4483080"/>
              <a:ext cx="740880" cy="740160"/>
              <a:chOff x="6478560" y="4483080"/>
              <a:chExt cx="740880" cy="740160"/>
            </a:xfrm>
          </p:grpSpPr>
          <p:sp>
            <p:nvSpPr>
              <p:cNvPr id="2299" name=""/>
              <p:cNvSpPr/>
              <p:nvPr/>
            </p:nvSpPr>
            <p:spPr>
              <a:xfrm rot="16200000">
                <a:off x="6725880" y="44823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0786800">
                <a:off x="6725520" y="44834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1" name=""/>
            <p:cNvSpPr/>
            <p:nvPr/>
          </p:nvSpPr>
          <p:spPr>
            <a:xfrm>
              <a:off x="6972840" y="49762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725880" y="4976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972840" y="47293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972840" y="44830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478560" y="47300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478560" y="4729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478560" y="49762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219800" y="47300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5737320" y="4730760"/>
            <a:ext cx="744120" cy="740160"/>
            <a:chOff x="5737320" y="4730760"/>
            <a:chExt cx="744120" cy="740160"/>
          </a:xfrm>
        </p:grpSpPr>
        <p:grpSp>
          <p:nvGrpSpPr>
            <p:cNvPr id="2310" name=""/>
            <p:cNvGrpSpPr/>
            <p:nvPr/>
          </p:nvGrpSpPr>
          <p:grpSpPr>
            <a:xfrm>
              <a:off x="5737320" y="4730760"/>
              <a:ext cx="740880" cy="740160"/>
              <a:chOff x="5737320" y="4730760"/>
              <a:chExt cx="740880" cy="740160"/>
            </a:xfrm>
          </p:grpSpPr>
          <p:sp>
            <p:nvSpPr>
              <p:cNvPr id="2311" name=""/>
              <p:cNvSpPr/>
              <p:nvPr/>
            </p:nvSpPr>
            <p:spPr>
              <a:xfrm rot="16200000">
                <a:off x="5984640" y="47300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0786800">
                <a:off x="5984280" y="47311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"/>
            <p:cNvSpPr/>
            <p:nvPr/>
          </p:nvSpPr>
          <p:spPr>
            <a:xfrm>
              <a:off x="6231600" y="5223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984640" y="52239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231600" y="49770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231600" y="47307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737320" y="49777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737320" y="497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737320" y="5223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478560" y="49777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1" name=""/>
          <p:cNvGrpSpPr/>
          <p:nvPr/>
        </p:nvGrpSpPr>
        <p:grpSpPr>
          <a:xfrm>
            <a:off x="5241240" y="4483080"/>
            <a:ext cx="741600" cy="742680"/>
            <a:chOff x="5241240" y="4483080"/>
            <a:chExt cx="741600" cy="742680"/>
          </a:xfrm>
        </p:grpSpPr>
        <p:grpSp>
          <p:nvGrpSpPr>
            <p:cNvPr id="2322" name=""/>
            <p:cNvGrpSpPr/>
            <p:nvPr/>
          </p:nvGrpSpPr>
          <p:grpSpPr>
            <a:xfrm>
              <a:off x="5241240" y="4483080"/>
              <a:ext cx="741600" cy="739440"/>
              <a:chOff x="5241240" y="4483080"/>
              <a:chExt cx="741600" cy="739440"/>
            </a:xfrm>
          </p:grpSpPr>
          <p:sp>
            <p:nvSpPr>
              <p:cNvPr id="2323" name=""/>
              <p:cNvSpPr/>
              <p:nvPr/>
            </p:nvSpPr>
            <p:spPr>
              <a:xfrm>
                <a:off x="5488920" y="448308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186800">
                <a:off x="5488920" y="448236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5" name=""/>
            <p:cNvSpPr/>
            <p:nvPr/>
          </p:nvSpPr>
          <p:spPr>
            <a:xfrm>
              <a:off x="5488560" y="4976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5241600" y="4730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735880" y="4976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H="1">
              <a:off x="5735520" y="49762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5488200" y="44830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735880" y="4483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488560" y="4483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>
              <a:off x="5488200" y="5222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6230160" y="4978440"/>
            <a:ext cx="743400" cy="742680"/>
            <a:chOff x="6230160" y="4978440"/>
            <a:chExt cx="743400" cy="742680"/>
          </a:xfrm>
        </p:grpSpPr>
        <p:grpSp>
          <p:nvGrpSpPr>
            <p:cNvPr id="2334" name=""/>
            <p:cNvGrpSpPr/>
            <p:nvPr/>
          </p:nvGrpSpPr>
          <p:grpSpPr>
            <a:xfrm>
              <a:off x="6230160" y="4978440"/>
              <a:ext cx="743400" cy="739440"/>
              <a:chOff x="6230160" y="4978440"/>
              <a:chExt cx="743400" cy="739440"/>
            </a:xfrm>
          </p:grpSpPr>
          <p:sp>
            <p:nvSpPr>
              <p:cNvPr id="2335" name=""/>
              <p:cNvSpPr/>
              <p:nvPr/>
            </p:nvSpPr>
            <p:spPr>
              <a:xfrm>
                <a:off x="6478560" y="49784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rot="16186800">
                <a:off x="6478560" y="49770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7" name=""/>
            <p:cNvSpPr/>
            <p:nvPr/>
          </p:nvSpPr>
          <p:spPr>
            <a:xfrm>
              <a:off x="6478200" y="5471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6230520" y="5225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726240" y="5471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H="1">
              <a:off x="6725880" y="5471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6478200" y="4978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726240" y="4978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478200" y="4978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6478200" y="5718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6973200" y="4730760"/>
            <a:ext cx="743400" cy="742680"/>
            <a:chOff x="6973200" y="4730760"/>
            <a:chExt cx="743400" cy="742680"/>
          </a:xfrm>
        </p:grpSpPr>
        <p:grpSp>
          <p:nvGrpSpPr>
            <p:cNvPr id="2346" name=""/>
            <p:cNvGrpSpPr/>
            <p:nvPr/>
          </p:nvGrpSpPr>
          <p:grpSpPr>
            <a:xfrm>
              <a:off x="6973200" y="4730760"/>
              <a:ext cx="743400" cy="739440"/>
              <a:chOff x="6973200" y="4730760"/>
              <a:chExt cx="743400" cy="739440"/>
            </a:xfrm>
          </p:grpSpPr>
          <p:sp>
            <p:nvSpPr>
              <p:cNvPr id="2347" name=""/>
              <p:cNvSpPr/>
              <p:nvPr/>
            </p:nvSpPr>
            <p:spPr>
              <a:xfrm>
                <a:off x="7221600" y="47307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rot="16186800">
                <a:off x="7221600" y="47293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9" name=""/>
            <p:cNvSpPr/>
            <p:nvPr/>
          </p:nvSpPr>
          <p:spPr>
            <a:xfrm>
              <a:off x="7221240" y="5223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6973560" y="49777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469280" y="5223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7468920" y="52239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722124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469280" y="4730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221240" y="4730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7221240" y="54705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6726240" y="5222880"/>
            <a:ext cx="744120" cy="741600"/>
            <a:chOff x="6726240" y="5222880"/>
            <a:chExt cx="744120" cy="741600"/>
          </a:xfrm>
        </p:grpSpPr>
        <p:grpSp>
          <p:nvGrpSpPr>
            <p:cNvPr id="2358" name=""/>
            <p:cNvGrpSpPr/>
            <p:nvPr/>
          </p:nvGrpSpPr>
          <p:grpSpPr>
            <a:xfrm>
              <a:off x="6726240" y="5222880"/>
              <a:ext cx="740880" cy="741600"/>
              <a:chOff x="6726240" y="5222880"/>
              <a:chExt cx="740880" cy="741600"/>
            </a:xfrm>
          </p:grpSpPr>
          <p:sp>
            <p:nvSpPr>
              <p:cNvPr id="2359" name=""/>
              <p:cNvSpPr/>
              <p:nvPr/>
            </p:nvSpPr>
            <p:spPr>
              <a:xfrm rot="16200000">
                <a:off x="6973200" y="52228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rot="10786800">
                <a:off x="6973200" y="52232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1" name=""/>
            <p:cNvSpPr/>
            <p:nvPr/>
          </p:nvSpPr>
          <p:spPr>
            <a:xfrm>
              <a:off x="7220520" y="5717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973560" y="5717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220520" y="54698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220520" y="52236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726240" y="5470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726240" y="5469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726240" y="5717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467480" y="5470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8210520" y="4730760"/>
            <a:ext cx="745920" cy="740160"/>
            <a:chOff x="8210520" y="4730760"/>
            <a:chExt cx="745920" cy="740160"/>
          </a:xfrm>
        </p:grpSpPr>
        <p:grpSp>
          <p:nvGrpSpPr>
            <p:cNvPr id="2370" name=""/>
            <p:cNvGrpSpPr/>
            <p:nvPr/>
          </p:nvGrpSpPr>
          <p:grpSpPr>
            <a:xfrm>
              <a:off x="8210520" y="4730760"/>
              <a:ext cx="742680" cy="740160"/>
              <a:chOff x="8210520" y="4730760"/>
              <a:chExt cx="742680" cy="740160"/>
            </a:xfrm>
          </p:grpSpPr>
          <p:sp>
            <p:nvSpPr>
              <p:cNvPr id="2371" name=""/>
              <p:cNvSpPr/>
              <p:nvPr/>
            </p:nvSpPr>
            <p:spPr>
              <a:xfrm rot="16200000">
                <a:off x="8458920" y="472932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0786800">
                <a:off x="8457840" y="473112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3" name=""/>
            <p:cNvSpPr/>
            <p:nvPr/>
          </p:nvSpPr>
          <p:spPr>
            <a:xfrm>
              <a:off x="8705880" y="5223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458560" y="52239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705880" y="497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705880" y="47307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210520" y="49777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210520" y="49770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210520" y="52239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953560" y="49777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7469280" y="4978440"/>
            <a:ext cx="744120" cy="741600"/>
            <a:chOff x="7469280" y="4978440"/>
            <a:chExt cx="744120" cy="741600"/>
          </a:xfrm>
        </p:grpSpPr>
        <p:grpSp>
          <p:nvGrpSpPr>
            <p:cNvPr id="2382" name=""/>
            <p:cNvGrpSpPr/>
            <p:nvPr/>
          </p:nvGrpSpPr>
          <p:grpSpPr>
            <a:xfrm>
              <a:off x="7469280" y="4978440"/>
              <a:ext cx="740880" cy="741600"/>
              <a:chOff x="7469280" y="4978440"/>
              <a:chExt cx="740880" cy="741600"/>
            </a:xfrm>
          </p:grpSpPr>
          <p:sp>
            <p:nvSpPr>
              <p:cNvPr id="2383" name=""/>
              <p:cNvSpPr/>
              <p:nvPr/>
            </p:nvSpPr>
            <p:spPr>
              <a:xfrm rot="16200000">
                <a:off x="7716240" y="49784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0786800">
                <a:off x="7716240" y="49788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5" name=""/>
            <p:cNvSpPr/>
            <p:nvPr/>
          </p:nvSpPr>
          <p:spPr>
            <a:xfrm>
              <a:off x="7963560" y="5472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716600" y="54730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63560" y="5225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963560" y="4979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469280" y="52257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469280" y="5225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469280" y="5472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210520" y="52257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7220880" y="5470560"/>
            <a:ext cx="743400" cy="742680"/>
            <a:chOff x="7220880" y="5470560"/>
            <a:chExt cx="743400" cy="742680"/>
          </a:xfrm>
        </p:grpSpPr>
        <p:grpSp>
          <p:nvGrpSpPr>
            <p:cNvPr id="2394" name=""/>
            <p:cNvGrpSpPr/>
            <p:nvPr/>
          </p:nvGrpSpPr>
          <p:grpSpPr>
            <a:xfrm>
              <a:off x="7220880" y="5470560"/>
              <a:ext cx="743400" cy="739440"/>
              <a:chOff x="7220880" y="5470560"/>
              <a:chExt cx="743400" cy="739440"/>
            </a:xfrm>
          </p:grpSpPr>
          <p:sp>
            <p:nvSpPr>
              <p:cNvPr id="2395" name=""/>
              <p:cNvSpPr/>
              <p:nvPr/>
            </p:nvSpPr>
            <p:spPr>
              <a:xfrm>
                <a:off x="7469280" y="54705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rot="16186800">
                <a:off x="7469280" y="54691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7" name=""/>
            <p:cNvSpPr/>
            <p:nvPr/>
          </p:nvSpPr>
          <p:spPr>
            <a:xfrm>
              <a:off x="7468920" y="59637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7221240" y="57175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716960" y="59637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7716600" y="5963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7468920" y="54705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716960" y="54705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468920" y="54705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7468920" y="6210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5" name=""/>
          <p:cNvGrpSpPr/>
          <p:nvPr/>
        </p:nvGrpSpPr>
        <p:grpSpPr>
          <a:xfrm>
            <a:off x="7963920" y="5222880"/>
            <a:ext cx="741600" cy="744120"/>
            <a:chOff x="7963920" y="5222880"/>
            <a:chExt cx="741600" cy="744120"/>
          </a:xfrm>
        </p:grpSpPr>
        <p:grpSp>
          <p:nvGrpSpPr>
            <p:cNvPr id="2406" name=""/>
            <p:cNvGrpSpPr/>
            <p:nvPr/>
          </p:nvGrpSpPr>
          <p:grpSpPr>
            <a:xfrm>
              <a:off x="7963920" y="5222880"/>
              <a:ext cx="741600" cy="740880"/>
              <a:chOff x="7963920" y="5222880"/>
              <a:chExt cx="741600" cy="740880"/>
            </a:xfrm>
          </p:grpSpPr>
          <p:sp>
            <p:nvSpPr>
              <p:cNvPr id="2407" name=""/>
              <p:cNvSpPr/>
              <p:nvPr/>
            </p:nvSpPr>
            <p:spPr>
              <a:xfrm>
                <a:off x="8211600" y="52228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rot="16186800">
                <a:off x="8211240" y="52228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9" name=""/>
            <p:cNvSpPr/>
            <p:nvPr/>
          </p:nvSpPr>
          <p:spPr>
            <a:xfrm>
              <a:off x="8211240" y="57171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7964280" y="5470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458560" y="57171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H="1">
              <a:off x="8458200" y="57171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8210880" y="5222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458560" y="52228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211240" y="52228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8210880" y="59641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7" name=""/>
          <p:cNvGrpSpPr/>
          <p:nvPr/>
        </p:nvGrpSpPr>
        <p:grpSpPr>
          <a:xfrm>
            <a:off x="8953560" y="4483080"/>
            <a:ext cx="744120" cy="740160"/>
            <a:chOff x="8953560" y="4483080"/>
            <a:chExt cx="744120" cy="740160"/>
          </a:xfrm>
        </p:grpSpPr>
        <p:grpSp>
          <p:nvGrpSpPr>
            <p:cNvPr id="2418" name=""/>
            <p:cNvGrpSpPr/>
            <p:nvPr/>
          </p:nvGrpSpPr>
          <p:grpSpPr>
            <a:xfrm>
              <a:off x="8953560" y="4483080"/>
              <a:ext cx="740880" cy="740160"/>
              <a:chOff x="8953560" y="4483080"/>
              <a:chExt cx="740880" cy="740160"/>
            </a:xfrm>
          </p:grpSpPr>
          <p:sp>
            <p:nvSpPr>
              <p:cNvPr id="2419" name=""/>
              <p:cNvSpPr/>
              <p:nvPr/>
            </p:nvSpPr>
            <p:spPr>
              <a:xfrm rot="16200000">
                <a:off x="9200880" y="44823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rot="10786800">
                <a:off x="9200520" y="44834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1" name=""/>
            <p:cNvSpPr/>
            <p:nvPr/>
          </p:nvSpPr>
          <p:spPr>
            <a:xfrm>
              <a:off x="9447840" y="49762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9200880" y="4976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9447840" y="47293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9447840" y="44830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953560" y="47300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953560" y="4729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953560" y="49762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9694800" y="47300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9" name=""/>
          <p:cNvGrpSpPr/>
          <p:nvPr/>
        </p:nvGrpSpPr>
        <p:grpSpPr>
          <a:xfrm>
            <a:off x="5488920" y="5222880"/>
            <a:ext cx="741600" cy="744120"/>
            <a:chOff x="5488920" y="5222880"/>
            <a:chExt cx="741600" cy="744120"/>
          </a:xfrm>
        </p:grpSpPr>
        <p:grpSp>
          <p:nvGrpSpPr>
            <p:cNvPr id="2430" name=""/>
            <p:cNvGrpSpPr/>
            <p:nvPr/>
          </p:nvGrpSpPr>
          <p:grpSpPr>
            <a:xfrm>
              <a:off x="5488920" y="5222880"/>
              <a:ext cx="741600" cy="740880"/>
              <a:chOff x="5488920" y="5222880"/>
              <a:chExt cx="741600" cy="740880"/>
            </a:xfrm>
          </p:grpSpPr>
          <p:sp>
            <p:nvSpPr>
              <p:cNvPr id="2431" name=""/>
              <p:cNvSpPr/>
              <p:nvPr/>
            </p:nvSpPr>
            <p:spPr>
              <a:xfrm>
                <a:off x="5736600" y="52228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rot="16186800">
                <a:off x="5736240" y="52228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3" name=""/>
            <p:cNvSpPr/>
            <p:nvPr/>
          </p:nvSpPr>
          <p:spPr>
            <a:xfrm>
              <a:off x="5736240" y="57171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5489280" y="5470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983560" y="57171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5983200" y="57171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H="1">
              <a:off x="5735880" y="5222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983560" y="52228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736240" y="52228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5735880" y="59641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1" name=""/>
          <p:cNvGrpSpPr/>
          <p:nvPr/>
        </p:nvGrpSpPr>
        <p:grpSpPr>
          <a:xfrm>
            <a:off x="5983200" y="5470560"/>
            <a:ext cx="745920" cy="741600"/>
            <a:chOff x="5983200" y="5470560"/>
            <a:chExt cx="745920" cy="741600"/>
          </a:xfrm>
        </p:grpSpPr>
        <p:grpSp>
          <p:nvGrpSpPr>
            <p:cNvPr id="2442" name=""/>
            <p:cNvGrpSpPr/>
            <p:nvPr/>
          </p:nvGrpSpPr>
          <p:grpSpPr>
            <a:xfrm>
              <a:off x="5983200" y="5470560"/>
              <a:ext cx="742680" cy="741600"/>
              <a:chOff x="5983200" y="5470560"/>
              <a:chExt cx="742680" cy="741600"/>
            </a:xfrm>
          </p:grpSpPr>
          <p:sp>
            <p:nvSpPr>
              <p:cNvPr id="2443" name=""/>
              <p:cNvSpPr/>
              <p:nvPr/>
            </p:nvSpPr>
            <p:spPr>
              <a:xfrm rot="16200000">
                <a:off x="6231240" y="546984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rot="10786800">
                <a:off x="6230520" y="54709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5" name=""/>
            <p:cNvSpPr/>
            <p:nvPr/>
          </p:nvSpPr>
          <p:spPr>
            <a:xfrm>
              <a:off x="6478560" y="5964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231240" y="5965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478560" y="5717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478560" y="5471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983200" y="57178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983200" y="57175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983200" y="59648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726240" y="57178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6477840" y="5719680"/>
            <a:ext cx="743400" cy="742680"/>
            <a:chOff x="6477840" y="5719680"/>
            <a:chExt cx="743400" cy="742680"/>
          </a:xfrm>
        </p:grpSpPr>
        <p:grpSp>
          <p:nvGrpSpPr>
            <p:cNvPr id="2454" name=""/>
            <p:cNvGrpSpPr/>
            <p:nvPr/>
          </p:nvGrpSpPr>
          <p:grpSpPr>
            <a:xfrm>
              <a:off x="6477840" y="5719680"/>
              <a:ext cx="743400" cy="739440"/>
              <a:chOff x="6477840" y="5719680"/>
              <a:chExt cx="743400" cy="739440"/>
            </a:xfrm>
          </p:grpSpPr>
          <p:sp>
            <p:nvSpPr>
              <p:cNvPr id="2455" name=""/>
              <p:cNvSpPr/>
              <p:nvPr/>
            </p:nvSpPr>
            <p:spPr>
              <a:xfrm>
                <a:off x="6726240" y="57196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rot="16186800">
                <a:off x="6726240" y="57182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7" name=""/>
            <p:cNvSpPr/>
            <p:nvPr/>
          </p:nvSpPr>
          <p:spPr>
            <a:xfrm>
              <a:off x="6725880" y="6212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>
              <a:off x="6478200" y="5966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973920" y="6212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6973560" y="62128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6725880" y="5719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973920" y="57196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725880" y="57196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725880" y="6459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6973920" y="5964480"/>
            <a:ext cx="744120" cy="741960"/>
            <a:chOff x="6973920" y="5964480"/>
            <a:chExt cx="744120" cy="741960"/>
          </a:xfrm>
        </p:grpSpPr>
        <p:grpSp>
          <p:nvGrpSpPr>
            <p:cNvPr id="2466" name=""/>
            <p:cNvGrpSpPr/>
            <p:nvPr/>
          </p:nvGrpSpPr>
          <p:grpSpPr>
            <a:xfrm>
              <a:off x="6973920" y="5964480"/>
              <a:ext cx="740880" cy="741960"/>
              <a:chOff x="6973920" y="5964480"/>
              <a:chExt cx="740880" cy="741960"/>
            </a:xfrm>
          </p:grpSpPr>
          <p:sp>
            <p:nvSpPr>
              <p:cNvPr id="2467" name=""/>
              <p:cNvSpPr/>
              <p:nvPr/>
            </p:nvSpPr>
            <p:spPr>
              <a:xfrm rot="16200000">
                <a:off x="7220880" y="59644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rot="10786800">
                <a:off x="7220880" y="5964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>
              <a:off x="7468200" y="6459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221240" y="6459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468200" y="6211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468200" y="5965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73920" y="6212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73920" y="6211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73920" y="6459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715160" y="6212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7" name=""/>
          <p:cNvGrpSpPr/>
          <p:nvPr/>
        </p:nvGrpSpPr>
        <p:grpSpPr>
          <a:xfrm>
            <a:off x="7468560" y="6211800"/>
            <a:ext cx="741600" cy="742680"/>
            <a:chOff x="7468560" y="6211800"/>
            <a:chExt cx="741600" cy="742680"/>
          </a:xfrm>
        </p:grpSpPr>
        <p:grpSp>
          <p:nvGrpSpPr>
            <p:cNvPr id="2478" name=""/>
            <p:cNvGrpSpPr/>
            <p:nvPr/>
          </p:nvGrpSpPr>
          <p:grpSpPr>
            <a:xfrm>
              <a:off x="7468560" y="6211800"/>
              <a:ext cx="741600" cy="739440"/>
              <a:chOff x="7468560" y="6211800"/>
              <a:chExt cx="741600" cy="739440"/>
            </a:xfrm>
          </p:grpSpPr>
          <p:sp>
            <p:nvSpPr>
              <p:cNvPr id="2479" name=""/>
              <p:cNvSpPr/>
              <p:nvPr/>
            </p:nvSpPr>
            <p:spPr>
              <a:xfrm>
                <a:off x="7716240" y="62118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rot="16186800">
                <a:off x="7716240" y="621108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1" name=""/>
            <p:cNvSpPr/>
            <p:nvPr/>
          </p:nvSpPr>
          <p:spPr>
            <a:xfrm>
              <a:off x="7715880" y="6705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>
              <a:off x="7468920" y="64587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963200" y="6705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7962840" y="67050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H="1">
              <a:off x="7715520" y="6211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963200" y="6211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715880" y="6211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7715520" y="6951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7716960" y="5719680"/>
            <a:ext cx="744120" cy="740160"/>
            <a:chOff x="7716960" y="5719680"/>
            <a:chExt cx="744120" cy="740160"/>
          </a:xfrm>
        </p:grpSpPr>
        <p:grpSp>
          <p:nvGrpSpPr>
            <p:cNvPr id="2490" name=""/>
            <p:cNvGrpSpPr/>
            <p:nvPr/>
          </p:nvGrpSpPr>
          <p:grpSpPr>
            <a:xfrm>
              <a:off x="7716960" y="5719680"/>
              <a:ext cx="740880" cy="740160"/>
              <a:chOff x="7716960" y="5719680"/>
              <a:chExt cx="740880" cy="740160"/>
            </a:xfrm>
          </p:grpSpPr>
          <p:sp>
            <p:nvSpPr>
              <p:cNvPr id="2491" name=""/>
              <p:cNvSpPr/>
              <p:nvPr/>
            </p:nvSpPr>
            <p:spPr>
              <a:xfrm rot="16200000">
                <a:off x="7964280" y="57189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rot="10786800">
                <a:off x="7963920" y="57200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8211240" y="62128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964280" y="62128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11240" y="5965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11240" y="57196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716960" y="59666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716960" y="5965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716960" y="6212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458200" y="59666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8705160" y="4978440"/>
            <a:ext cx="743400" cy="742680"/>
            <a:chOff x="8705160" y="4978440"/>
            <a:chExt cx="743400" cy="742680"/>
          </a:xfrm>
        </p:grpSpPr>
        <p:grpSp>
          <p:nvGrpSpPr>
            <p:cNvPr id="2502" name=""/>
            <p:cNvGrpSpPr/>
            <p:nvPr/>
          </p:nvGrpSpPr>
          <p:grpSpPr>
            <a:xfrm>
              <a:off x="8705160" y="4978440"/>
              <a:ext cx="743400" cy="739440"/>
              <a:chOff x="8705160" y="4978440"/>
              <a:chExt cx="743400" cy="739440"/>
            </a:xfrm>
          </p:grpSpPr>
          <p:sp>
            <p:nvSpPr>
              <p:cNvPr id="2503" name=""/>
              <p:cNvSpPr/>
              <p:nvPr/>
            </p:nvSpPr>
            <p:spPr>
              <a:xfrm>
                <a:off x="8953560" y="49784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rot="16186800">
                <a:off x="8953560" y="49770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5" name=""/>
            <p:cNvSpPr/>
            <p:nvPr/>
          </p:nvSpPr>
          <p:spPr>
            <a:xfrm>
              <a:off x="8953200" y="5471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8705520" y="5225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9201240" y="5471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9200880" y="5471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H="1">
              <a:off x="8953200" y="4978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9201240" y="4978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953200" y="4978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8953200" y="5718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3" name=""/>
          <p:cNvGrpSpPr/>
          <p:nvPr/>
        </p:nvGrpSpPr>
        <p:grpSpPr>
          <a:xfrm>
            <a:off x="8458200" y="5470560"/>
            <a:ext cx="745920" cy="741600"/>
            <a:chOff x="8458200" y="5470560"/>
            <a:chExt cx="745920" cy="741600"/>
          </a:xfrm>
        </p:grpSpPr>
        <p:grpSp>
          <p:nvGrpSpPr>
            <p:cNvPr id="2514" name=""/>
            <p:cNvGrpSpPr/>
            <p:nvPr/>
          </p:nvGrpSpPr>
          <p:grpSpPr>
            <a:xfrm>
              <a:off x="8458200" y="5470560"/>
              <a:ext cx="742680" cy="741600"/>
              <a:chOff x="8458200" y="5470560"/>
              <a:chExt cx="742680" cy="741600"/>
            </a:xfrm>
          </p:grpSpPr>
          <p:sp>
            <p:nvSpPr>
              <p:cNvPr id="2515" name=""/>
              <p:cNvSpPr/>
              <p:nvPr/>
            </p:nvSpPr>
            <p:spPr>
              <a:xfrm rot="16200000">
                <a:off x="8706240" y="546984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rot="10786800">
                <a:off x="8705520" y="54709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7" name=""/>
            <p:cNvSpPr/>
            <p:nvPr/>
          </p:nvSpPr>
          <p:spPr>
            <a:xfrm>
              <a:off x="8953560" y="5964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8706240" y="5965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8953560" y="5717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953560" y="5471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458200" y="57178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8458200" y="57175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8458200" y="59648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9201240" y="57178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5" name=""/>
          <p:cNvGrpSpPr/>
          <p:nvPr/>
        </p:nvGrpSpPr>
        <p:grpSpPr>
          <a:xfrm>
            <a:off x="8209800" y="5964120"/>
            <a:ext cx="743400" cy="742680"/>
            <a:chOff x="8209800" y="5964120"/>
            <a:chExt cx="743400" cy="742680"/>
          </a:xfrm>
        </p:grpSpPr>
        <p:grpSp>
          <p:nvGrpSpPr>
            <p:cNvPr id="2526" name=""/>
            <p:cNvGrpSpPr/>
            <p:nvPr/>
          </p:nvGrpSpPr>
          <p:grpSpPr>
            <a:xfrm>
              <a:off x="8209800" y="5964120"/>
              <a:ext cx="743400" cy="739440"/>
              <a:chOff x="8209800" y="5964120"/>
              <a:chExt cx="743400" cy="739440"/>
            </a:xfrm>
          </p:grpSpPr>
          <p:sp>
            <p:nvSpPr>
              <p:cNvPr id="2527" name=""/>
              <p:cNvSpPr/>
              <p:nvPr/>
            </p:nvSpPr>
            <p:spPr>
              <a:xfrm>
                <a:off x="8458200" y="5964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rot="16186800">
                <a:off x="8458200" y="5962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9" name=""/>
            <p:cNvSpPr/>
            <p:nvPr/>
          </p:nvSpPr>
          <p:spPr>
            <a:xfrm>
              <a:off x="8457840" y="6457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H="1">
              <a:off x="8210160" y="6211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705880" y="6457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H="1">
              <a:off x="8705520" y="6457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8457840" y="5964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705880" y="5964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457840" y="5964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H="1">
              <a:off x="8457840" y="6703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7" name=""/>
          <p:cNvGrpSpPr/>
          <p:nvPr/>
        </p:nvGrpSpPr>
        <p:grpSpPr>
          <a:xfrm>
            <a:off x="9448200" y="4730760"/>
            <a:ext cx="743040" cy="742680"/>
            <a:chOff x="9448200" y="4730760"/>
            <a:chExt cx="743040" cy="742680"/>
          </a:xfrm>
        </p:grpSpPr>
        <p:grpSp>
          <p:nvGrpSpPr>
            <p:cNvPr id="2538" name=""/>
            <p:cNvGrpSpPr/>
            <p:nvPr/>
          </p:nvGrpSpPr>
          <p:grpSpPr>
            <a:xfrm>
              <a:off x="9448200" y="4730760"/>
              <a:ext cx="743040" cy="739440"/>
              <a:chOff x="9448200" y="4730760"/>
              <a:chExt cx="743040" cy="739440"/>
            </a:xfrm>
          </p:grpSpPr>
          <p:sp>
            <p:nvSpPr>
              <p:cNvPr id="2539" name=""/>
              <p:cNvSpPr/>
              <p:nvPr/>
            </p:nvSpPr>
            <p:spPr>
              <a:xfrm>
                <a:off x="9696600" y="47307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rot="16186800">
                <a:off x="9696600" y="472932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1" name=""/>
            <p:cNvSpPr/>
            <p:nvPr/>
          </p:nvSpPr>
          <p:spPr>
            <a:xfrm>
              <a:off x="9695880" y="5223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>
              <a:off x="9448920" y="49777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9943920" y="5223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H="1">
              <a:off x="9943920" y="522396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969588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9943920" y="4730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9695880" y="4730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H="1">
              <a:off x="9695880" y="54705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9448200" y="-206280"/>
            <a:ext cx="743040" cy="742320"/>
            <a:chOff x="9448200" y="-206280"/>
            <a:chExt cx="743040" cy="742320"/>
          </a:xfrm>
        </p:grpSpPr>
        <p:grpSp>
          <p:nvGrpSpPr>
            <p:cNvPr id="2550" name=""/>
            <p:cNvGrpSpPr/>
            <p:nvPr/>
          </p:nvGrpSpPr>
          <p:grpSpPr>
            <a:xfrm>
              <a:off x="9448200" y="-206280"/>
              <a:ext cx="743040" cy="739080"/>
              <a:chOff x="9448200" y="-206280"/>
              <a:chExt cx="743040" cy="739080"/>
            </a:xfrm>
          </p:grpSpPr>
          <p:sp>
            <p:nvSpPr>
              <p:cNvPr id="2551" name=""/>
              <p:cNvSpPr/>
              <p:nvPr/>
            </p:nvSpPr>
            <p:spPr>
              <a:xfrm>
                <a:off x="9696600" y="-2062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rot="16186800">
                <a:off x="9696600" y="-207720"/>
                <a:ext cx="24588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3" name=""/>
            <p:cNvSpPr/>
            <p:nvPr/>
          </p:nvSpPr>
          <p:spPr>
            <a:xfrm>
              <a:off x="969588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H="1">
              <a:off x="9448920" y="403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994392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H="1">
              <a:off x="9943920" y="2869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>
              <a:off x="9695880" y="-20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994392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969588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>
              <a:off x="9695880" y="533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1" name=""/>
          <p:cNvGrpSpPr/>
          <p:nvPr/>
        </p:nvGrpSpPr>
        <p:grpSpPr>
          <a:xfrm>
            <a:off x="4992840" y="2511360"/>
            <a:ext cx="744120" cy="740160"/>
            <a:chOff x="4992840" y="2511360"/>
            <a:chExt cx="744120" cy="740160"/>
          </a:xfrm>
        </p:grpSpPr>
        <p:grpSp>
          <p:nvGrpSpPr>
            <p:cNvPr id="2562" name=""/>
            <p:cNvGrpSpPr/>
            <p:nvPr/>
          </p:nvGrpSpPr>
          <p:grpSpPr>
            <a:xfrm>
              <a:off x="4992840" y="2511360"/>
              <a:ext cx="740880" cy="740160"/>
              <a:chOff x="4992840" y="2511360"/>
              <a:chExt cx="740880" cy="740160"/>
            </a:xfrm>
          </p:grpSpPr>
          <p:sp>
            <p:nvSpPr>
              <p:cNvPr id="2563" name=""/>
              <p:cNvSpPr/>
              <p:nvPr/>
            </p:nvSpPr>
            <p:spPr>
              <a:xfrm rot="16200000">
                <a:off x="5240160" y="25106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rot="10786800">
                <a:off x="5239800" y="25117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5" name=""/>
            <p:cNvSpPr/>
            <p:nvPr/>
          </p:nvSpPr>
          <p:spPr>
            <a:xfrm>
              <a:off x="5487120" y="30045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240160" y="3004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487120" y="2757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487120" y="2511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9284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92840" y="2757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992840" y="3004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73408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3" name=""/>
          <p:cNvGrpSpPr/>
          <p:nvPr/>
        </p:nvGrpSpPr>
        <p:grpSpPr>
          <a:xfrm>
            <a:off x="3752280" y="4979880"/>
            <a:ext cx="743040" cy="742680"/>
            <a:chOff x="3752280" y="4979880"/>
            <a:chExt cx="743040" cy="742680"/>
          </a:xfrm>
        </p:grpSpPr>
        <p:grpSp>
          <p:nvGrpSpPr>
            <p:cNvPr id="2574" name=""/>
            <p:cNvGrpSpPr/>
            <p:nvPr/>
          </p:nvGrpSpPr>
          <p:grpSpPr>
            <a:xfrm>
              <a:off x="3752280" y="4979880"/>
              <a:ext cx="743040" cy="739440"/>
              <a:chOff x="3752280" y="4979880"/>
              <a:chExt cx="743040" cy="739440"/>
            </a:xfrm>
          </p:grpSpPr>
          <p:sp>
            <p:nvSpPr>
              <p:cNvPr id="2575" name=""/>
              <p:cNvSpPr/>
              <p:nvPr/>
            </p:nvSpPr>
            <p:spPr>
              <a:xfrm>
                <a:off x="4000680" y="49798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rot="16186800">
                <a:off x="4000680" y="497844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7" name=""/>
            <p:cNvSpPr/>
            <p:nvPr/>
          </p:nvSpPr>
          <p:spPr>
            <a:xfrm>
              <a:off x="3999960" y="5473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3753000" y="52268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248000" y="5473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>
              <a:off x="4248000" y="54730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>
              <a:off x="3999960" y="4979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248000" y="49798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999960" y="49798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H="1">
              <a:off x="3999960" y="5719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4495680" y="3500280"/>
            <a:ext cx="745920" cy="738720"/>
            <a:chOff x="4495680" y="3500280"/>
            <a:chExt cx="745920" cy="738720"/>
          </a:xfrm>
        </p:grpSpPr>
        <p:grpSp>
          <p:nvGrpSpPr>
            <p:cNvPr id="2586" name=""/>
            <p:cNvGrpSpPr/>
            <p:nvPr/>
          </p:nvGrpSpPr>
          <p:grpSpPr>
            <a:xfrm>
              <a:off x="4495680" y="3500280"/>
              <a:ext cx="742680" cy="738720"/>
              <a:chOff x="4495680" y="3500280"/>
              <a:chExt cx="742680" cy="738720"/>
            </a:xfrm>
          </p:grpSpPr>
          <p:sp>
            <p:nvSpPr>
              <p:cNvPr id="2587" name=""/>
              <p:cNvSpPr/>
              <p:nvPr/>
            </p:nvSpPr>
            <p:spPr>
              <a:xfrm rot="16200000">
                <a:off x="4744080" y="3497760"/>
                <a:ext cx="24552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rot="10786800">
                <a:off x="4743000" y="3500640"/>
                <a:ext cx="247320" cy="737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9" name=""/>
            <p:cNvSpPr/>
            <p:nvPr/>
          </p:nvSpPr>
          <p:spPr>
            <a:xfrm>
              <a:off x="4991040" y="3992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743720" y="399276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991040" y="3746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991040" y="350064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49568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495680" y="37461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495680" y="39927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23872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4247280" y="3992400"/>
            <a:ext cx="745200" cy="742680"/>
            <a:chOff x="4247280" y="3992400"/>
            <a:chExt cx="745200" cy="742680"/>
          </a:xfrm>
        </p:grpSpPr>
        <p:grpSp>
          <p:nvGrpSpPr>
            <p:cNvPr id="2598" name=""/>
            <p:cNvGrpSpPr/>
            <p:nvPr/>
          </p:nvGrpSpPr>
          <p:grpSpPr>
            <a:xfrm>
              <a:off x="4247280" y="3992400"/>
              <a:ext cx="745200" cy="739440"/>
              <a:chOff x="4247280" y="3992400"/>
              <a:chExt cx="745200" cy="739440"/>
            </a:xfrm>
          </p:grpSpPr>
          <p:sp>
            <p:nvSpPr>
              <p:cNvPr id="2599" name=""/>
              <p:cNvSpPr/>
              <p:nvPr/>
            </p:nvSpPr>
            <p:spPr>
              <a:xfrm>
                <a:off x="4496400" y="3992400"/>
                <a:ext cx="2476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rot="16186800">
                <a:off x="4496760" y="3989880"/>
                <a:ext cx="24624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1" name=""/>
            <p:cNvSpPr/>
            <p:nvPr/>
          </p:nvSpPr>
          <p:spPr>
            <a:xfrm>
              <a:off x="4495680" y="4485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H="1">
              <a:off x="4248000" y="423936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744440" y="4485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H="1">
              <a:off x="4744440" y="448560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>
              <a:off x="4495680" y="399240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744440" y="3992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495680" y="3992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4495680" y="473220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4745160" y="4238640"/>
            <a:ext cx="744120" cy="741600"/>
            <a:chOff x="4745160" y="4238640"/>
            <a:chExt cx="744120" cy="741600"/>
          </a:xfrm>
        </p:grpSpPr>
        <p:grpSp>
          <p:nvGrpSpPr>
            <p:cNvPr id="2610" name=""/>
            <p:cNvGrpSpPr/>
            <p:nvPr/>
          </p:nvGrpSpPr>
          <p:grpSpPr>
            <a:xfrm>
              <a:off x="4745160" y="4238640"/>
              <a:ext cx="740880" cy="741600"/>
              <a:chOff x="4745160" y="4238640"/>
              <a:chExt cx="740880" cy="741600"/>
            </a:xfrm>
          </p:grpSpPr>
          <p:sp>
            <p:nvSpPr>
              <p:cNvPr id="2611" name=""/>
              <p:cNvSpPr/>
              <p:nvPr/>
            </p:nvSpPr>
            <p:spPr>
              <a:xfrm rot="16200000">
                <a:off x="4992120" y="42386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rot="10786800">
                <a:off x="4992120" y="42390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3" name=""/>
            <p:cNvSpPr/>
            <p:nvPr/>
          </p:nvSpPr>
          <p:spPr>
            <a:xfrm>
              <a:off x="5239440" y="473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992480" y="4733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239440" y="4485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239440" y="4239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74516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745160" y="4485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745160" y="473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48640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4000680" y="4486320"/>
            <a:ext cx="745560" cy="740160"/>
            <a:chOff x="4000680" y="4486320"/>
            <a:chExt cx="745560" cy="740160"/>
          </a:xfrm>
        </p:grpSpPr>
        <p:grpSp>
          <p:nvGrpSpPr>
            <p:cNvPr id="2622" name=""/>
            <p:cNvGrpSpPr/>
            <p:nvPr/>
          </p:nvGrpSpPr>
          <p:grpSpPr>
            <a:xfrm>
              <a:off x="4000680" y="4486320"/>
              <a:ext cx="742320" cy="740160"/>
              <a:chOff x="4000680" y="4486320"/>
              <a:chExt cx="742320" cy="740160"/>
            </a:xfrm>
          </p:grpSpPr>
          <p:sp>
            <p:nvSpPr>
              <p:cNvPr id="2623" name=""/>
              <p:cNvSpPr/>
              <p:nvPr/>
            </p:nvSpPr>
            <p:spPr>
              <a:xfrm rot="16200000">
                <a:off x="4248720" y="44848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rot="10786800">
                <a:off x="4248360" y="44866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5" name=""/>
            <p:cNvSpPr/>
            <p:nvPr/>
          </p:nvSpPr>
          <p:spPr>
            <a:xfrm>
              <a:off x="4496040" y="4979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248360" y="49795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496040" y="4732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496040" y="4486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000680" y="4733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000680" y="47325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000680" y="4979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743360" y="4733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3" name=""/>
          <p:cNvGrpSpPr/>
          <p:nvPr/>
        </p:nvGrpSpPr>
        <p:grpSpPr>
          <a:xfrm>
            <a:off x="4992120" y="3745080"/>
            <a:ext cx="740160" cy="744120"/>
            <a:chOff x="4992120" y="3745080"/>
            <a:chExt cx="740160" cy="744120"/>
          </a:xfrm>
        </p:grpSpPr>
        <p:grpSp>
          <p:nvGrpSpPr>
            <p:cNvPr id="2634" name=""/>
            <p:cNvGrpSpPr/>
            <p:nvPr/>
          </p:nvGrpSpPr>
          <p:grpSpPr>
            <a:xfrm>
              <a:off x="4992120" y="3745080"/>
              <a:ext cx="740160" cy="740880"/>
              <a:chOff x="4992120" y="3745080"/>
              <a:chExt cx="740160" cy="740880"/>
            </a:xfrm>
          </p:grpSpPr>
          <p:sp>
            <p:nvSpPr>
              <p:cNvPr id="2635" name=""/>
              <p:cNvSpPr/>
              <p:nvPr/>
            </p:nvSpPr>
            <p:spPr>
              <a:xfrm>
                <a:off x="5239440" y="37450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rot="16186800">
                <a:off x="5238720" y="374580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7" name=""/>
            <p:cNvSpPr/>
            <p:nvPr/>
          </p:nvSpPr>
          <p:spPr>
            <a:xfrm>
              <a:off x="523908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H="1">
              <a:off x="4992840" y="39924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48604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5486040" y="423936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H="1">
              <a:off x="5238720" y="374508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48604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23908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5238720" y="448632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5" name=""/>
          <p:cNvGrpSpPr/>
          <p:nvPr/>
        </p:nvGrpSpPr>
        <p:grpSpPr>
          <a:xfrm>
            <a:off x="4745160" y="1770120"/>
            <a:ext cx="744120" cy="741600"/>
            <a:chOff x="4745160" y="1770120"/>
            <a:chExt cx="744120" cy="741600"/>
          </a:xfrm>
        </p:grpSpPr>
        <p:grpSp>
          <p:nvGrpSpPr>
            <p:cNvPr id="2646" name=""/>
            <p:cNvGrpSpPr/>
            <p:nvPr/>
          </p:nvGrpSpPr>
          <p:grpSpPr>
            <a:xfrm>
              <a:off x="4745160" y="1770120"/>
              <a:ext cx="740880" cy="741600"/>
              <a:chOff x="4745160" y="1770120"/>
              <a:chExt cx="740880" cy="741600"/>
            </a:xfrm>
          </p:grpSpPr>
          <p:sp>
            <p:nvSpPr>
              <p:cNvPr id="2647" name=""/>
              <p:cNvSpPr/>
              <p:nvPr/>
            </p:nvSpPr>
            <p:spPr>
              <a:xfrm rot="16200000">
                <a:off x="4992120" y="17701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rot="10786800">
                <a:off x="4992120" y="17704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9" name=""/>
            <p:cNvSpPr/>
            <p:nvPr/>
          </p:nvSpPr>
          <p:spPr>
            <a:xfrm>
              <a:off x="5239440" y="2264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992480" y="2264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239440" y="20170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239440" y="1770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74516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745160" y="2017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745160" y="2264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48640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7" name=""/>
          <p:cNvGrpSpPr/>
          <p:nvPr/>
        </p:nvGrpSpPr>
        <p:grpSpPr>
          <a:xfrm>
            <a:off x="5237280" y="784440"/>
            <a:ext cx="745560" cy="741960"/>
            <a:chOff x="5237280" y="784440"/>
            <a:chExt cx="745560" cy="741960"/>
          </a:xfrm>
        </p:grpSpPr>
        <p:grpSp>
          <p:nvGrpSpPr>
            <p:cNvPr id="2658" name=""/>
            <p:cNvGrpSpPr/>
            <p:nvPr/>
          </p:nvGrpSpPr>
          <p:grpSpPr>
            <a:xfrm>
              <a:off x="5237280" y="784440"/>
              <a:ext cx="742320" cy="741960"/>
              <a:chOff x="5237280" y="784440"/>
              <a:chExt cx="742320" cy="741960"/>
            </a:xfrm>
          </p:grpSpPr>
          <p:sp>
            <p:nvSpPr>
              <p:cNvPr id="2659" name=""/>
              <p:cNvSpPr/>
              <p:nvPr/>
            </p:nvSpPr>
            <p:spPr>
              <a:xfrm rot="16200000">
                <a:off x="5484960" y="7837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rot="10786800">
                <a:off x="5484960" y="7848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1" name=""/>
            <p:cNvSpPr/>
            <p:nvPr/>
          </p:nvSpPr>
          <p:spPr>
            <a:xfrm>
              <a:off x="5732640" y="1279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484960" y="1279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732640" y="1031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732640" y="785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23728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237280" y="10314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237280" y="1279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97996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9" name=""/>
          <p:cNvGrpSpPr/>
          <p:nvPr/>
        </p:nvGrpSpPr>
        <p:grpSpPr>
          <a:xfrm>
            <a:off x="4992120" y="1276200"/>
            <a:ext cx="740160" cy="742680"/>
            <a:chOff x="4992120" y="1276200"/>
            <a:chExt cx="740160" cy="742680"/>
          </a:xfrm>
        </p:grpSpPr>
        <p:grpSp>
          <p:nvGrpSpPr>
            <p:cNvPr id="2670" name=""/>
            <p:cNvGrpSpPr/>
            <p:nvPr/>
          </p:nvGrpSpPr>
          <p:grpSpPr>
            <a:xfrm>
              <a:off x="4992120" y="1276200"/>
              <a:ext cx="740160" cy="739440"/>
              <a:chOff x="4992120" y="1276200"/>
              <a:chExt cx="740160" cy="739440"/>
            </a:xfrm>
          </p:grpSpPr>
          <p:sp>
            <p:nvSpPr>
              <p:cNvPr id="2671" name=""/>
              <p:cNvSpPr/>
              <p:nvPr/>
            </p:nvSpPr>
            <p:spPr>
              <a:xfrm>
                <a:off x="5239440" y="1276200"/>
                <a:ext cx="2458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rot="16186800">
                <a:off x="5239080" y="1276200"/>
                <a:ext cx="24624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3" name=""/>
            <p:cNvSpPr/>
            <p:nvPr/>
          </p:nvSpPr>
          <p:spPr>
            <a:xfrm>
              <a:off x="523908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>
              <a:off x="4992840" y="152316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48604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H="1">
              <a:off x="5486040" y="17694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H="1">
              <a:off x="5238720" y="12762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48604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3908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H="1">
              <a:off x="5238720" y="20160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1" name=""/>
          <p:cNvGrpSpPr/>
          <p:nvPr/>
        </p:nvGrpSpPr>
        <p:grpSpPr>
          <a:xfrm>
            <a:off x="4495680" y="1028880"/>
            <a:ext cx="745920" cy="741600"/>
            <a:chOff x="4495680" y="1028880"/>
            <a:chExt cx="745920" cy="741600"/>
          </a:xfrm>
        </p:grpSpPr>
        <p:grpSp>
          <p:nvGrpSpPr>
            <p:cNvPr id="2682" name=""/>
            <p:cNvGrpSpPr/>
            <p:nvPr/>
          </p:nvGrpSpPr>
          <p:grpSpPr>
            <a:xfrm>
              <a:off x="4495680" y="1028880"/>
              <a:ext cx="742680" cy="741600"/>
              <a:chOff x="4495680" y="1028880"/>
              <a:chExt cx="742680" cy="741600"/>
            </a:xfrm>
          </p:grpSpPr>
          <p:sp>
            <p:nvSpPr>
              <p:cNvPr id="2683" name=""/>
              <p:cNvSpPr/>
              <p:nvPr/>
            </p:nvSpPr>
            <p:spPr>
              <a:xfrm rot="16200000">
                <a:off x="4743720" y="102816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rot="10786800">
                <a:off x="4743000" y="102924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5" name=""/>
            <p:cNvSpPr/>
            <p:nvPr/>
          </p:nvSpPr>
          <p:spPr>
            <a:xfrm>
              <a:off x="4991040" y="1523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743720" y="1523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991040" y="1275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991040" y="10296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495680" y="1276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495680" y="12758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495680" y="15231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238720" y="1276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4744440" y="536400"/>
            <a:ext cx="740160" cy="742680"/>
            <a:chOff x="4744440" y="536400"/>
            <a:chExt cx="740160" cy="742680"/>
          </a:xfrm>
        </p:grpSpPr>
        <p:grpSp>
          <p:nvGrpSpPr>
            <p:cNvPr id="2694" name=""/>
            <p:cNvGrpSpPr/>
            <p:nvPr/>
          </p:nvGrpSpPr>
          <p:grpSpPr>
            <a:xfrm>
              <a:off x="4744440" y="536400"/>
              <a:ext cx="740160" cy="739440"/>
              <a:chOff x="4744440" y="536400"/>
              <a:chExt cx="740160" cy="739440"/>
            </a:xfrm>
          </p:grpSpPr>
          <p:sp>
            <p:nvSpPr>
              <p:cNvPr id="2695" name=""/>
              <p:cNvSpPr/>
              <p:nvPr/>
            </p:nvSpPr>
            <p:spPr>
              <a:xfrm>
                <a:off x="4991760" y="536400"/>
                <a:ext cx="2458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rot="16186800">
                <a:off x="4991400" y="536400"/>
                <a:ext cx="24624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7" name=""/>
            <p:cNvSpPr/>
            <p:nvPr/>
          </p:nvSpPr>
          <p:spPr>
            <a:xfrm>
              <a:off x="499140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4745160" y="78336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23836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>
              <a:off x="5238360" y="10296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H="1">
              <a:off x="4991040" y="5364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23836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9140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4991040" y="12762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5" name=""/>
          <p:cNvGrpSpPr/>
          <p:nvPr/>
        </p:nvGrpSpPr>
        <p:grpSpPr>
          <a:xfrm>
            <a:off x="4248000" y="287640"/>
            <a:ext cx="745920" cy="741960"/>
            <a:chOff x="4248000" y="287640"/>
            <a:chExt cx="745920" cy="741960"/>
          </a:xfrm>
        </p:grpSpPr>
        <p:grpSp>
          <p:nvGrpSpPr>
            <p:cNvPr id="2706" name=""/>
            <p:cNvGrpSpPr/>
            <p:nvPr/>
          </p:nvGrpSpPr>
          <p:grpSpPr>
            <a:xfrm>
              <a:off x="4248000" y="287640"/>
              <a:ext cx="742680" cy="741960"/>
              <a:chOff x="4248000" y="287640"/>
              <a:chExt cx="742680" cy="741960"/>
            </a:xfrm>
          </p:grpSpPr>
          <p:sp>
            <p:nvSpPr>
              <p:cNvPr id="2707" name=""/>
              <p:cNvSpPr/>
              <p:nvPr/>
            </p:nvSpPr>
            <p:spPr>
              <a:xfrm rot="16200000">
                <a:off x="4496040" y="2869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rot="10786800">
                <a:off x="4495320" y="288000"/>
                <a:ext cx="2473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9" name=""/>
            <p:cNvSpPr/>
            <p:nvPr/>
          </p:nvSpPr>
          <p:spPr>
            <a:xfrm>
              <a:off x="4743360" y="7822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496040" y="7826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743360" y="534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743360" y="288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248000" y="5353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248000" y="5346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248000" y="7822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991040" y="5353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7" name=""/>
          <p:cNvGrpSpPr/>
          <p:nvPr/>
        </p:nvGrpSpPr>
        <p:grpSpPr>
          <a:xfrm>
            <a:off x="3752280" y="42840"/>
            <a:ext cx="743040" cy="742680"/>
            <a:chOff x="3752280" y="42840"/>
            <a:chExt cx="743040" cy="742680"/>
          </a:xfrm>
        </p:grpSpPr>
        <p:grpSp>
          <p:nvGrpSpPr>
            <p:cNvPr id="2718" name=""/>
            <p:cNvGrpSpPr/>
            <p:nvPr/>
          </p:nvGrpSpPr>
          <p:grpSpPr>
            <a:xfrm>
              <a:off x="3752280" y="42840"/>
              <a:ext cx="743040" cy="739440"/>
              <a:chOff x="3752280" y="42840"/>
              <a:chExt cx="743040" cy="739440"/>
            </a:xfrm>
          </p:grpSpPr>
          <p:sp>
            <p:nvSpPr>
              <p:cNvPr id="2719" name=""/>
              <p:cNvSpPr/>
              <p:nvPr/>
            </p:nvSpPr>
            <p:spPr>
              <a:xfrm>
                <a:off x="4000680" y="428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rot="16186800">
                <a:off x="4000680" y="4140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1" name=""/>
            <p:cNvSpPr/>
            <p:nvPr/>
          </p:nvSpPr>
          <p:spPr>
            <a:xfrm>
              <a:off x="3999960" y="536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H="1">
              <a:off x="3753000" y="2898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248000" y="536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>
              <a:off x="4248000" y="5360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>
              <a:off x="3999960" y="42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248000" y="42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3999960" y="42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H="1">
              <a:off x="3999960" y="782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9" name=""/>
          <p:cNvGrpSpPr/>
          <p:nvPr/>
        </p:nvGrpSpPr>
        <p:grpSpPr>
          <a:xfrm>
            <a:off x="4992840" y="42840"/>
            <a:ext cx="744120" cy="741600"/>
            <a:chOff x="4992840" y="42840"/>
            <a:chExt cx="744120" cy="741600"/>
          </a:xfrm>
        </p:grpSpPr>
        <p:grpSp>
          <p:nvGrpSpPr>
            <p:cNvPr id="2730" name=""/>
            <p:cNvGrpSpPr/>
            <p:nvPr/>
          </p:nvGrpSpPr>
          <p:grpSpPr>
            <a:xfrm>
              <a:off x="4992840" y="42840"/>
              <a:ext cx="740880" cy="741600"/>
              <a:chOff x="4992840" y="42840"/>
              <a:chExt cx="740880" cy="741600"/>
            </a:xfrm>
          </p:grpSpPr>
          <p:sp>
            <p:nvSpPr>
              <p:cNvPr id="2731" name=""/>
              <p:cNvSpPr/>
              <p:nvPr/>
            </p:nvSpPr>
            <p:spPr>
              <a:xfrm rot="16200000">
                <a:off x="5239800" y="42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rot="10786800">
                <a:off x="5239800" y="432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3" name=""/>
            <p:cNvSpPr/>
            <p:nvPr/>
          </p:nvSpPr>
          <p:spPr>
            <a:xfrm>
              <a:off x="5487120" y="537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240160" y="537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87120" y="289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87120" y="43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99284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992840" y="289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992840" y="537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73408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1" name=""/>
          <p:cNvGrpSpPr/>
          <p:nvPr/>
        </p:nvGrpSpPr>
        <p:grpSpPr>
          <a:xfrm>
            <a:off x="4494960" y="-206280"/>
            <a:ext cx="741960" cy="742320"/>
            <a:chOff x="4494960" y="-206280"/>
            <a:chExt cx="741960" cy="742320"/>
          </a:xfrm>
        </p:grpSpPr>
        <p:grpSp>
          <p:nvGrpSpPr>
            <p:cNvPr id="2742" name=""/>
            <p:cNvGrpSpPr/>
            <p:nvPr/>
          </p:nvGrpSpPr>
          <p:grpSpPr>
            <a:xfrm>
              <a:off x="4494960" y="-206280"/>
              <a:ext cx="741960" cy="739080"/>
              <a:chOff x="4494960" y="-206280"/>
              <a:chExt cx="741960" cy="739080"/>
            </a:xfrm>
          </p:grpSpPr>
          <p:sp>
            <p:nvSpPr>
              <p:cNvPr id="2743" name=""/>
              <p:cNvSpPr/>
              <p:nvPr/>
            </p:nvSpPr>
            <p:spPr>
              <a:xfrm>
                <a:off x="4743000" y="-2062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rot="16186800">
                <a:off x="4743000" y="-2073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5" name=""/>
            <p:cNvSpPr/>
            <p:nvPr/>
          </p:nvSpPr>
          <p:spPr>
            <a:xfrm>
              <a:off x="474228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4495320" y="403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98996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4989600" y="2869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H="1">
              <a:off x="4742280" y="-2059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98996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74228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>
              <a:off x="4741920" y="53316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3998520" y="-453240"/>
            <a:ext cx="745920" cy="741600"/>
            <a:chOff x="3998520" y="-453240"/>
            <a:chExt cx="745920" cy="741600"/>
          </a:xfrm>
        </p:grpSpPr>
        <p:grpSp>
          <p:nvGrpSpPr>
            <p:cNvPr id="2754" name=""/>
            <p:cNvGrpSpPr/>
            <p:nvPr/>
          </p:nvGrpSpPr>
          <p:grpSpPr>
            <a:xfrm>
              <a:off x="3998520" y="-453240"/>
              <a:ext cx="742680" cy="741600"/>
              <a:chOff x="3998520" y="-453240"/>
              <a:chExt cx="742680" cy="741600"/>
            </a:xfrm>
          </p:grpSpPr>
          <p:sp>
            <p:nvSpPr>
              <p:cNvPr id="2755" name=""/>
              <p:cNvSpPr/>
              <p:nvPr/>
            </p:nvSpPr>
            <p:spPr>
              <a:xfrm rot="16200000">
                <a:off x="4246560" y="-45396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rot="10786800">
                <a:off x="4246560" y="-4525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7" name=""/>
            <p:cNvSpPr/>
            <p:nvPr/>
          </p:nvSpPr>
          <p:spPr>
            <a:xfrm>
              <a:off x="4493880" y="406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247280" y="40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493880" y="-2066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493880" y="-452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3998880" y="-206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998520" y="-2066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998520" y="406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741560" y="-2062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5" name=""/>
          <p:cNvGrpSpPr/>
          <p:nvPr/>
        </p:nvGrpSpPr>
        <p:grpSpPr>
          <a:xfrm>
            <a:off x="4494960" y="4734000"/>
            <a:ext cx="741960" cy="742680"/>
            <a:chOff x="4494960" y="4734000"/>
            <a:chExt cx="741960" cy="742680"/>
          </a:xfrm>
        </p:grpSpPr>
        <p:grpSp>
          <p:nvGrpSpPr>
            <p:cNvPr id="2766" name=""/>
            <p:cNvGrpSpPr/>
            <p:nvPr/>
          </p:nvGrpSpPr>
          <p:grpSpPr>
            <a:xfrm>
              <a:off x="4494960" y="4734000"/>
              <a:ext cx="741960" cy="739440"/>
              <a:chOff x="4494960" y="4734000"/>
              <a:chExt cx="741960" cy="739440"/>
            </a:xfrm>
          </p:grpSpPr>
          <p:sp>
            <p:nvSpPr>
              <p:cNvPr id="2767" name=""/>
              <p:cNvSpPr/>
              <p:nvPr/>
            </p:nvSpPr>
            <p:spPr>
              <a:xfrm>
                <a:off x="4743000" y="47340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 rot="16186800">
                <a:off x="4742640" y="4733280"/>
                <a:ext cx="24624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9" name=""/>
            <p:cNvSpPr/>
            <p:nvPr/>
          </p:nvSpPr>
          <p:spPr>
            <a:xfrm>
              <a:off x="474228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 flipH="1">
              <a:off x="4495320" y="49809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98996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H="1">
              <a:off x="4989600" y="5227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H="1">
              <a:off x="4741920" y="47340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98996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74228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H="1">
              <a:off x="4741920" y="5473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7" name=""/>
          <p:cNvGrpSpPr/>
          <p:nvPr/>
        </p:nvGrpSpPr>
        <p:grpSpPr>
          <a:xfrm>
            <a:off x="4992840" y="4980240"/>
            <a:ext cx="744120" cy="741960"/>
            <a:chOff x="4992840" y="4980240"/>
            <a:chExt cx="744120" cy="741960"/>
          </a:xfrm>
        </p:grpSpPr>
        <p:grpSp>
          <p:nvGrpSpPr>
            <p:cNvPr id="2778" name=""/>
            <p:cNvGrpSpPr/>
            <p:nvPr/>
          </p:nvGrpSpPr>
          <p:grpSpPr>
            <a:xfrm>
              <a:off x="4992840" y="4980240"/>
              <a:ext cx="740880" cy="741960"/>
              <a:chOff x="4992840" y="4980240"/>
              <a:chExt cx="740880" cy="741960"/>
            </a:xfrm>
          </p:grpSpPr>
          <p:sp>
            <p:nvSpPr>
              <p:cNvPr id="2779" name=""/>
              <p:cNvSpPr/>
              <p:nvPr/>
            </p:nvSpPr>
            <p:spPr>
              <a:xfrm rot="16200000">
                <a:off x="5239800" y="49802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rot="10786800">
                <a:off x="5239800" y="49806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1" name=""/>
            <p:cNvSpPr/>
            <p:nvPr/>
          </p:nvSpPr>
          <p:spPr>
            <a:xfrm>
              <a:off x="5487120" y="54748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240160" y="5475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87120" y="5227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87120" y="498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99284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992840" y="5227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992840" y="5474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73408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4744440" y="5473800"/>
            <a:ext cx="740160" cy="744120"/>
            <a:chOff x="4744440" y="5473800"/>
            <a:chExt cx="740160" cy="744120"/>
          </a:xfrm>
        </p:grpSpPr>
        <p:grpSp>
          <p:nvGrpSpPr>
            <p:cNvPr id="2790" name=""/>
            <p:cNvGrpSpPr/>
            <p:nvPr/>
          </p:nvGrpSpPr>
          <p:grpSpPr>
            <a:xfrm>
              <a:off x="4744440" y="5473800"/>
              <a:ext cx="740160" cy="740880"/>
              <a:chOff x="4744440" y="5473800"/>
              <a:chExt cx="740160" cy="740880"/>
            </a:xfrm>
          </p:grpSpPr>
          <p:sp>
            <p:nvSpPr>
              <p:cNvPr id="2791" name=""/>
              <p:cNvSpPr/>
              <p:nvPr/>
            </p:nvSpPr>
            <p:spPr>
              <a:xfrm>
                <a:off x="4991760" y="54738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rot="16186800">
                <a:off x="4991040" y="54745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3" name=""/>
            <p:cNvSpPr/>
            <p:nvPr/>
          </p:nvSpPr>
          <p:spPr>
            <a:xfrm>
              <a:off x="499140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H="1">
              <a:off x="4745160" y="572112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23836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>
              <a:off x="5238360" y="596808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4991040" y="54738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23836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99140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4991040" y="621504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1" name=""/>
          <p:cNvGrpSpPr/>
          <p:nvPr/>
        </p:nvGrpSpPr>
        <p:grpSpPr>
          <a:xfrm>
            <a:off x="4248000" y="5226120"/>
            <a:ext cx="745920" cy="741600"/>
            <a:chOff x="4248000" y="5226120"/>
            <a:chExt cx="745920" cy="741600"/>
          </a:xfrm>
        </p:grpSpPr>
        <p:grpSp>
          <p:nvGrpSpPr>
            <p:cNvPr id="2802" name=""/>
            <p:cNvGrpSpPr/>
            <p:nvPr/>
          </p:nvGrpSpPr>
          <p:grpSpPr>
            <a:xfrm>
              <a:off x="4248000" y="5226120"/>
              <a:ext cx="742680" cy="741600"/>
              <a:chOff x="4248000" y="5226120"/>
              <a:chExt cx="742680" cy="741600"/>
            </a:xfrm>
          </p:grpSpPr>
          <p:sp>
            <p:nvSpPr>
              <p:cNvPr id="2803" name=""/>
              <p:cNvSpPr/>
              <p:nvPr/>
            </p:nvSpPr>
            <p:spPr>
              <a:xfrm rot="16200000">
                <a:off x="4496040" y="52254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rot="10786800">
                <a:off x="4495320" y="52264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5" name=""/>
            <p:cNvSpPr/>
            <p:nvPr/>
          </p:nvSpPr>
          <p:spPr>
            <a:xfrm>
              <a:off x="4743360" y="5720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496040" y="5720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743360" y="5473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743360" y="5226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248000" y="5473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248000" y="54730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48000" y="57204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991040" y="5473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3" name=""/>
          <p:cNvGrpSpPr/>
          <p:nvPr/>
        </p:nvGrpSpPr>
        <p:grpSpPr>
          <a:xfrm>
            <a:off x="3999960" y="5721480"/>
            <a:ext cx="744840" cy="742320"/>
            <a:chOff x="3999960" y="5721480"/>
            <a:chExt cx="744840" cy="742320"/>
          </a:xfrm>
        </p:grpSpPr>
        <p:grpSp>
          <p:nvGrpSpPr>
            <p:cNvPr id="2814" name=""/>
            <p:cNvGrpSpPr/>
            <p:nvPr/>
          </p:nvGrpSpPr>
          <p:grpSpPr>
            <a:xfrm>
              <a:off x="3999960" y="5721480"/>
              <a:ext cx="744840" cy="739080"/>
              <a:chOff x="3999960" y="5721480"/>
              <a:chExt cx="744840" cy="739080"/>
            </a:xfrm>
          </p:grpSpPr>
          <p:sp>
            <p:nvSpPr>
              <p:cNvPr id="2815" name=""/>
              <p:cNvSpPr/>
              <p:nvPr/>
            </p:nvSpPr>
            <p:spPr>
              <a:xfrm>
                <a:off x="4248720" y="5721480"/>
                <a:ext cx="2476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rot="16186800">
                <a:off x="4249440" y="5718600"/>
                <a:ext cx="245880" cy="743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7" name=""/>
            <p:cNvSpPr/>
            <p:nvPr/>
          </p:nvSpPr>
          <p:spPr>
            <a:xfrm>
              <a:off x="4248360" y="6214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4000680" y="59680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96760" y="6214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flipH="1">
              <a:off x="4496760" y="62146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4248360" y="572148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496760" y="57214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248360" y="57214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4248360" y="646092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5" name=""/>
          <p:cNvGrpSpPr/>
          <p:nvPr/>
        </p:nvGrpSpPr>
        <p:grpSpPr>
          <a:xfrm>
            <a:off x="4495680" y="5967360"/>
            <a:ext cx="745920" cy="740160"/>
            <a:chOff x="4495680" y="5967360"/>
            <a:chExt cx="745920" cy="740160"/>
          </a:xfrm>
        </p:grpSpPr>
        <p:grpSp>
          <p:nvGrpSpPr>
            <p:cNvPr id="2826" name=""/>
            <p:cNvGrpSpPr/>
            <p:nvPr/>
          </p:nvGrpSpPr>
          <p:grpSpPr>
            <a:xfrm>
              <a:off x="4495680" y="5967360"/>
              <a:ext cx="742680" cy="740160"/>
              <a:chOff x="4495680" y="5967360"/>
              <a:chExt cx="742680" cy="740160"/>
            </a:xfrm>
          </p:grpSpPr>
          <p:sp>
            <p:nvSpPr>
              <p:cNvPr id="2827" name=""/>
              <p:cNvSpPr/>
              <p:nvPr/>
            </p:nvSpPr>
            <p:spPr>
              <a:xfrm rot="16200000">
                <a:off x="4744080" y="596592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rot="10786800">
                <a:off x="4743000" y="596772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9" name=""/>
            <p:cNvSpPr/>
            <p:nvPr/>
          </p:nvSpPr>
          <p:spPr>
            <a:xfrm>
              <a:off x="4991040" y="6460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43720" y="6460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91040" y="6213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91040" y="5967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49568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495680" y="62136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495680" y="64605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23872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3733920" y="6172200"/>
            <a:ext cx="745560" cy="741600"/>
            <a:chOff x="3733920" y="6172200"/>
            <a:chExt cx="745560" cy="741600"/>
          </a:xfrm>
        </p:grpSpPr>
        <p:grpSp>
          <p:nvGrpSpPr>
            <p:cNvPr id="2838" name=""/>
            <p:cNvGrpSpPr/>
            <p:nvPr/>
          </p:nvGrpSpPr>
          <p:grpSpPr>
            <a:xfrm>
              <a:off x="3733920" y="6172200"/>
              <a:ext cx="742320" cy="741600"/>
              <a:chOff x="3733920" y="6172200"/>
              <a:chExt cx="742320" cy="741600"/>
            </a:xfrm>
          </p:grpSpPr>
          <p:sp>
            <p:nvSpPr>
              <p:cNvPr id="2839" name=""/>
              <p:cNvSpPr/>
              <p:nvPr/>
            </p:nvSpPr>
            <p:spPr>
              <a:xfrm rot="16200000">
                <a:off x="3981600" y="61714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rot="10786800">
                <a:off x="3981600" y="617256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1" name=""/>
            <p:cNvSpPr/>
            <p:nvPr/>
          </p:nvSpPr>
          <p:spPr>
            <a:xfrm>
              <a:off x="4229280" y="666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981600" y="6666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229280" y="6419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229280" y="61729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733920" y="6419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733920" y="64191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733920" y="66664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76600" y="6419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9" name=""/>
          <p:cNvGrpSpPr/>
          <p:nvPr/>
        </p:nvGrpSpPr>
        <p:grpSpPr>
          <a:xfrm>
            <a:off x="2987640" y="6477120"/>
            <a:ext cx="745920" cy="741600"/>
            <a:chOff x="2987640" y="6477120"/>
            <a:chExt cx="745920" cy="741600"/>
          </a:xfrm>
        </p:grpSpPr>
        <p:grpSp>
          <p:nvGrpSpPr>
            <p:cNvPr id="2850" name=""/>
            <p:cNvGrpSpPr/>
            <p:nvPr/>
          </p:nvGrpSpPr>
          <p:grpSpPr>
            <a:xfrm>
              <a:off x="2987640" y="6477120"/>
              <a:ext cx="742680" cy="741600"/>
              <a:chOff x="2987640" y="6477120"/>
              <a:chExt cx="742680" cy="741600"/>
            </a:xfrm>
          </p:grpSpPr>
          <p:sp>
            <p:nvSpPr>
              <p:cNvPr id="2851" name=""/>
              <p:cNvSpPr/>
              <p:nvPr/>
            </p:nvSpPr>
            <p:spPr>
              <a:xfrm rot="16200000">
                <a:off x="3235680" y="64764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rot="10786800">
                <a:off x="3234960" y="64774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3" name=""/>
            <p:cNvSpPr/>
            <p:nvPr/>
          </p:nvSpPr>
          <p:spPr>
            <a:xfrm>
              <a:off x="3483000" y="6971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235680" y="6971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483000" y="6724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483000" y="6477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987640" y="6724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987640" y="67240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987640" y="69714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730680" y="6724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1" name=""/>
          <p:cNvGrpSpPr/>
          <p:nvPr/>
        </p:nvGrpSpPr>
        <p:grpSpPr>
          <a:xfrm>
            <a:off x="4266360" y="6400800"/>
            <a:ext cx="740160" cy="744120"/>
            <a:chOff x="4266360" y="6400800"/>
            <a:chExt cx="740160" cy="744120"/>
          </a:xfrm>
        </p:grpSpPr>
        <p:grpSp>
          <p:nvGrpSpPr>
            <p:cNvPr id="2862" name=""/>
            <p:cNvGrpSpPr/>
            <p:nvPr/>
          </p:nvGrpSpPr>
          <p:grpSpPr>
            <a:xfrm>
              <a:off x="4266360" y="6400800"/>
              <a:ext cx="740160" cy="740880"/>
              <a:chOff x="4266360" y="6400800"/>
              <a:chExt cx="740160" cy="740880"/>
            </a:xfrm>
          </p:grpSpPr>
          <p:sp>
            <p:nvSpPr>
              <p:cNvPr id="2863" name=""/>
              <p:cNvSpPr/>
              <p:nvPr/>
            </p:nvSpPr>
            <p:spPr>
              <a:xfrm>
                <a:off x="4513680" y="64008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rot="16186800">
                <a:off x="4512960" y="64015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5" name=""/>
            <p:cNvSpPr/>
            <p:nvPr/>
          </p:nvSpPr>
          <p:spPr>
            <a:xfrm>
              <a:off x="4513320" y="6895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H="1">
              <a:off x="4267080" y="664812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760280" y="6895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H="1">
              <a:off x="4760280" y="689508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4512960" y="64008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760280" y="6400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513320" y="6400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 flipH="1">
              <a:off x="4512960" y="714204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3" name=""/>
          <p:cNvGrpSpPr/>
          <p:nvPr/>
        </p:nvGrpSpPr>
        <p:grpSpPr>
          <a:xfrm>
            <a:off x="7924680" y="6477120"/>
            <a:ext cx="744120" cy="740160"/>
            <a:chOff x="7924680" y="6477120"/>
            <a:chExt cx="744120" cy="740160"/>
          </a:xfrm>
        </p:grpSpPr>
        <p:grpSp>
          <p:nvGrpSpPr>
            <p:cNvPr id="2874" name=""/>
            <p:cNvGrpSpPr/>
            <p:nvPr/>
          </p:nvGrpSpPr>
          <p:grpSpPr>
            <a:xfrm>
              <a:off x="7924680" y="6477120"/>
              <a:ext cx="740880" cy="740160"/>
              <a:chOff x="7924680" y="6477120"/>
              <a:chExt cx="740880" cy="740160"/>
            </a:xfrm>
          </p:grpSpPr>
          <p:sp>
            <p:nvSpPr>
              <p:cNvPr id="2875" name=""/>
              <p:cNvSpPr/>
              <p:nvPr/>
            </p:nvSpPr>
            <p:spPr>
              <a:xfrm rot="16200000">
                <a:off x="8172000" y="64764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rot="10786800">
                <a:off x="8171640" y="64774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7" name=""/>
            <p:cNvSpPr/>
            <p:nvPr/>
          </p:nvSpPr>
          <p:spPr>
            <a:xfrm>
              <a:off x="8418960" y="69703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172000" y="6970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8418960" y="67233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8418960" y="64771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924680" y="67240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924680" y="6723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924680" y="6970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8665920" y="67240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5" name=""/>
          <p:cNvGrpSpPr/>
          <p:nvPr/>
        </p:nvGrpSpPr>
        <p:grpSpPr>
          <a:xfrm>
            <a:off x="8704440" y="6248520"/>
            <a:ext cx="744120" cy="740160"/>
            <a:chOff x="8704440" y="6248520"/>
            <a:chExt cx="744120" cy="740160"/>
          </a:xfrm>
        </p:grpSpPr>
        <p:grpSp>
          <p:nvGrpSpPr>
            <p:cNvPr id="2886" name=""/>
            <p:cNvGrpSpPr/>
            <p:nvPr/>
          </p:nvGrpSpPr>
          <p:grpSpPr>
            <a:xfrm>
              <a:off x="8704440" y="6248520"/>
              <a:ext cx="740880" cy="740160"/>
              <a:chOff x="8704440" y="6248520"/>
              <a:chExt cx="740880" cy="740160"/>
            </a:xfrm>
          </p:grpSpPr>
          <p:sp>
            <p:nvSpPr>
              <p:cNvPr id="2887" name=""/>
              <p:cNvSpPr/>
              <p:nvPr/>
            </p:nvSpPr>
            <p:spPr>
              <a:xfrm rot="16200000">
                <a:off x="8951760" y="62478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rot="10786800">
                <a:off x="8951400" y="62488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9" name=""/>
            <p:cNvSpPr/>
            <p:nvPr/>
          </p:nvSpPr>
          <p:spPr>
            <a:xfrm>
              <a:off x="9198720" y="6741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951760" y="6741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9198720" y="64947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9198720" y="62485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704440" y="64954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704440" y="6494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704440" y="6741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9445680" y="64954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7" name="" descr=""/>
          <p:cNvPicPr/>
          <p:nvPr/>
        </p:nvPicPr>
        <p:blipFill>
          <a:blip r:embed="rId2"/>
          <a:stretch/>
        </p:blipFill>
        <p:spPr>
          <a:xfrm>
            <a:off x="-1371600" y="-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ver dir="d"/>
    <p:sndAc>
      <p:stSnd>
        <p:snd r:embed="rId3" name="clap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2:04:18Z</dcterms:created>
  <dc:creator>Саня</dc:creator>
  <dc:description>Нечего и добавить!</dc:description>
  <dc:language>en-US</dc:language>
  <cp:lastModifiedBy>Саня</cp:lastModifiedBy>
  <dcterms:modified xsi:type="dcterms:W3CDTF">2003-02-25T10:17:15Z</dcterms:modified>
  <cp:revision>6</cp:revision>
  <dc:subject>Faschismus</dc:subject>
  <dc:title>Крутой Screen Saver</dc:title>
</cp:coreProperties>
</file>